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jpeg" ContentType="image/jpeg"/>
  <Override PartName="/ppt/media/image15.wmf" ContentType="image/x-wmf"/>
  <Override PartName="/ppt/media/image14.wmf" ContentType="image/x-wmf"/>
  <Override PartName="/ppt/media/image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F7D7-E6F1-4471-B731-03EB5725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1619-77EA-4A4A-8EFF-5C900E29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79B2-BD95-4C68-B5B6-25CB94D12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362-8B91-46A1-BEC1-F6181A52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D4C-B837-4D8A-9EF6-1F54A1D5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8896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06280" y="541008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598896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406280" y="5649120"/>
            <a:ext cx="13492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5079-97DD-482B-9A0D-C317ADF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9C76-9391-4A53-99C5-D1750ADF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12A1-C25B-4B56-8998-88E1AC586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191120" y="4266720"/>
            <a:ext cx="495288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E15C-E7A8-4ABD-A4C7-C87127B13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E84-869C-47C6-9F1F-A143B0B2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719760" y="564912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676-2AFE-4AEA-ADE2-F2FA5057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719760" y="5410080"/>
            <a:ext cx="204516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0" y="5649120"/>
            <a:ext cx="41911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853B-FBDC-46B1-89ED-576B7DA1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ulle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C29D-E813-44AB-A1E3-BDB890D1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0" y="54864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lcome to RSA Conference Europe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Jim Bidz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A Conference Chairm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alm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palm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Technolog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1905120"/>
            <a:ext cx="58672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ptography has been optimized to fit into smaller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819520"/>
            <a:ext cx="5867280" cy="190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s for using RSA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orithm in small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ion of new certificat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mats by RSA L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standardsnew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Standar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KCS #15 for Smart Cards publish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P specifies RSA RC5 as only mandatory symmetric cipher for clients an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ion of AES fina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ort laws relax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gaining moment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s and technology progr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conferenc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RSA Conference Europe 2000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ve class tr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than 60 tal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+ exhib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spons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 more than 750 attend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91120" y="42667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agend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67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343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sp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cks and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tre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RSA Con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hack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Hacks and Attack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ens arrested for global multi-million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llar Internet fra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oft free hotmail hacked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 million users impa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cker from Hanover convict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publishing TFN program use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Denial-of-Service attac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news agency’s websit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gov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govnews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law on encryption liberaliz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y reduces constraints on mass market cryptograph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ish paper affirms commitment to relax cryptography expo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govnew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- Expor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 relaxes strong crypto export poli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Commons Committee st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edish law allows for export of up to 128 bit symmetric cryp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wireles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reless Internet Takes o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0160" y="5943600"/>
            <a:ext cx="26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Forrester Research, Dec 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409840"/>
            <a:ext cx="7772400" cy="24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third of all Europeans will use the Net through mobile phones in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ne out of 10 Internet leaders in Europe plan to launch mobile Internet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ms are building sites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certnew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2421000"/>
            <a:ext cx="7772400" cy="117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 Commission uses legal framework to guarantee security of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5" name="certnews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certnews2" descr=""/>
            <p:cNvPicPr/>
            <p:nvPr/>
          </p:nvPicPr>
          <p:blipFill>
            <a:blip r:embed="rId3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1" name="certnews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certnews3" descr=""/>
            <p:cNvPicPr/>
            <p:nvPr/>
          </p:nvPicPr>
          <p:blipFill>
            <a:blip r:embed="rId5"/>
            <a:srcRect l="51669" t="26666" r="0" b="0"/>
            <a:stretch/>
          </p:blipFill>
          <p:spPr>
            <a:xfrm>
              <a:off x="4724280" y="1828800"/>
              <a:ext cx="441972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84360" y="2421000"/>
              <a:ext cx="7772400" cy="1171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EU Commission uses legal framework to guarantee security of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4360" y="3352680"/>
              <a:ext cx="7772400" cy="1069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Austria First Chamber of Parliament </a:t>
              </a:r>
              <a:br>
                <a:rPr sz="2800"/>
              </a:b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passed digital signature ac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4360" y="4357800"/>
              <a:ext cx="7772400" cy="1033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inland bill on electronic personal identification car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certnews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certificates broadly adop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nch cabinet approved draft law on electronic sign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1" name="certnews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24" name="certnews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685800" y="1905120"/>
              <a:ext cx="7772400" cy="4114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igital certificates broadly adopt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French cabinet approved draft law on electronic signatur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rish government outlined legislative proposals on electronic signatures, electronic contracts, certification service provi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talian technical rules for digital signatures publish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The Year in Review – Market Trend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8915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gital Certificate and PKI Adoption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69960" y="2386080"/>
          <a:ext cx="2378160" cy="15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386080"/>
                    <a:ext cx="237816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362320" y="3948120"/>
          <a:ext cx="3413160" cy="227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3948120"/>
                    <a:ext cx="34131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3725280" y="380988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15600" y="2147760"/>
            <a:ext cx="686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78360" y="2130480"/>
            <a:ext cx="228600" cy="2286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960" y="5943600"/>
            <a:ext cx="158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Data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53040" y="2057400"/>
            <a:ext cx="1171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ivi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360" y="2435400"/>
            <a:ext cx="228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52680" y="2362320"/>
            <a:ext cx="1032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78360" y="2739960"/>
            <a:ext cx="2286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53400" y="2666880"/>
            <a:ext cx="561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78360" y="3044880"/>
            <a:ext cx="228600" cy="2286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54120" y="2971800"/>
            <a:ext cx="2553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78360" y="3349800"/>
            <a:ext cx="2286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53400" y="3276720"/>
            <a:ext cx="6501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78360" y="3654360"/>
            <a:ext cx="22860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52320" y="3581280"/>
            <a:ext cx="1782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78360" y="3959280"/>
            <a:ext cx="228600" cy="228600"/>
          </a:xfrm>
          <a:prstGeom prst="rect">
            <a:avLst/>
          </a:prstGeom>
          <a:solidFill>
            <a:srgbClr val="d7cdb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52680" y="3886200"/>
            <a:ext cx="1375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20:54:09Z</dcterms:created>
  <dc:creator>Valued Sony Customer</dc:creator>
  <dc:description/>
  <dc:language>en-US</dc:language>
  <cp:lastModifiedBy>Administrator</cp:lastModifiedBy>
  <dcterms:modified xsi:type="dcterms:W3CDTF">2000-04-11T09:39:12Z</dcterms:modified>
  <cp:revision>117</cp:revision>
  <dc:subject/>
  <dc:title>RSA Conference Europe 2000</dc:title>
</cp:coreProperties>
</file>