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6F8-F01D-48ED-B97D-1A094EEC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799-D218-495B-975C-87BD27AA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291-7B21-482E-89F4-76A7EB0D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7B2-6DC0-4CA6-A88D-2D40365E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4C8-A12F-47DE-8DBC-A351C26E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98B-14CD-4E27-8689-264B03B3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D67C-79E5-41D8-8EF5-E9C04D16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22FE-DAD9-4362-82BB-1ACCEF80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B9C2-2927-420E-82BB-1BB221A7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302A-AB7A-447F-BA3D-4497B169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107F-E6C0-4917-A6FA-4FA7B139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687-20E1-48ED-89D9-365A999B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BEDC-53AB-4E71-8A33-9C9B215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7AA7-A1CF-4102-8183-EE1A30E2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CF6E-9250-4D7A-8990-5A5E5C34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C909-63BF-4A63-A291-B6170AA0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BB55-CD08-4BC6-9FFF-5E125044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CA0-223F-4A3C-A393-708E4365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B96-F773-4066-93EA-7872BF22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808-6731-4ED8-99A4-FA56B93B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62F-FD50-4B30-A16A-F3ABA3E8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766-6A0D-49A1-8221-6E3A3808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E21-F1AB-40B3-B014-91BC9B4D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5BA-6B65-45BB-8E45-A4A11F15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Symbol"/>
                <a:ea typeface="Symbol"/>
              </a:rPr>
              <a:t>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American International Group (2000)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Network Security Risks and 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8555-595A-40A3-9E03-E2817196E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" name="AIG" descr=""/>
          <p:cNvPicPr/>
          <p:nvPr/>
        </p:nvPicPr>
        <p:blipFill>
          <a:blip r:embed="rId3"/>
          <a:stretch/>
        </p:blipFill>
        <p:spPr>
          <a:xfrm>
            <a:off x="0" y="0"/>
            <a:ext cx="7714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19C3-F8A2-4D81-B9E4-FABB04F9A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676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itigating the Risks of E-Business: Insurance Initiativ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Tahoma"/>
              </a:rPr>
              <a:t>Presented B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y R. Sagalow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IG Executive Director, eBusiness Corporate Product Develop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Tahoma"/>
              </a:rPr>
              <a:t>For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SA CONFERENCE 200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an Jose, C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uesday, January 18, 200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AIG" descr=""/>
          <p:cNvPicPr/>
          <p:nvPr/>
        </p:nvPicPr>
        <p:blipFill>
          <a:blip r:embed="rId2"/>
          <a:stretch/>
        </p:blipFill>
        <p:spPr>
          <a:xfrm>
            <a:off x="0" y="152280"/>
            <a:ext cx="838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 (part 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ability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GL: covers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bodily injury/tangible property damage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uffered by other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&amp;O: Maybe coverage if you provide professional services to others for a fe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 Li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GL- Sometimes.  (Links, ads not covered. Recent carriers are expressly excluding.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NO.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Role of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sset prote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inancia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tangible asse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pu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ss Prevention Servi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chnological products and servic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itional smoothing/assur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Tahoma"/>
              </a:rPr>
              <a:t>Technology + Insurance = Heightened Trust Environ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Security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fically designed for risks associated with failures of your network or computer security system to prevent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mputer Attacks (unauthorized access/us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mission of a computer virus to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sclosure of client privacy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Security Insurance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7 Basic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yber-extor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(intangible/information) property lo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ss of eReven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inal Reward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blic relations (crisis mgmt)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ability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nial of Service Clai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irus transmis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sclosure of personal or confidential data of your custom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fessional errors and omiss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edia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b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lan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right infrin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ent infrin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 of privacy viola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ber-extor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ring private investigator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ing investigation expen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ing ransom demand (must be reasonab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perty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are these assets worth to you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accounting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trade secrets (may require additional information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customer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competitive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supplier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usiness interruption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business interruption: Revenue generated from on-line transactions ceases due to attack on your syst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pendent business interruption Revenue generated from on-line transactions ceases due to attack on a system of a business you depend up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nded business interrup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twork Security: How big is the problem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risks do you fac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traditional insurance help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day’s New Insurance solution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7 basic risks to cov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ss prevention services to ask f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jor terms to require and avoid!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iminal Reward, Public Rel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inal Reward: $25-50K reward for information leading to the arrest and conviction of a cyber-criminal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sis communications: $25-$50k for public relations/media/crisis communication fees to restore investor or customer confidenc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ss Prevention Servi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y Assessment: Cost effective security assessment conducted by a member of the insurer’s panel.  Partial or total reimbursement sometimes available if you decide to purchase polic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gal analysis: Access to specialized technology law firm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y failures” include attack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ider or outsid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tentional or non-intention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fit motivated or “for fun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rgeted or untargeted vict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rom failures of software, hardware or firmwa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ocial engineer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Claim (beyond just lawsuit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Loss (including punitive damag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information asse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ility to underwrite trade secre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orld-wide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not covered?</a:t>
            </a:r>
            <a:br>
              <a:rPr sz="4400"/>
            </a:b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(not exclusive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ts of God, fire, wind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rrorism, explosions, war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or project plann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ies liabilities, ERISA liabili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ttacks on internet infrastructure itsel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raud (not applicable to computer attacks by employe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ransactional Smoothing: The Future of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 Narrow"/>
              </a:rPr>
              <a:t>E-Business Transaction Ris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dentity of the par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dentity/quality of the go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Ability to pay / Ability to ship-manufa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Actual payment / Actual delive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Damage to go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Security &amp; Reliability of network / infra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ing Out</a:t>
            </a: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focused on management liability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s and officers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PO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&amp;O insurance (brick-and-mortar operatio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ployment Practices (including discrimination/sexual harassment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For More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insurance broker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local AIG offi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y R. Sagalow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IG Executive Director, eBusiness Corporate Product Develop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175 Water Street, NY NY 10038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2-458-2429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y.sagalow@aig.co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wproduc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@aig.co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83% increase in number of computer attack incidents in 1999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CERT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53% of respondents rate overall state of infosecurity at their co. as average or below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Information Security Magazine 1999 Security Survey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47.8% increase in unauthorized access by outsiders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Information Security Magazine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91 breaches resulting in $23M lo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think many people have a false sense of security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chael Vatis,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 of the FBI National Infrastructure Protection Center, on threat of cyberterroris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DUnive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Important is Thi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$1 trillion in revenue by 200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isco Systems Inc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0M in internet users by 200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rain Rauscher Wessel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On-line Shopping Revenue will top US $7B by 2000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rrester Researc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90% of all e-commerce is transacted by just 10% of the world’s e-commerce companies.</a:t>
            </a: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Risks do you fac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perty- loss/theft of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in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asse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-Business interruption lo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ability to others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dia- content related lia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yber-extor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resulting 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nancial damage, damage to reputation, stock drop, loss of important assets/opportunit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perty Polici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med perils: Fire, windstorm etc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: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perty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e Policies?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ed Criminals: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usually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loyees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(“computer fraud” rider adds non-employe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: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perty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 (part 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siness Interruption Polici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med Peril: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ee Property Polic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yber-extortion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not in any standard corporate polic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ometimes found in certain K&amp;R or contaminated goods insur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6:12:37Z</dcterms:created>
  <dc:creator>TSagalow</dc:creator>
  <dc:description/>
  <dc:language>en-US</dc:language>
  <cp:lastModifiedBy>User</cp:lastModifiedBy>
  <cp:lastPrinted>1999-10-22T16:29:03Z</cp:lastPrinted>
  <dcterms:modified xsi:type="dcterms:W3CDTF">2000-01-18T23:48:32Z</dcterms:modified>
  <cp:revision>26</cp:revision>
  <dc:subject/>
  <dc:title>No Slide Title</dc:title>
</cp:coreProperties>
</file>