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5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8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7019925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20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1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2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1C44-B3A7-4702-BAF3-B9CB47C9565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13DA-C32C-4F64-959A-ADC83C2D924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01680" y="701640"/>
            <a:ext cx="4616640" cy="346248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38160" y="4403880"/>
            <a:ext cx="5143680" cy="417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EAD9-4AD3-4BE4-BA0D-D89DCAF089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8FB2-151D-4F64-B908-3247E994908F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ldImg"/>
          </p:nvPr>
        </p:nvSpPr>
        <p:spPr>
          <a:xfrm>
            <a:off x="1195560" y="69516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C8B4-3799-4487-826E-881300D37B1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CCB7-8909-4228-8E5C-C5D79412B2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4629-0C05-47C9-BE77-F697B14A25F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32B4-DDBA-4B86-8663-FB4F8D090890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6AD-40E4-43B5-AEA5-4FDC428208AA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7591B-E626-45DC-804D-65D3CD4F1716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43116-2CD6-4BC1-8957-1090AC416C29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1AEF-4CA3-45A5-8CB4-9A7214629E8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645FF-A982-4DA1-BB21-B2FDA081A5B4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F0E26-4CD5-41D6-8827-696F9168A4B1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3B76-A4E5-43E6-B3C7-FE80016C5D83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B098-69FE-473D-944E-ED97494CAD7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9C139-3FE4-431B-BE75-D4B2484C55B5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57346-E4BE-48C1-ACD6-8BC5149C3008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201680" y="70020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490-3B26-4919-84A1-5B144ABF359C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body"/>
          </p:nvPr>
        </p:nvSpPr>
        <p:spPr>
          <a:xfrm>
            <a:off x="936720" y="4401720"/>
            <a:ext cx="514656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ldImg"/>
          </p:nvPr>
        </p:nvSpPr>
        <p:spPr>
          <a:xfrm>
            <a:off x="1195560" y="698400"/>
            <a:ext cx="4630680" cy="3473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4760"/>
            <a:chOff x="0" y="0"/>
            <a:chExt cx="9144000" cy="6854760"/>
          </a:xfrm>
        </p:grpSpPr>
        <p:pic>
          <p:nvPicPr>
            <p:cNvPr id="1" name="header-slide-wholepage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4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RSASecurity_logo-slides" descr=""/>
            <p:cNvPicPr/>
            <p:nvPr/>
          </p:nvPicPr>
          <p:blipFill>
            <a:blip r:embed="rId3"/>
            <a:stretch/>
          </p:blipFill>
          <p:spPr>
            <a:xfrm>
              <a:off x="228600" y="6006960"/>
              <a:ext cx="858960" cy="6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1440"/>
            <a:ext cx="9144000" cy="6855120"/>
            <a:chOff x="0" y="1440"/>
            <a:chExt cx="9144000" cy="6855120"/>
          </a:xfrm>
        </p:grpSpPr>
        <p:pic>
          <p:nvPicPr>
            <p:cNvPr id="42" name="header-title-wholepage" descr=""/>
            <p:cNvPicPr/>
            <p:nvPr/>
          </p:nvPicPr>
          <p:blipFill>
            <a:blip r:embed="rId2"/>
            <a:stretch/>
          </p:blipFill>
          <p:spPr>
            <a:xfrm>
              <a:off x="0" y="1440"/>
              <a:ext cx="9144000" cy="685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" descr=""/>
            <p:cNvPicPr/>
            <p:nvPr/>
          </p:nvPicPr>
          <p:blipFill>
            <a:blip r:embed="rId3"/>
            <a:stretch/>
          </p:blipFill>
          <p:spPr>
            <a:xfrm>
              <a:off x="403200" y="5872320"/>
              <a:ext cx="1047600" cy="757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5.wmf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5280" y="228564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1c1c1c"/>
                </a:solidFill>
                <a:latin typeface="Arial"/>
              </a:rPr>
              <a:t>Crypto 301: Practical Implementations of Cryptography</a:t>
            </a:r>
            <a:endParaRPr b="1" lang="en-US" sz="32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295280" y="64764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Matthews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rector, Product Marketing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Keon%20keys" descr=""/>
          <p:cNvPicPr/>
          <p:nvPr/>
        </p:nvPicPr>
        <p:blipFill>
          <a:blip r:embed="rId1"/>
          <a:stretch/>
        </p:blipFill>
        <p:spPr>
          <a:xfrm>
            <a:off x="5230800" y="4229280"/>
            <a:ext cx="3532320" cy="2315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1371600"/>
            <a:ext cx="1447920" cy="548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7560" y="228240"/>
            <a:ext cx="662940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DS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246640" y="501804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170320" y="4923000"/>
            <a:ext cx="11541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056200" y="4827600"/>
            <a:ext cx="1154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ertificat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037560" y="6127920"/>
            <a:ext cx="823320" cy="577440"/>
            <a:chOff x="6037560" y="6127920"/>
            <a:chExt cx="823320" cy="577440"/>
          </a:xfrm>
        </p:grpSpPr>
        <p:sp>
          <p:nvSpPr>
            <p:cNvPr id="177" name=""/>
            <p:cNvSpPr/>
            <p:nvPr/>
          </p:nvSpPr>
          <p:spPr>
            <a:xfrm>
              <a:off x="6037560" y="6451920"/>
              <a:ext cx="823320" cy="25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7480" rIns="87480" tIns="42840" bIns="42840" anchor="t">
              <a:spAutoFit/>
            </a:bodyPr>
            <a:p>
              <a:pPr>
                <a:tabLst>
                  <a:tab algn="l" pos="0"/>
                  <a:tab algn="l" pos="803160"/>
                  <a:tab algn="l" pos="1606680"/>
                  <a:tab algn="l" pos="2409840"/>
                  <a:tab algn="l" pos="3213000"/>
                  <a:tab algn="l" pos="4016520"/>
                  <a:tab algn="l" pos="4819680"/>
                  <a:tab algn="l" pos="5622840"/>
                  <a:tab algn="l" pos="6426360"/>
                  <a:tab algn="l" pos="7229520"/>
                  <a:tab algn="l" pos="8032680"/>
                  <a:tab algn="l" pos="8836200"/>
                  <a:tab algn="l" pos="9639360"/>
                  <a:tab algn="l" pos="1044252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Data st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35560" y="624384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235560" y="6127920"/>
              <a:ext cx="451080" cy="2192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213120" y="3632040"/>
            <a:ext cx="1995840" cy="1008360"/>
            <a:chOff x="213120" y="3632040"/>
            <a:chExt cx="1995840" cy="1008360"/>
          </a:xfrm>
        </p:grpSpPr>
        <p:sp>
          <p:nvSpPr>
            <p:cNvPr id="181" name=""/>
            <p:cNvSpPr/>
            <p:nvPr/>
          </p:nvSpPr>
          <p:spPr>
            <a:xfrm>
              <a:off x="213120" y="3632040"/>
              <a:ext cx="115776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Comm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13120" y="394164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13480" y="4251240"/>
              <a:ext cx="1131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276840" y="5140440"/>
            <a:ext cx="1779480" cy="698760"/>
            <a:chOff x="276840" y="5140440"/>
            <a:chExt cx="1779480" cy="698760"/>
          </a:xfrm>
        </p:grpSpPr>
        <p:sp>
          <p:nvSpPr>
            <p:cNvPr id="185" name=""/>
            <p:cNvSpPr/>
            <p:nvPr/>
          </p:nvSpPr>
          <p:spPr>
            <a:xfrm>
              <a:off x="276840" y="5140440"/>
              <a:ext cx="17794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Add-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76840" y="5450040"/>
              <a:ext cx="1093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Modul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2629080" y="5018040"/>
            <a:ext cx="118080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29000" y="4923000"/>
            <a:ext cx="12049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324160" y="4827600"/>
            <a:ext cx="133344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rypto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4360" y="5018040"/>
            <a:ext cx="11811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55880" y="4923000"/>
            <a:ext cx="12733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733920" y="4827600"/>
            <a:ext cx="121896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ust Model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38280" y="3160800"/>
            <a:ext cx="6270840" cy="2617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SSM Security A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438280" y="3435480"/>
            <a:ext cx="6270840" cy="1014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51240" y="4471920"/>
            <a:ext cx="113004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565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13720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841920" y="4471920"/>
            <a:ext cx="1035000" cy="19548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27800" y="5018040"/>
            <a:ext cx="1192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18360" y="4923000"/>
            <a:ext cx="123012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99ffcc"/>
          </a:solidFill>
          <a:ln w="1260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37360" y="4827600"/>
            <a:ext cx="12301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00cc66"/>
          </a:solidFill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Stor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br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805280"/>
            <a:ext cx="70120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4960" y="4457880"/>
            <a:ext cx="1035000" cy="1951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27960" y="3886200"/>
            <a:ext cx="1122480" cy="474840"/>
          </a:xfrm>
          <a:prstGeom prst="rect">
            <a:avLst/>
          </a:prstGeom>
          <a:solidFill>
            <a:srgbClr val="a7a7a7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lective</a:t>
            </a:r>
            <a:br>
              <a:rPr sz="1500"/>
            </a:b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odule Mgr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6553080" y="5711760"/>
            <a:ext cx="378000" cy="384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10480" y="503388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0120" y="4938840"/>
            <a:ext cx="1272960" cy="93960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c0c0c0"/>
          </a:solidFill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543800" y="4843440"/>
            <a:ext cx="1273320" cy="939960"/>
          </a:xfrm>
          <a:prstGeom prst="upArrow">
            <a:avLst>
              <a:gd name="adj1" fmla="val 75009"/>
              <a:gd name="adj2" fmla="val 49995"/>
            </a:avLst>
          </a:prstGeom>
          <a:solidFill>
            <a:srgbClr val="a7a7a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64320" y="3211560"/>
            <a:ext cx="1035000" cy="182520"/>
          </a:xfrm>
          <a:prstGeom prst="rect">
            <a:avLst/>
          </a:prstGeom>
          <a:solidFill>
            <a:srgbClr val="ffdc5b"/>
          </a:solidFill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-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212400" y="2224080"/>
            <a:ext cx="1996560" cy="698760"/>
            <a:chOff x="212400" y="2224080"/>
            <a:chExt cx="1996560" cy="698760"/>
          </a:xfrm>
        </p:grpSpPr>
        <p:sp>
          <p:nvSpPr>
            <p:cNvPr id="211" name=""/>
            <p:cNvSpPr/>
            <p:nvPr/>
          </p:nvSpPr>
          <p:spPr>
            <a:xfrm>
              <a:off x="212400" y="2224080"/>
              <a:ext cx="99468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yste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13120" y="2533680"/>
              <a:ext cx="1995840" cy="3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0" i="1" lang="en-US" sz="1800" spc="-1" strike="noStrike">
                  <a:solidFill>
                    <a:srgbClr val="988035"/>
                  </a:solidFill>
                  <a:latin typeface="Arial"/>
                </a:rPr>
                <a:t>Security Servic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2521080" y="2336760"/>
            <a:ext cx="5778360" cy="558720"/>
          </a:xfrm>
          <a:prstGeom prst="rect">
            <a:avLst/>
          </a:prstGeom>
          <a:solidFill>
            <a:srgbClr val="ccecff"/>
          </a:soli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63640" y="2139840"/>
            <a:ext cx="71024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63640" y="2997360"/>
            <a:ext cx="7132680" cy="6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378400" y="2038320"/>
            <a:ext cx="2757960" cy="628560"/>
            <a:chOff x="5378400" y="2038320"/>
            <a:chExt cx="2757960" cy="628560"/>
          </a:xfrm>
        </p:grpSpPr>
        <p:sp>
          <p:nvSpPr>
            <p:cNvPr id="217" name=""/>
            <p:cNvSpPr/>
            <p:nvPr/>
          </p:nvSpPr>
          <p:spPr>
            <a:xfrm>
              <a:off x="6730920" y="2038320"/>
              <a:ext cx="231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78400" y="2323800"/>
              <a:ext cx="27579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nguage Interface Adapter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2937600" y="2292480"/>
            <a:ext cx="1806840" cy="628560"/>
            <a:chOff x="2937600" y="2292480"/>
            <a:chExt cx="1806840" cy="628560"/>
          </a:xfrm>
        </p:grpSpPr>
        <p:sp>
          <p:nvSpPr>
            <p:cNvPr id="220" name=""/>
            <p:cNvSpPr/>
            <p:nvPr/>
          </p:nvSpPr>
          <p:spPr>
            <a:xfrm>
              <a:off x="2937600" y="2292480"/>
              <a:ext cx="180684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Layered Servic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41560" y="2577960"/>
              <a:ext cx="740160" cy="3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5920" rIns="115920" tIns="57240" bIns="57240" anchor="t">
              <a:spAutoFit/>
            </a:bodyPr>
            <a:p>
              <a:pPr>
                <a:tabLst>
                  <a:tab algn="l" pos="0"/>
                  <a:tab algn="l" pos="1428840"/>
                  <a:tab algn="l" pos="2857680"/>
                  <a:tab algn="l" pos="4286160"/>
                  <a:tab algn="l" pos="5715000"/>
                  <a:tab algn="l" pos="7143840"/>
                  <a:tab algn="l" pos="8572680"/>
                  <a:tab algn="l" pos="100011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Tool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4356000" y="137160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++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14600" y="1765440"/>
            <a:ext cx="220176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C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4320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tegrity Servic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105520" y="3809880"/>
            <a:ext cx="1969920" cy="304920"/>
          </a:xfrm>
          <a:prstGeom prst="ellipse">
            <a:avLst/>
          </a:prstGeom>
          <a:solidFill>
            <a:srgbClr val="ffc3c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curity Contex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697520" y="4952880"/>
            <a:ext cx="92556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ew 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ervic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.g. Ke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ecove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9920" y="1752480"/>
            <a:ext cx="21970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15920" rIns="115920" tIns="57240" bIns="57240" anchor="ctr">
            <a:noAutofit/>
          </a:bodyPr>
          <a:p>
            <a:pPr algn="ctr">
              <a:tabLst>
                <a:tab algn="l" pos="0"/>
                <a:tab algn="l" pos="1428840"/>
                <a:tab algn="l" pos="2857680"/>
                <a:tab algn="l" pos="4286160"/>
                <a:tab algn="l" pos="5715000"/>
                <a:tab algn="l" pos="7143840"/>
                <a:tab algn="l" pos="8572680"/>
                <a:tab algn="l" pos="100011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plications in Native Jav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718320" y="2209680"/>
            <a:ext cx="1663560" cy="139680"/>
          </a:xfrm>
          <a:prstGeom prst="rect">
            <a:avLst/>
          </a:prstGeom>
          <a:solidFill>
            <a:srgbClr val="cbcbcb"/>
          </a:solidFill>
          <a:ln w="12600">
            <a:solidFill>
              <a:srgbClr val="cbcbc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hod Wrap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Java Security Mode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200240" y="1714680"/>
            <a:ext cx="5486400" cy="61164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va Security AP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.security, java.security.Interfac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200240" y="2476440"/>
            <a:ext cx="3581280" cy="85500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gine 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MessageDigest, .Signature, .KeyPair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00240" y="3467160"/>
            <a:ext cx="2286000" cy="1160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rs (Signatures, No Encryp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N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86440" y="2476440"/>
            <a:ext cx="3747960" cy="85500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CE Classes/Interfa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ymmetricCipher,SymmetricCiph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edbackCipher, SecretKey, Pad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00240" y="4762440"/>
            <a:ext cx="7619760" cy="580680"/>
          </a:xfrm>
          <a:prstGeom prst="rect">
            <a:avLst/>
          </a:prstGeom>
          <a:noFill/>
          <a:ln cap="rnd" w="9360">
            <a:solidFill>
              <a:srgbClr val="96969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ypto Providers (Signatures and Encryp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SAFE Crypto-J, Oth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105000" y="3238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095720" y="323856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515440" y="323856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for SSL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9" name="SSL-J%20cylinders" descr=""/>
          <p:cNvPicPr/>
          <p:nvPr/>
        </p:nvPicPr>
        <p:blipFill>
          <a:blip r:embed="rId1"/>
          <a:stretch/>
        </p:blipFill>
        <p:spPr>
          <a:xfrm>
            <a:off x="2438280" y="1681200"/>
            <a:ext cx="4891320" cy="4102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A Crypto Provider Exampl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CryptoJ%20diagram" descr=""/>
          <p:cNvPicPr/>
          <p:nvPr/>
        </p:nvPicPr>
        <p:blipFill>
          <a:blip r:embed="rId1"/>
          <a:stretch/>
        </p:blipFill>
        <p:spPr>
          <a:xfrm>
            <a:off x="2049480" y="1698480"/>
            <a:ext cx="5840280" cy="3421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1716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Functional Layers  for PKI-Enabling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3" name="CertC%20cylinders_text" descr=""/>
          <p:cNvPicPr/>
          <p:nvPr/>
        </p:nvPicPr>
        <p:blipFill>
          <a:blip r:embed="rId1"/>
          <a:srcRect l="0" t="0" r="0" b="6060"/>
          <a:stretch/>
        </p:blipFill>
        <p:spPr>
          <a:xfrm>
            <a:off x="1657440" y="1762200"/>
            <a:ext cx="645804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26676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ask #1: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me Banking Client/Serv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5977080" y="2392200"/>
            <a:ext cx="1411200" cy="9511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2286000" y="3955680"/>
            <a:ext cx="1871640" cy="47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3662280" y="2610000"/>
          <a:ext cx="3076560" cy="203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62280" y="2610000"/>
                    <a:ext cx="3076560" cy="20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0" name=""/>
          <p:cNvSpPr/>
          <p:nvPr/>
        </p:nvSpPr>
        <p:spPr>
          <a:xfrm>
            <a:off x="4305240" y="3433680"/>
            <a:ext cx="1675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015320" y="1833480"/>
          <a:ext cx="1038240" cy="1038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5320" y="183348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806520" y="2948040"/>
            <a:ext cx="1430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468440" y="3902040"/>
          <a:ext cx="1038240" cy="1038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68440" y="3902040"/>
                    <a:ext cx="10382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1536840" y="4965840"/>
          <a:ext cx="860400" cy="98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36840" y="4965840"/>
                    <a:ext cx="860400" cy="98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"/>
          <p:cNvSpPr/>
          <p:nvPr/>
        </p:nvSpPr>
        <p:spPr>
          <a:xfrm>
            <a:off x="1058040" y="5992920"/>
            <a:ext cx="2067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k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949480" y="3208320"/>
            <a:ext cx="33480" cy="816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SL in Jav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SSL-J%20pipes" descr=""/>
          <p:cNvPicPr/>
          <p:nvPr/>
        </p:nvPicPr>
        <p:blipFill>
          <a:blip r:embed="rId1"/>
          <a:stretch/>
        </p:blipFill>
        <p:spPr>
          <a:xfrm>
            <a:off x="1838160" y="2181240"/>
            <a:ext cx="5315040" cy="34480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2858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00080" y="177120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Link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Authentication Based on Account #’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Integ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oderate Amount of Traffic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lectronic Banking Application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Key Exchange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Diffie-Hellma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Symmetric Encryption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ssage Diges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SHA-1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1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Clear understanding of the need for security…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...But no security architecture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SL-J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ipherSuites (new DH_With_3DES_EDE_CBC_SHA()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CipherSuite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Params.setCertificateAndKey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SSLSocket.getPeerCertificateChain();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initiate an SSL session, use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getInputStream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Courier New"/>
              </a:rPr>
              <a:t>To encrypt and decrypt, use write() and read(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Groupwa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Web Browser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Internet Firewal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Medical Record Securit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sk #2: Secur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Cli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30040" y="1589040"/>
            <a:ext cx="8674200" cy="50547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277" name=""/>
          <p:cNvSpPr/>
          <p:nvPr/>
        </p:nvSpPr>
        <p:spPr>
          <a:xfrm>
            <a:off x="2505240" y="2311560"/>
            <a:ext cx="336240" cy="18907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35200" y="1739880"/>
            <a:ext cx="761760" cy="398520"/>
          </a:xfrm>
          <a:prstGeom prst="ellipse">
            <a:avLst/>
          </a:prstGeom>
          <a:noFill/>
          <a:ln w="5076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412920" y="1082520"/>
            <a:ext cx="8218440" cy="539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1400" y="1430280"/>
            <a:ext cx="165420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ail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68080" y="3672000"/>
            <a:ext cx="1914840" cy="3974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r Datab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541680" y="1258920"/>
            <a:ext cx="2217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352920" y="1258920"/>
            <a:ext cx="2288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format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693880" y="389556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3859560" y="3894120"/>
            <a:ext cx="1495080" cy="822600"/>
            <a:chOff x="3859560" y="3894120"/>
            <a:chExt cx="1495080" cy="822600"/>
          </a:xfrm>
        </p:grpSpPr>
        <p:sp>
          <p:nvSpPr>
            <p:cNvPr id="286" name=""/>
            <p:cNvSpPr/>
            <p:nvPr/>
          </p:nvSpPr>
          <p:spPr>
            <a:xfrm>
              <a:off x="3919680" y="3902040"/>
              <a:ext cx="1434960" cy="74916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59560" y="3894120"/>
              <a:ext cx="1364760" cy="82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ed@rsa.com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5h2d1fa54</a:t>
              </a:r>
              <a:br>
                <a:rPr sz="1600"/>
              </a:br>
              <a:r>
                <a:rPr b="0" lang="en-US" sz="1600" spc="-1" strike="noStrike">
                  <a:solidFill>
                    <a:srgbClr val="969696"/>
                  </a:solidFill>
                  <a:latin typeface="Palatino"/>
                </a:rPr>
                <a:t>bc732a3df..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"/>
          <p:cNvSpPr/>
          <p:nvPr/>
        </p:nvSpPr>
        <p:spPr>
          <a:xfrm>
            <a:off x="3699360" y="2935440"/>
            <a:ext cx="194544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Address Info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Name, certificate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public key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29052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462720" y="3463920"/>
            <a:ext cx="1844640" cy="702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/MIME-C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418520" y="4181400"/>
            <a:ext cx="0" cy="4572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6973920" y="5051520"/>
            <a:ext cx="888840" cy="1117440"/>
            <a:chOff x="6973920" y="5051520"/>
            <a:chExt cx="888840" cy="1117440"/>
          </a:xfrm>
        </p:grpSpPr>
        <p:grpSp>
          <p:nvGrpSpPr>
            <p:cNvPr id="293" name=""/>
            <p:cNvGrpSpPr/>
            <p:nvPr/>
          </p:nvGrpSpPr>
          <p:grpSpPr>
            <a:xfrm>
              <a:off x="7043760" y="5121360"/>
              <a:ext cx="749160" cy="977760"/>
              <a:chOff x="7043760" y="5121360"/>
              <a:chExt cx="749160" cy="977760"/>
            </a:xfrm>
          </p:grpSpPr>
          <p:sp>
            <p:nvSpPr>
              <p:cNvPr id="294" name=""/>
              <p:cNvSpPr/>
              <p:nvPr/>
            </p:nvSpPr>
            <p:spPr>
              <a:xfrm>
                <a:off x="7043760" y="5121360"/>
                <a:ext cx="749160" cy="97776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113600" y="53434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113600" y="54957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113600" y="56484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7113600" y="58006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113600" y="52671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113600" y="54198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13600" y="55720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13600" y="57243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13600" y="587700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113600" y="595296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13600" y="6029280"/>
                <a:ext cx="60948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6973920" y="5051520"/>
              <a:ext cx="888840" cy="1117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6469920" y="4640400"/>
            <a:ext cx="1870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IME tag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352320" y="4925880"/>
            <a:ext cx="26949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ure Mail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849840" y="5337000"/>
            <a:ext cx="1346040" cy="812880"/>
            <a:chOff x="3849840" y="5337000"/>
            <a:chExt cx="1346040" cy="812880"/>
          </a:xfrm>
        </p:grpSpPr>
        <p:sp>
          <p:nvSpPr>
            <p:cNvPr id="310" name=""/>
            <p:cNvSpPr/>
            <p:nvPr/>
          </p:nvSpPr>
          <p:spPr>
            <a:xfrm>
              <a:off x="3919680" y="5406840"/>
              <a:ext cx="1206360" cy="6732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49840" y="5337000"/>
              <a:ext cx="1346040" cy="812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13200" y="5400720"/>
              <a:ext cx="60948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4522680" y="5400720"/>
              <a:ext cx="609840" cy="304560"/>
            </a:xfrm>
            <a:prstGeom prst="line">
              <a:avLst/>
            </a:prstGeom>
            <a:ln w="507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9128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40654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42177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43700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5226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467496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827240" y="5400720"/>
              <a:ext cx="15228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4979880" y="5400720"/>
              <a:ext cx="152640" cy="68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693880" y="168588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>
            <a:off x="2693880" y="541980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5894280" y="540072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70960" y="4751280"/>
            <a:ext cx="2224080" cy="112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ssage out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(Transport decision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are independent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Palatino"/>
              </a:rPr>
              <a:t>SD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4224240" y="1844640"/>
            <a:ext cx="673200" cy="825480"/>
            <a:chOff x="4224240" y="1844640"/>
            <a:chExt cx="673200" cy="825480"/>
          </a:xfrm>
        </p:grpSpPr>
        <p:sp>
          <p:nvSpPr>
            <p:cNvPr id="327" name=""/>
            <p:cNvSpPr/>
            <p:nvPr/>
          </p:nvSpPr>
          <p:spPr>
            <a:xfrm>
              <a:off x="4224240" y="1844640"/>
              <a:ext cx="673200" cy="82548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286160" y="20494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86160" y="19735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286160" y="21258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86160" y="22021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6160" y="22780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86160" y="23544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286160" y="243072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286160" y="250668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86160" y="2583000"/>
              <a:ext cx="54936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973920" y="1774800"/>
            <a:ext cx="812880" cy="965160"/>
            <a:chOff x="6973920" y="1774800"/>
            <a:chExt cx="812880" cy="965160"/>
          </a:xfrm>
        </p:grpSpPr>
        <p:sp>
          <p:nvSpPr>
            <p:cNvPr id="338" name=""/>
            <p:cNvSpPr/>
            <p:nvPr/>
          </p:nvSpPr>
          <p:spPr>
            <a:xfrm>
              <a:off x="6973920" y="1774800"/>
              <a:ext cx="812880" cy="965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043760" y="1844280"/>
              <a:ext cx="673200" cy="825120"/>
              <a:chOff x="7043760" y="1844280"/>
              <a:chExt cx="673200" cy="825120"/>
            </a:xfrm>
          </p:grpSpPr>
          <p:sp>
            <p:nvSpPr>
              <p:cNvPr id="340" name=""/>
              <p:cNvSpPr/>
              <p:nvPr/>
            </p:nvSpPr>
            <p:spPr>
              <a:xfrm>
                <a:off x="7043760" y="1844280"/>
                <a:ext cx="673200" cy="825120"/>
              </a:xfrm>
              <a:prstGeom prst="rect">
                <a:avLst/>
              </a:prstGeom>
              <a:noFill/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105680" y="20487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105680" y="19728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105680" y="21250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7105680" y="22014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7105680" y="22773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105680" y="23536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105680" y="243000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105680" y="250596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105680" y="2582280"/>
                <a:ext cx="549360" cy="0"/>
              </a:xfrm>
              <a:prstGeom prst="line">
                <a:avLst/>
              </a:prstGeom>
              <a:ln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"/>
          <p:cNvSpPr/>
          <p:nvPr/>
        </p:nvSpPr>
        <p:spPr>
          <a:xfrm>
            <a:off x="5818320" y="168588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/MIME E-Mail Environ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90360" y="19044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Need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Envelop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Chai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 Reques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Expor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99600" y="22860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/MIME E-mail Client: Construct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47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essage Format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PKCS #7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ertificate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X.509 v3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lgorithms </a:t>
            </a:r>
            <a:r>
              <a:rPr b="1" lang="en-US" sz="2400" spc="-1" strike="noStrike">
                <a:solidFill>
                  <a:srgbClr val="6666ff"/>
                </a:solidFill>
                <a:latin typeface="Arial"/>
              </a:rPr>
              <a:t>RSA, SHA-1, RC2, Triple-D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07604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SAFE S/MIME-C API Call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EncryptAndSig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mtMsg_DecryptAndVerify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so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Cert_EnumCert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24"/>
              </a:spcBef>
              <a:buClr>
                <a:srgbClr val="5f5f5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mtAddress_AttachCertificat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42640" y="20952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ther Application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DI Over Interne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Downloading Secure Objec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Executable Signing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9a05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Arial"/>
              </a:rPr>
              <a:t>_____________________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4654440" y="324000"/>
            <a:ext cx="1959120" cy="14763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17080" y="-360"/>
            <a:ext cx="7759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ink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61800" y="1987560"/>
            <a:ext cx="8515440" cy="41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Presentation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www.rsaconference.com/presentations/RSA00-Crypto301.ppt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veloping Secure Application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developers/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im Matthews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im@rsasecurity.com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roblem #2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Rough security architecture design...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c1c1c"/>
              </a:solidFill>
              <a:latin typeface="Arial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…</a:t>
            </a:r>
            <a:r>
              <a:rPr b="0" i="1" lang="en-US" sz="3600" spc="-1" strike="noStrike">
                <a:solidFill>
                  <a:srgbClr val="1c1c1c"/>
                </a:solidFill>
                <a:latin typeface="Arial"/>
              </a:rPr>
              <a:t>No detailed implementation path</a:t>
            </a:r>
            <a:endParaRPr b="1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6864480" y="247680"/>
            <a:ext cx="1958760" cy="147636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04920" y="1220760"/>
            <a:ext cx="8381880" cy="5170680"/>
            <a:chOff x="304920" y="1220760"/>
            <a:chExt cx="8381880" cy="5170680"/>
          </a:xfrm>
        </p:grpSpPr>
        <p:sp>
          <p:nvSpPr>
            <p:cNvPr id="97" name=""/>
            <p:cNvSpPr/>
            <p:nvPr/>
          </p:nvSpPr>
          <p:spPr>
            <a:xfrm>
              <a:off x="890640" y="1220760"/>
              <a:ext cx="7796160" cy="5170680"/>
            </a:xfrm>
            <a:prstGeom prst="roundRect">
              <a:avLst>
                <a:gd name="adj" fmla="val 12495"/>
              </a:avLst>
            </a:prstGeom>
            <a:solidFill>
              <a:srgbClr val="004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90640" y="1351080"/>
              <a:ext cx="7710480" cy="4952880"/>
            </a:xfrm>
            <a:prstGeom prst="roundRect">
              <a:avLst>
                <a:gd name="adj" fmla="val 12495"/>
              </a:avLst>
            </a:prstGeom>
            <a:solidFill>
              <a:srgbClr val="216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92080" y="1349280"/>
              <a:ext cx="268560" cy="4948200"/>
            </a:xfrm>
            <a:custGeom>
              <a:avLst/>
              <a:gdLst/>
              <a:ahLst/>
              <a:rect l="l" t="t" r="r" b="b"/>
              <a:pathLst>
                <a:path w="169" h="3117">
                  <a:moveTo>
                    <a:pt x="168" y="0"/>
                  </a:moveTo>
                  <a:lnTo>
                    <a:pt x="103" y="14"/>
                  </a:lnTo>
                  <a:lnTo>
                    <a:pt x="49" y="48"/>
                  </a:lnTo>
                  <a:lnTo>
                    <a:pt x="12" y="98"/>
                  </a:lnTo>
                  <a:lnTo>
                    <a:pt x="0" y="156"/>
                  </a:lnTo>
                  <a:lnTo>
                    <a:pt x="0" y="2959"/>
                  </a:lnTo>
                  <a:lnTo>
                    <a:pt x="12" y="3019"/>
                  </a:lnTo>
                  <a:lnTo>
                    <a:pt x="49" y="3070"/>
                  </a:lnTo>
                  <a:lnTo>
                    <a:pt x="103" y="3103"/>
                  </a:lnTo>
                  <a:lnTo>
                    <a:pt x="168" y="3116"/>
                  </a:lnTo>
                  <a:lnTo>
                    <a:pt x="82" y="2979"/>
                  </a:lnTo>
                  <a:lnTo>
                    <a:pt x="82" y="115"/>
                  </a:lnTo>
                  <a:lnTo>
                    <a:pt x="168" y="0"/>
                  </a:lnTo>
                </a:path>
              </a:pathLst>
            </a:custGeom>
            <a:solidFill>
              <a:srgbClr val="80c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98760" y="1666800"/>
              <a:ext cx="6467400" cy="432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4560" y="2946240"/>
              <a:ext cx="906480" cy="1744920"/>
            </a:xfrm>
            <a:custGeom>
              <a:avLst/>
              <a:gdLst/>
              <a:ahLst/>
              <a:rect l="l" t="t" r="r" b="b"/>
              <a:pathLst>
                <a:path w="571" h="1099">
                  <a:moveTo>
                    <a:pt x="0" y="367"/>
                  </a:moveTo>
                  <a:lnTo>
                    <a:pt x="10" y="297"/>
                  </a:lnTo>
                  <a:lnTo>
                    <a:pt x="44" y="230"/>
                  </a:lnTo>
                  <a:lnTo>
                    <a:pt x="90" y="170"/>
                  </a:lnTo>
                  <a:lnTo>
                    <a:pt x="150" y="115"/>
                  </a:lnTo>
                  <a:lnTo>
                    <a:pt x="212" y="69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9"/>
                  </a:lnTo>
                  <a:lnTo>
                    <a:pt x="570" y="160"/>
                  </a:lnTo>
                  <a:lnTo>
                    <a:pt x="570" y="937"/>
                  </a:lnTo>
                  <a:lnTo>
                    <a:pt x="564" y="968"/>
                  </a:lnTo>
                  <a:lnTo>
                    <a:pt x="557" y="997"/>
                  </a:lnTo>
                  <a:lnTo>
                    <a:pt x="520" y="1052"/>
                  </a:lnTo>
                  <a:lnTo>
                    <a:pt x="461" y="1083"/>
                  </a:lnTo>
                  <a:lnTo>
                    <a:pt x="432" y="1093"/>
                  </a:lnTo>
                  <a:lnTo>
                    <a:pt x="396" y="1098"/>
                  </a:lnTo>
                  <a:lnTo>
                    <a:pt x="342" y="1088"/>
                  </a:lnTo>
                  <a:lnTo>
                    <a:pt x="277" y="1061"/>
                  </a:lnTo>
                  <a:lnTo>
                    <a:pt x="212" y="1023"/>
                  </a:lnTo>
                  <a:lnTo>
                    <a:pt x="150" y="968"/>
                  </a:lnTo>
                  <a:lnTo>
                    <a:pt x="90" y="908"/>
                  </a:lnTo>
                  <a:lnTo>
                    <a:pt x="44" y="845"/>
                  </a:lnTo>
                  <a:lnTo>
                    <a:pt x="10" y="771"/>
                  </a:lnTo>
                  <a:lnTo>
                    <a:pt x="0" y="701"/>
                  </a:lnTo>
                  <a:lnTo>
                    <a:pt x="0" y="367"/>
                  </a:lnTo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4560" y="2962440"/>
              <a:ext cx="906480" cy="1706400"/>
            </a:xfrm>
            <a:custGeom>
              <a:avLst/>
              <a:gdLst/>
              <a:ahLst/>
              <a:rect l="l" t="t" r="r" b="b"/>
              <a:pathLst>
                <a:path w="571" h="1075">
                  <a:moveTo>
                    <a:pt x="0" y="362"/>
                  </a:moveTo>
                  <a:lnTo>
                    <a:pt x="10" y="293"/>
                  </a:lnTo>
                  <a:lnTo>
                    <a:pt x="44" y="223"/>
                  </a:lnTo>
                  <a:lnTo>
                    <a:pt x="90" y="165"/>
                  </a:lnTo>
                  <a:lnTo>
                    <a:pt x="150" y="110"/>
                  </a:lnTo>
                  <a:lnTo>
                    <a:pt x="212" y="64"/>
                  </a:lnTo>
                  <a:lnTo>
                    <a:pt x="277" y="31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917"/>
                  </a:lnTo>
                  <a:lnTo>
                    <a:pt x="564" y="949"/>
                  </a:lnTo>
                  <a:lnTo>
                    <a:pt x="557" y="977"/>
                  </a:lnTo>
                  <a:lnTo>
                    <a:pt x="520" y="1028"/>
                  </a:lnTo>
                  <a:lnTo>
                    <a:pt x="461" y="1059"/>
                  </a:lnTo>
                  <a:lnTo>
                    <a:pt x="396" y="1074"/>
                  </a:lnTo>
                  <a:lnTo>
                    <a:pt x="342" y="1064"/>
                  </a:lnTo>
                  <a:lnTo>
                    <a:pt x="277" y="1042"/>
                  </a:lnTo>
                  <a:lnTo>
                    <a:pt x="212" y="1001"/>
                  </a:lnTo>
                  <a:lnTo>
                    <a:pt x="150" y="949"/>
                  </a:lnTo>
                  <a:lnTo>
                    <a:pt x="90" y="896"/>
                  </a:lnTo>
                  <a:lnTo>
                    <a:pt x="44" y="826"/>
                  </a:lnTo>
                  <a:lnTo>
                    <a:pt x="10" y="756"/>
                  </a:lnTo>
                  <a:lnTo>
                    <a:pt x="0" y="689"/>
                  </a:lnTo>
                  <a:lnTo>
                    <a:pt x="0" y="362"/>
                  </a:lnTo>
                </a:path>
              </a:pathLst>
            </a:cu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4560" y="2978280"/>
              <a:ext cx="906480" cy="1674720"/>
            </a:xfrm>
            <a:custGeom>
              <a:avLst/>
              <a:gdLst/>
              <a:ahLst/>
              <a:rect l="l" t="t" r="r" b="b"/>
              <a:pathLst>
                <a:path w="571" h="1055">
                  <a:moveTo>
                    <a:pt x="0" y="352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60"/>
                  </a:lnTo>
                  <a:lnTo>
                    <a:pt x="150" y="110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97"/>
                  </a:lnTo>
                  <a:lnTo>
                    <a:pt x="564" y="931"/>
                  </a:lnTo>
                  <a:lnTo>
                    <a:pt x="557" y="957"/>
                  </a:lnTo>
                  <a:lnTo>
                    <a:pt x="520" y="1008"/>
                  </a:lnTo>
                  <a:lnTo>
                    <a:pt x="461" y="1041"/>
                  </a:lnTo>
                  <a:lnTo>
                    <a:pt x="396" y="1054"/>
                  </a:lnTo>
                  <a:lnTo>
                    <a:pt x="342" y="1044"/>
                  </a:lnTo>
                  <a:lnTo>
                    <a:pt x="277" y="1022"/>
                  </a:lnTo>
                  <a:lnTo>
                    <a:pt x="212" y="981"/>
                  </a:lnTo>
                  <a:lnTo>
                    <a:pt x="150" y="936"/>
                  </a:lnTo>
                  <a:lnTo>
                    <a:pt x="90" y="876"/>
                  </a:lnTo>
                  <a:lnTo>
                    <a:pt x="44" y="811"/>
                  </a:lnTo>
                  <a:lnTo>
                    <a:pt x="10" y="741"/>
                  </a:lnTo>
                  <a:lnTo>
                    <a:pt x="0" y="674"/>
                  </a:lnTo>
                  <a:lnTo>
                    <a:pt x="0" y="352"/>
                  </a:lnTo>
                </a:path>
              </a:pathLst>
            </a:custGeom>
            <a:solidFill>
              <a:srgbClr val="9292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74560" y="2986200"/>
              <a:ext cx="906480" cy="1652400"/>
            </a:xfrm>
            <a:custGeom>
              <a:avLst/>
              <a:gdLst/>
              <a:ahLst/>
              <a:rect l="l" t="t" r="r" b="b"/>
              <a:pathLst>
                <a:path w="571" h="1041">
                  <a:moveTo>
                    <a:pt x="0" y="348"/>
                  </a:moveTo>
                  <a:lnTo>
                    <a:pt x="10" y="283"/>
                  </a:lnTo>
                  <a:lnTo>
                    <a:pt x="44" y="218"/>
                  </a:lnTo>
                  <a:lnTo>
                    <a:pt x="90" y="158"/>
                  </a:lnTo>
                  <a:lnTo>
                    <a:pt x="150" y="105"/>
                  </a:lnTo>
                  <a:lnTo>
                    <a:pt x="212" y="62"/>
                  </a:lnTo>
                  <a:lnTo>
                    <a:pt x="277" y="26"/>
                  </a:lnTo>
                  <a:lnTo>
                    <a:pt x="342" y="7"/>
                  </a:lnTo>
                  <a:lnTo>
                    <a:pt x="396" y="0"/>
                  </a:lnTo>
                  <a:lnTo>
                    <a:pt x="461" y="12"/>
                  </a:lnTo>
                  <a:lnTo>
                    <a:pt x="520" y="45"/>
                  </a:lnTo>
                  <a:lnTo>
                    <a:pt x="557" y="96"/>
                  </a:lnTo>
                  <a:lnTo>
                    <a:pt x="564" y="122"/>
                  </a:lnTo>
                  <a:lnTo>
                    <a:pt x="570" y="156"/>
                  </a:lnTo>
                  <a:lnTo>
                    <a:pt x="570" y="883"/>
                  </a:lnTo>
                  <a:lnTo>
                    <a:pt x="564" y="917"/>
                  </a:lnTo>
                  <a:lnTo>
                    <a:pt x="557" y="943"/>
                  </a:lnTo>
                  <a:lnTo>
                    <a:pt x="520" y="994"/>
                  </a:lnTo>
                  <a:lnTo>
                    <a:pt x="461" y="1027"/>
                  </a:lnTo>
                  <a:lnTo>
                    <a:pt x="396" y="1040"/>
                  </a:lnTo>
                  <a:lnTo>
                    <a:pt x="342" y="1032"/>
                  </a:lnTo>
                  <a:lnTo>
                    <a:pt x="277" y="1008"/>
                  </a:lnTo>
                  <a:lnTo>
                    <a:pt x="212" y="967"/>
                  </a:lnTo>
                  <a:lnTo>
                    <a:pt x="150" y="922"/>
                  </a:lnTo>
                  <a:lnTo>
                    <a:pt x="90" y="862"/>
                  </a:lnTo>
                  <a:lnTo>
                    <a:pt x="44" y="797"/>
                  </a:lnTo>
                  <a:lnTo>
                    <a:pt x="10" y="732"/>
                  </a:lnTo>
                  <a:lnTo>
                    <a:pt x="0" y="665"/>
                  </a:lnTo>
                  <a:lnTo>
                    <a:pt x="0" y="348"/>
                  </a:lnTo>
                </a:path>
              </a:pathLst>
            </a:cu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74560" y="2998800"/>
              <a:ext cx="906480" cy="1620720"/>
            </a:xfrm>
            <a:custGeom>
              <a:avLst/>
              <a:gdLst/>
              <a:ahLst/>
              <a:rect l="l" t="t" r="r" b="b"/>
              <a:pathLst>
                <a:path w="571" h="1021">
                  <a:moveTo>
                    <a:pt x="0" y="345"/>
                  </a:moveTo>
                  <a:lnTo>
                    <a:pt x="10" y="280"/>
                  </a:lnTo>
                  <a:lnTo>
                    <a:pt x="44" y="216"/>
                  </a:lnTo>
                  <a:lnTo>
                    <a:pt x="90" y="156"/>
                  </a:lnTo>
                  <a:lnTo>
                    <a:pt x="150" y="105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14"/>
                  </a:lnTo>
                  <a:lnTo>
                    <a:pt x="520" y="45"/>
                  </a:lnTo>
                  <a:lnTo>
                    <a:pt x="557" y="93"/>
                  </a:lnTo>
                  <a:lnTo>
                    <a:pt x="564" y="120"/>
                  </a:lnTo>
                  <a:lnTo>
                    <a:pt x="570" y="151"/>
                  </a:lnTo>
                  <a:lnTo>
                    <a:pt x="570" y="873"/>
                  </a:lnTo>
                  <a:lnTo>
                    <a:pt x="564" y="904"/>
                  </a:lnTo>
                  <a:lnTo>
                    <a:pt x="557" y="931"/>
                  </a:lnTo>
                  <a:lnTo>
                    <a:pt x="520" y="979"/>
                  </a:lnTo>
                  <a:lnTo>
                    <a:pt x="461" y="1010"/>
                  </a:lnTo>
                  <a:lnTo>
                    <a:pt x="396" y="1020"/>
                  </a:lnTo>
                  <a:lnTo>
                    <a:pt x="342" y="1010"/>
                  </a:lnTo>
                  <a:lnTo>
                    <a:pt x="277" y="986"/>
                  </a:lnTo>
                  <a:lnTo>
                    <a:pt x="212" y="950"/>
                  </a:lnTo>
                  <a:lnTo>
                    <a:pt x="150" y="904"/>
                  </a:lnTo>
                  <a:lnTo>
                    <a:pt x="90" y="849"/>
                  </a:lnTo>
                  <a:lnTo>
                    <a:pt x="44" y="784"/>
                  </a:lnTo>
                  <a:lnTo>
                    <a:pt x="10" y="720"/>
                  </a:lnTo>
                  <a:lnTo>
                    <a:pt x="0" y="657"/>
                  </a:lnTo>
                  <a:lnTo>
                    <a:pt x="0" y="345"/>
                  </a:lnTo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4560" y="3011400"/>
              <a:ext cx="906480" cy="1592280"/>
            </a:xfrm>
            <a:custGeom>
              <a:avLst/>
              <a:gdLst/>
              <a:ahLst/>
              <a:rect l="l" t="t" r="r" b="b"/>
              <a:pathLst>
                <a:path w="571" h="1003">
                  <a:moveTo>
                    <a:pt x="0" y="336"/>
                  </a:moveTo>
                  <a:lnTo>
                    <a:pt x="10" y="271"/>
                  </a:lnTo>
                  <a:lnTo>
                    <a:pt x="44" y="211"/>
                  </a:lnTo>
                  <a:lnTo>
                    <a:pt x="90" y="151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8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8"/>
                  </a:lnTo>
                  <a:lnTo>
                    <a:pt x="564" y="115"/>
                  </a:lnTo>
                  <a:lnTo>
                    <a:pt x="570" y="146"/>
                  </a:lnTo>
                  <a:lnTo>
                    <a:pt x="570" y="855"/>
                  </a:lnTo>
                  <a:lnTo>
                    <a:pt x="557" y="910"/>
                  </a:lnTo>
                  <a:lnTo>
                    <a:pt x="520" y="956"/>
                  </a:lnTo>
                  <a:lnTo>
                    <a:pt x="461" y="987"/>
                  </a:lnTo>
                  <a:lnTo>
                    <a:pt x="396" y="1002"/>
                  </a:lnTo>
                  <a:lnTo>
                    <a:pt x="342" y="992"/>
                  </a:lnTo>
                  <a:lnTo>
                    <a:pt x="277" y="970"/>
                  </a:lnTo>
                  <a:lnTo>
                    <a:pt x="212" y="932"/>
                  </a:lnTo>
                  <a:lnTo>
                    <a:pt x="150" y="886"/>
                  </a:lnTo>
                  <a:lnTo>
                    <a:pt x="90" y="831"/>
                  </a:lnTo>
                  <a:lnTo>
                    <a:pt x="44" y="771"/>
                  </a:lnTo>
                  <a:lnTo>
                    <a:pt x="10" y="708"/>
                  </a:lnTo>
                  <a:lnTo>
                    <a:pt x="0" y="643"/>
                  </a:lnTo>
                  <a:lnTo>
                    <a:pt x="0" y="336"/>
                  </a:lnTo>
                </a:path>
              </a:pathLst>
            </a:custGeom>
            <a:solidFill>
              <a:srgbClr val="ae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4560" y="3029040"/>
              <a:ext cx="906480" cy="1560600"/>
            </a:xfrm>
            <a:custGeom>
              <a:avLst/>
              <a:gdLst/>
              <a:ahLst/>
              <a:rect l="l" t="t" r="r" b="b"/>
              <a:pathLst>
                <a:path w="571" h="983">
                  <a:moveTo>
                    <a:pt x="0" y="326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6"/>
                  </a:lnTo>
                  <a:lnTo>
                    <a:pt x="564" y="115"/>
                  </a:lnTo>
                  <a:lnTo>
                    <a:pt x="570" y="141"/>
                  </a:lnTo>
                  <a:lnTo>
                    <a:pt x="570" y="835"/>
                  </a:lnTo>
                  <a:lnTo>
                    <a:pt x="564" y="866"/>
                  </a:lnTo>
                  <a:lnTo>
                    <a:pt x="557" y="895"/>
                  </a:lnTo>
                  <a:lnTo>
                    <a:pt x="520" y="941"/>
                  </a:lnTo>
                  <a:lnTo>
                    <a:pt x="461" y="972"/>
                  </a:lnTo>
                  <a:lnTo>
                    <a:pt x="396" y="982"/>
                  </a:lnTo>
                  <a:lnTo>
                    <a:pt x="342" y="972"/>
                  </a:lnTo>
                  <a:lnTo>
                    <a:pt x="277" y="950"/>
                  </a:lnTo>
                  <a:lnTo>
                    <a:pt x="212" y="912"/>
                  </a:lnTo>
                  <a:lnTo>
                    <a:pt x="150" y="866"/>
                  </a:lnTo>
                  <a:lnTo>
                    <a:pt x="90" y="816"/>
                  </a:lnTo>
                  <a:lnTo>
                    <a:pt x="44" y="756"/>
                  </a:lnTo>
                  <a:lnTo>
                    <a:pt x="10" y="693"/>
                  </a:lnTo>
                  <a:lnTo>
                    <a:pt x="0" y="629"/>
                  </a:lnTo>
                  <a:lnTo>
                    <a:pt x="0" y="326"/>
                  </a:lnTo>
                </a:path>
              </a:pathLst>
            </a:custGeom>
            <a:solidFill>
              <a:srgbClr val="b7b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74560" y="3043080"/>
              <a:ext cx="906480" cy="1522440"/>
            </a:xfrm>
            <a:custGeom>
              <a:avLst/>
              <a:gdLst/>
              <a:ahLst/>
              <a:rect l="l" t="t" r="r" b="b"/>
              <a:pathLst>
                <a:path w="571" h="959">
                  <a:moveTo>
                    <a:pt x="0" y="321"/>
                  </a:moveTo>
                  <a:lnTo>
                    <a:pt x="10" y="261"/>
                  </a:lnTo>
                  <a:lnTo>
                    <a:pt x="44" y="201"/>
                  </a:lnTo>
                  <a:lnTo>
                    <a:pt x="90" y="146"/>
                  </a:lnTo>
                  <a:lnTo>
                    <a:pt x="150" y="100"/>
                  </a:lnTo>
                  <a:lnTo>
                    <a:pt x="212" y="60"/>
                  </a:lnTo>
                  <a:lnTo>
                    <a:pt x="277" y="26"/>
                  </a:lnTo>
                  <a:lnTo>
                    <a:pt x="342" y="9"/>
                  </a:lnTo>
                  <a:lnTo>
                    <a:pt x="396" y="0"/>
                  </a:lnTo>
                  <a:lnTo>
                    <a:pt x="461" y="9"/>
                  </a:lnTo>
                  <a:lnTo>
                    <a:pt x="520" y="40"/>
                  </a:lnTo>
                  <a:lnTo>
                    <a:pt x="557" y="81"/>
                  </a:lnTo>
                  <a:lnTo>
                    <a:pt x="564" y="110"/>
                  </a:lnTo>
                  <a:lnTo>
                    <a:pt x="570" y="136"/>
                  </a:lnTo>
                  <a:lnTo>
                    <a:pt x="570" y="821"/>
                  </a:lnTo>
                  <a:lnTo>
                    <a:pt x="564" y="847"/>
                  </a:lnTo>
                  <a:lnTo>
                    <a:pt x="557" y="876"/>
                  </a:lnTo>
                  <a:lnTo>
                    <a:pt x="520" y="917"/>
                  </a:lnTo>
                  <a:lnTo>
                    <a:pt x="461" y="950"/>
                  </a:lnTo>
                  <a:lnTo>
                    <a:pt x="396" y="958"/>
                  </a:lnTo>
                  <a:lnTo>
                    <a:pt x="342" y="950"/>
                  </a:lnTo>
                  <a:lnTo>
                    <a:pt x="277" y="926"/>
                  </a:lnTo>
                  <a:lnTo>
                    <a:pt x="212" y="895"/>
                  </a:lnTo>
                  <a:lnTo>
                    <a:pt x="150" y="847"/>
                  </a:lnTo>
                  <a:lnTo>
                    <a:pt x="90" y="797"/>
                  </a:lnTo>
                  <a:lnTo>
                    <a:pt x="44" y="739"/>
                  </a:lnTo>
                  <a:lnTo>
                    <a:pt x="10" y="679"/>
                  </a:lnTo>
                  <a:lnTo>
                    <a:pt x="0" y="614"/>
                  </a:lnTo>
                  <a:lnTo>
                    <a:pt x="0" y="321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09520" y="3041640"/>
              <a:ext cx="254160" cy="217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17440" y="3041640"/>
              <a:ext cx="230400" cy="21744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17440" y="3041640"/>
              <a:ext cx="222480" cy="20160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17440" y="3049560"/>
              <a:ext cx="212760" cy="19368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17440" y="3049560"/>
              <a:ext cx="204840" cy="18720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117440" y="3049560"/>
              <a:ext cx="196920" cy="18252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117440" y="3049560"/>
              <a:ext cx="189000" cy="1746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5360" y="3057480"/>
              <a:ext cx="165240" cy="15228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09520" y="4410000"/>
              <a:ext cx="254160" cy="2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17440" y="4410000"/>
              <a:ext cx="230400" cy="212760"/>
            </a:xfrm>
            <a:prstGeom prst="ellipse">
              <a:avLst/>
            </a:prstGeom>
            <a:solidFill>
              <a:srgbClr val="1b1b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4417920"/>
              <a:ext cx="222480" cy="204840"/>
            </a:xfrm>
            <a:prstGeom prst="ellipse">
              <a:avLst/>
            </a:prstGeom>
            <a:solidFill>
              <a:srgbClr val="3737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117440" y="4417920"/>
              <a:ext cx="212760" cy="198360"/>
            </a:xfrm>
            <a:prstGeom prst="ellipse">
              <a:avLst/>
            </a:prstGeom>
            <a:solidFill>
              <a:srgbClr val="5252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117440" y="4417920"/>
              <a:ext cx="204840" cy="190440"/>
            </a:xfrm>
            <a:prstGeom prst="ellipse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117440" y="4425840"/>
              <a:ext cx="196920" cy="166680"/>
            </a:xfrm>
            <a:prstGeom prst="ellipse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117440" y="4425840"/>
              <a:ext cx="189000" cy="16668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125360" y="4425840"/>
              <a:ext cx="165240" cy="15876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04920" y="2541600"/>
              <a:ext cx="1431720" cy="2535120"/>
            </a:xfrm>
            <a:custGeom>
              <a:avLst/>
              <a:gdLst/>
              <a:ahLst/>
              <a:rect l="l" t="t" r="r" b="b"/>
              <a:pathLst>
                <a:path w="902" h="1597">
                  <a:moveTo>
                    <a:pt x="0" y="614"/>
                  </a:moveTo>
                  <a:lnTo>
                    <a:pt x="401" y="504"/>
                  </a:lnTo>
                  <a:lnTo>
                    <a:pt x="714" y="537"/>
                  </a:lnTo>
                  <a:lnTo>
                    <a:pt x="714" y="50"/>
                  </a:lnTo>
                  <a:lnTo>
                    <a:pt x="901" y="0"/>
                  </a:lnTo>
                  <a:lnTo>
                    <a:pt x="901" y="1596"/>
                  </a:lnTo>
                  <a:lnTo>
                    <a:pt x="714" y="1569"/>
                  </a:lnTo>
                  <a:lnTo>
                    <a:pt x="714" y="1077"/>
                  </a:lnTo>
                  <a:lnTo>
                    <a:pt x="401" y="1111"/>
                  </a:lnTo>
                  <a:lnTo>
                    <a:pt x="0" y="996"/>
                  </a:lnTo>
                  <a:lnTo>
                    <a:pt x="0" y="614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25480" y="2523960"/>
              <a:ext cx="95400" cy="2571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1000" y="3411360"/>
              <a:ext cx="618840" cy="839880"/>
            </a:xfrm>
            <a:custGeom>
              <a:avLst/>
              <a:gdLst/>
              <a:ahLst/>
              <a:rect l="l" t="t" r="r" b="b"/>
              <a:pathLst>
                <a:path w="390" h="529">
                  <a:moveTo>
                    <a:pt x="389" y="0"/>
                  </a:moveTo>
                  <a:lnTo>
                    <a:pt x="0" y="96"/>
                  </a:lnTo>
                  <a:lnTo>
                    <a:pt x="5" y="436"/>
                  </a:lnTo>
                  <a:lnTo>
                    <a:pt x="383" y="528"/>
                  </a:lnTo>
                  <a:lnTo>
                    <a:pt x="59" y="405"/>
                  </a:lnTo>
                  <a:lnTo>
                    <a:pt x="59" y="115"/>
                  </a:lnTo>
                  <a:lnTo>
                    <a:pt x="389" y="0"/>
                  </a:lnTo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4936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14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232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4440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5888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68240" y="3586320"/>
              <a:ext cx="65160" cy="50292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502920"/>
                <a:gd name="textAreaBottom" fmla="*/ 500760 h 502920"/>
              </a:gdLst>
              <a:ahLst/>
              <a:rect l="textAreaLeft" t="textAreaTop" r="textAreaRight" b="textAreaBottom"/>
              <a:pathLst>
                <a:path w="21600" h="165916">
                  <a:moveTo>
                    <a:pt x="2699" y="0"/>
                  </a:moveTo>
                  <a:arcTo wR="2699" hR="2699" stAng="16200000" swAng="-5400000"/>
                  <a:lnTo>
                    <a:pt x="0" y="163217"/>
                  </a:lnTo>
                  <a:arcTo wR="2699" hR="2699" stAng="10800000" swAng="-5400000"/>
                  <a:lnTo>
                    <a:pt x="18901" y="165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156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79480" y="3484440"/>
              <a:ext cx="65160" cy="700200"/>
            </a:xfrm>
            <a:custGeom>
              <a:avLst/>
              <a:gdLst>
                <a:gd name="textAreaLeft" fmla="*/ 2160 w 65160"/>
                <a:gd name="textAreaRight" fmla="*/ 63000 w 6516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30954">
                  <a:moveTo>
                    <a:pt x="2699" y="0"/>
                  </a:moveTo>
                  <a:arcTo wR="2699" hR="2699" stAng="16200000" swAng="-5400000"/>
                  <a:lnTo>
                    <a:pt x="0" y="228255"/>
                  </a:lnTo>
                  <a:arcTo wR="2699" hR="2699" stAng="10800000" swAng="-5400000"/>
                  <a:lnTo>
                    <a:pt x="18901" y="230954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88920" y="3484440"/>
              <a:ext cx="66600" cy="700200"/>
            </a:xfrm>
            <a:custGeom>
              <a:avLst/>
              <a:gdLst>
                <a:gd name="textAreaLeft" fmla="*/ 2160 w 66600"/>
                <a:gd name="textAreaRight" fmla="*/ 64440 w 666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5987">
                  <a:moveTo>
                    <a:pt x="2699" y="0"/>
                  </a:moveTo>
                  <a:arcTo wR="2699" hR="2699" stAng="16200000" swAng="-5400000"/>
                  <a:lnTo>
                    <a:pt x="0" y="223288"/>
                  </a:lnTo>
                  <a:arcTo wR="2699" hR="2699" stAng="10800000" swAng="-5400000"/>
                  <a:lnTo>
                    <a:pt x="18901" y="22598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00160" y="3484440"/>
              <a:ext cx="68400" cy="700200"/>
            </a:xfrm>
            <a:custGeom>
              <a:avLst/>
              <a:gdLst>
                <a:gd name="textAreaLeft" fmla="*/ 2160 w 68400"/>
                <a:gd name="textAreaRight" fmla="*/ 66240 w 68400"/>
                <a:gd name="textAreaTop" fmla="*/ 2160 h 700200"/>
                <a:gd name="textAreaBottom" fmla="*/ 698040 h 700200"/>
              </a:gdLst>
              <a:ahLst/>
              <a:rect l="textAreaLeft" t="textAreaTop" r="textAreaRight" b="textAreaBottom"/>
              <a:pathLst>
                <a:path w="21600" h="220071">
                  <a:moveTo>
                    <a:pt x="2699" y="0"/>
                  </a:moveTo>
                  <a:arcTo wR="2699" hR="2699" stAng="16200000" swAng="-5400000"/>
                  <a:lnTo>
                    <a:pt x="0" y="217372"/>
                  </a:lnTo>
                  <a:arcTo wR="2699" hR="2699" stAng="10800000" swAng="-5400000"/>
                  <a:lnTo>
                    <a:pt x="18901" y="220071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Impact"/>
              </a:rPr>
              <a:t>Task Lis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820880" y="2460600"/>
            <a:ext cx="6346800" cy="33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0) Get a grip on secur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) Home Bank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85800" indent="-628560">
              <a:lnSpc>
                <a:spcPct val="1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2) Secure Messaging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48240" y="-71280"/>
            <a:ext cx="13834080" cy="9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_x0002_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ÂrÒÞú/{N`_x0006__x0007_v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’¥á_x0005_Šqª8_x001f_¤_x0017_ _x001e_á_x0007_ìÃù_x0019_Bñƒ~§_x0016_‘²y_x001f_û{Oáÿ¤P×DÉ_x001f_%iâ4_x0013_ù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/_x001e_Œú‡&amp;_x001d__x001c_BC+\_x0008__x001e_Ì™¼Òk±áŸ±5|_x001f__x0003_Ð D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ÚN¢ˆ_x0006_2šI”"@_x001c_¨ÓÎ_x0002_ÀxÕ`­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K]_x0015_r·G¥ì•ûÈÉ©¡d5þfÌë0‡:„_x0002_®G_x0017_Bi8_x0013_ïû( ¤DG¹Ü±–yQéÂ_x0006__x001d_Aš:K…E»E(L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`°_x0018_÷_x001c_÷_PÌ#A{fØ˜Ì—´DêC3S´= _x0004_Šê)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6_î…‚ Zwø„Ûá¥×&gt;³¬&amp;—Ú«A_x0011_Â_x0006_ÄuÍª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ÖüTOµƒ‘A[tiBçw±ð_x0013_ÇõkfxCUF½qx2t¸¬_•(4s/_x0002_|9öÍ_x0017_ù_x001c_7¯)Šù_x000f_«™Çóà÷’)&amp;Ó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_x001e_&gt;„Èêô¥ÈGP¾_x001b__x001a_šn¿yk¹tq /õx¡Ô»Öüf_p¥ê'A®À¤‹Ü4Œ D’z_x001a_¡Ôn§Õ5øëÿ]T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&gt;ªÄa&amp;_x0012_}”x_x0016_Gó¹âÄÐ_x0005_f©ß\›á„½_x001b_]_x0018_0ôÂ9mb_x0006_×u4'­Œ_x0018_0G_x000f_Ý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¿«7•_x001f_²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Æ¯¯;yMö_x0015_ÉmR,’I?ª*IùëFðÔ1å…­ý=&amp;¥_x001a__Ö§^ l²d¥Ôì+ ‡»ë_x0005_þ£Hì«±k‰8_x000c_;ë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¿’sØÔ‡°hŒÃß6ˆ_x001b_£d‚í_x001d_»_x000f_™N¯_x0002__x0015_é)šÉ·h1þe_x0004__x0005_A_x000c_•$‚ _x0010_R«l\jÔ°ÏÏ__x0002_3±_x0012_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x0002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©PÓ2gæ›·Ê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_x0006_â‚½+N Çþ«]¬’£s=_x0011_f‡4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6880" y="1981080"/>
            <a:ext cx="78613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is Cryptograp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840" y="2384280"/>
            <a:ext cx="333072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yptographer’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12760" y="2384280"/>
            <a:ext cx="333504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/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u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nt/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arantee/Recou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mpetitive Strategy/ Cryptograph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9000" y="1219320"/>
            <a:ext cx="82659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49360" y="4552920"/>
            <a:ext cx="8013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2171880" indent="-2171880">
              <a:lnSpc>
                <a:spcPct val="100000"/>
              </a:lnSpc>
              <a:spcBef>
                <a:spcPts val="1125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3120" y="5753160"/>
            <a:ext cx="8013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48000"/>
          </a:bodyPr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1c1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042200" indent="-1042200">
              <a:lnSpc>
                <a:spcPct val="100000"/>
              </a:lnSpc>
              <a:spcBef>
                <a:spcPts val="1500"/>
              </a:spcBef>
              <a:buClr>
                <a:srgbClr val="5f5f5f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6880" y="609480"/>
            <a:ext cx="7861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348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0000"/>
              </a:lnSpc>
              <a:spcBef>
                <a:spcPts val="125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pping Concepts to Practices - Cryptographic Analo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2325600"/>
            <a:ext cx="38638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Cryptographic Construc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Envelop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Signa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gital Certifica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240080" y="2325600"/>
            <a:ext cx="4499280" cy="14950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ivacy, Pro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ssent, Authorization, Integr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SzPct val="7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28195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320040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3505320"/>
            <a:ext cx="533520" cy="228600"/>
          </a:xfrm>
          <a:prstGeom prst="rightArrow">
            <a:avLst>
              <a:gd name="adj1" fmla="val 50000"/>
              <a:gd name="adj2" fmla="val 58346"/>
            </a:avLst>
          </a:prstGeom>
          <a:solidFill>
            <a:srgbClr val="8cc6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289160" y="-360"/>
            <a:ext cx="775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uilding in Security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RSA%20BSAFE%20diagram1" descr=""/>
          <p:cNvPicPr/>
          <p:nvPr/>
        </p:nvPicPr>
        <p:blipFill>
          <a:blip r:embed="rId1"/>
          <a:stretch/>
        </p:blipFill>
        <p:spPr>
          <a:xfrm>
            <a:off x="765000" y="1973160"/>
            <a:ext cx="7764480" cy="333720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04840"/>
            <a:ext cx="87091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side a Crypto Sta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4200" y="1234800"/>
            <a:ext cx="838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74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27200" y="1387440"/>
            <a:ext cx="838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spcBef>
                <a:spcPts val="1749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CryptoC%20framework" descr=""/>
          <p:cNvPicPr/>
          <p:nvPr/>
        </p:nvPicPr>
        <p:blipFill>
          <a:blip r:embed="rId1"/>
          <a:stretch/>
        </p:blipFill>
        <p:spPr>
          <a:xfrm>
            <a:off x="2590920" y="1359000"/>
            <a:ext cx="3720960" cy="521964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8T18:45:54Z</dcterms:created>
  <dc:creator>BGrainge</dc:creator>
  <dc:description/>
  <dc:language>en-US</dc:language>
  <cp:lastModifiedBy>Tim Matthews</cp:lastModifiedBy>
  <cp:lastPrinted>1999-11-01T23:24:49Z</cp:lastPrinted>
  <dcterms:modified xsi:type="dcterms:W3CDTF">2000-01-11T02:41:20Z</dcterms:modified>
  <cp:revision>141</cp:revision>
  <dc:subject/>
  <dc:title>Security Dynamics Product Strategy</dc:title>
</cp:coreProperties>
</file>