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6563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564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6920" y="8786520"/>
            <a:ext cx="105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6053-7E33-4F5A-A44D-F68BDD7FBA05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ood afternoon. 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is a product of a strong technical foundation - O/S, Apps SW and HW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obust Security archite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licies/Procedures/Pract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documents listed here are currently available.  The ISSP/CPS, which has already been described,  provides a doctrinal framework for CAW operations.  The Concept of Operations (CONOP) provides a broad overview of how the entire infrastructure is intended to work; the CAW Establishment Guide gives step-by-step instructions on how to request and establish a CAW at a user site; an date CAW Procedural Handbook provides keystroke-level instructions for performing certificate management functions on the CAW platform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re are several aspects to establishing and operating a secure CMI capability, and there is documentation and guidance available to assist the user community in completing the process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major areas that require that need to be understood by community wishing to establish a CA are: documentation; approving authorities; role identification; Certification Authority training; and local management responsibilitie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hallenge: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  Provide Certification Authority with appropriate privilege set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olution: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  Establish policy setting minimums for security critical privileges. 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Allow local specification of other privileges with third party approval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echnical Mechanism: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  The Root CA establishes the privileges of  the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subordinate CA via a root CA generated and digitally signed configuration fil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re are several aspects to establishing and operating a secure CMI capability, and there is documentation and guidance available to assist the user community in completing the process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major areas that require that need to be understood by community wishing to establish a CA are: documentation; approving authorities; role identification; Certification Authority training; and local management responsibilitie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Compromised Key List -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“</a:t>
            </a: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hot list” concep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push out to user community &amp; post to ser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applications did not support the needed protocol to rece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Certificate revocation lis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Push Distribution by security management infrastructure to end users is hard to completely implem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Immature standar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Application sup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Pulling by user community provides user with latest list of compromised keys but if  end users  have to take explicit action they probably won’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Combination of approaches - servers (web and directory), self-subscribing mail lists, direct mai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ack the activities of the Certification Autho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etermine if CA is creating certificates as requir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etect any improper activitie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ttempts to circumvent privile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ttempts to modify the CAW applic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mproperly labeled e-mail messa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ailure to encrypt/verify messa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ck the activities of other users on the CAW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System Administrator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other software applications (e.g. Administrative Directory User Agent for Directory application, SMTP e-mail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Non-repudiation - property of an act whereby  you cannot say that you didn’t do it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hysical signature - nonrepudiable act whereby I uncontestable agree to the contents of the docum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hysical signature combined with the judicial  nonrepudiability of the act of signing, property of legislation and case law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og/audit of key histories that have been issued to me , so if you need to see if a document I signed 5 years ago really used a key that belonged to me th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rovide high assurance secu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se hardware tokens for end-us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caleable to 3 million us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mmediate PKI servi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imited network access for certificate management func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lexible &amp; deployab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Challenge:  Reconstitute infrastructure components and operations in case of site disaster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Solution:  Dedicated back-up site for top levels of hierarchy (PAA &amp; PCAs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Formal Emergency Action Pla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Periodically exercise Emergency Action Pla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Local procedures requiring off-site storage of CA system back-up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Need a complete solution - PKI, certificate repository, applications and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imit the number of CAs to the smallest number required for operational sup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ser education in registration and operational requirements is mandator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imely dissemination of Compromise management &amp; certificate revocation is hard to do on a large sca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Meaningful Audit Analysis is a tough problem - 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Is it solvable?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Archive is a needed servic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Legal issues are paramou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Technical issues are solvab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ross Certific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licy and legal issues paramou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echnical issues solved within PKI.  Apps support is TB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isaster Recovery - Need to plan for and fund i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echnical Assistance - Need to plan for and fund i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Transition to new policy - US DoD Certificate Polic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Version 3 Certificates and V2 CRLs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Implement enhanced access controls utilizing certificate extensions and  Security Policy Information Fil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Implement Indirect Certificate Revocation List Autho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V1 Jumbo x.509 certifica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eparate keys for encryption and digital signa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ertificate Authority Workst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ustom developed certificate authority softwa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ed operating system (SCO CMW+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ortezza hardware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x.500 directory syste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1 PAA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6 PCA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DoD SBU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oD Secr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oD Top Secr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ivil SBU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ivil Secr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ntelligen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ppx. 300 CAs - split between SBU and Secret with a handful in the other categor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primary purpose is to establish TRUS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that I am who I say I am </a:t>
            </a:r>
            <a:r>
              <a:rPr b="0" lang="en-US" sz="1200" spc="-1" strike="noStrike">
                <a:solidFill>
                  <a:srgbClr val="fc0128"/>
                </a:solidFill>
                <a:latin typeface="Book Antiqua"/>
              </a:rPr>
              <a:t>(identification and authentication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that I hold the private key that corresponds to the public key in my certificate (binding of key to ID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that I am allowed to be a part of the community (access control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is a product of a strong technical foundation - O/S, Apps SW and HW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obust Security archite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licies/Procedures/Pract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DD2-C5C4-4021-B7C5-4BDD1AB7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B00-5028-4254-A14C-1AF86356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98E-35CC-4779-B3C6-79DEC7F6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5C5-9A37-4B15-9188-D52FB1E5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4E4-5EC3-4DE4-8905-5E46A11B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0BF-EE59-401B-ABF9-CE6290E8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635-090E-4ADF-A93F-AB72265E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568-5A6D-4002-A51B-498D08DE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CBA-14AB-48D4-A85F-87D97D3A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727-039E-4712-A1D1-0049A948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8B4-F80C-422D-A8E5-BBBCB5E9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97C-6685-458C-9C56-365D62BD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pac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8496-6F10-4A44-9A4E-A848975207A0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4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5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6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6.wmf"/><Relationship Id="rId4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.wmf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4648320"/>
            <a:ext cx="556272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Petrina Gillma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(410)854-4527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plgillm@radium.ncsc.mi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335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77760" rIns="77760" tIns="39600" bIns="396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Department of Defense</a:t>
            </a:r>
            <a:br>
              <a:rPr sz="4400"/>
            </a:b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High Assurance PKI Implementation &amp; Operations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SA Conference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7 January 2000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boar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1143000" y="533520"/>
            <a:ext cx="6934320" cy="84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Operational Challenge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1" name=""/>
          <p:cNvSpPr/>
          <p:nvPr/>
        </p:nvSpPr>
        <p:spPr>
          <a:xfrm>
            <a:off x="2209680" y="2438280"/>
            <a:ext cx="4876920" cy="2895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6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ud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rch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ross Certif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isaster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 Secure and trustworthy certificate management operations across a distributed infrastructure of over 700 Certification Authorities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Solutions: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andatory Initial and Upgrade Training</a:t>
            </a:r>
            <a:endParaRPr b="1" lang="en-US" sz="2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mprehensive operational documentation and procedures</a:t>
            </a:r>
            <a:endParaRPr b="1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808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4" name=""/>
          <p:cNvSpPr/>
          <p:nvPr/>
        </p:nvSpPr>
        <p:spPr>
          <a:xfrm>
            <a:off x="495360" y="3619440"/>
            <a:ext cx="815328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5" name=""/>
          <p:cNvSpPr/>
          <p:nvPr/>
        </p:nvSpPr>
        <p:spPr>
          <a:xfrm>
            <a:off x="152280" y="914400"/>
            <a:ext cx="8915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Trusted Distributed PKI Operati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Security Policy/Certification Practice Statement 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Infrastructure Concept of Operations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Certification Authority Establishment Guide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Certification  Authority Procedural Handbook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094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ertificate Management Operational Polic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/>
          </p:nvPr>
        </p:nvSpPr>
        <p:spPr>
          <a:xfrm>
            <a:off x="304920" y="22096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Trusted process for enrolling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w Certification Authoriti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olution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:  Implemented process requiring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n accountable third party to authorize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he reques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04920" y="533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Trusted CA Establishment Proces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Privilege Management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Provide Certification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Authority with appropriate privilege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Solution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Establish policy setting minimums for security critical privileges.  Allow local specification of other privileges with third party approval.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Technical Mechanism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The Root CA establishes privileges of  the subordinate CA by generating and digitally signing a configuration fil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Establish a process which promotes and supports the PKI security goal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HARD PROBLEM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Direct trade-off between security and operational flexibility/ease-of-us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Decision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Security requires in-person verification through contact with Certification Authority/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egistration Authorit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User Registration Process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ompromise Management &amp; Certificate Revocation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742680" y="2286000"/>
            <a:ext cx="77914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ffective mechanisms for removing users from the infrastructur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wo list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ertificate revocation lis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ompromised Key Lis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Lessons Learned</a:t>
            </a:r>
            <a:br>
              <a:rPr sz="40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mpromise Management &amp; Certificate Revocatio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Push Distribution by PKI to users is hard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Pulling by users is unlikely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ar-term solutions:  Servers (web and directory), Self-subscribing mail lists, direct mail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Significant technical and operational challeng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2666880" y="6854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Audit</a:t>
            </a:r>
            <a:endParaRPr b="1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  Ensure only authorized individuals performing  authorized actions.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Solutions: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ISSO audit of CA with audit tool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Root CA audit of subordinate CAs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Goals: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User friendly audit processing tool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On-line audit system for PKI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Long-term archival storage of certificate management information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Interim Solution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:  Weekly storage of complete system backups and signed archive utility data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Goal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Legal system and technologist partnership to devise permanent solution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666880" y="68580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Archive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Operational Requirement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rovide high assurance security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caleable to 2 million user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Immediate PKI servic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lexible &amp; deployabl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2247840" y="1523880"/>
            <a:ext cx="0" cy="30492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3" name=""/>
          <p:cNvSpPr/>
          <p:nvPr/>
        </p:nvSpPr>
        <p:spPr>
          <a:xfrm>
            <a:off x="1143000" y="380880"/>
            <a:ext cx="6781680" cy="5257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4" name=""/>
          <p:cNvSpPr/>
          <p:nvPr/>
        </p:nvSpPr>
        <p:spPr>
          <a:xfrm>
            <a:off x="1895400" y="6019920"/>
            <a:ext cx="56484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ross Certification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FORTEZZA U.S. Government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olicy Approving Authority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376280" y="3632040"/>
            <a:ext cx="1400400" cy="538200"/>
            <a:chOff x="1376280" y="3632040"/>
            <a:chExt cx="1400400" cy="538200"/>
          </a:xfrm>
        </p:grpSpPr>
        <p:graphicFrame>
          <p:nvGraphicFramePr>
            <p:cNvPr id="1257" name=""/>
            <p:cNvGraphicFramePr/>
            <p:nvPr/>
          </p:nvGraphicFramePr>
          <p:xfrm>
            <a:off x="1851120" y="3632040"/>
            <a:ext cx="609480" cy="53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51120" y="3632040"/>
                      <a:ext cx="60948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9" name=""/>
            <p:cNvGraphicFramePr/>
            <p:nvPr/>
          </p:nvGraphicFramePr>
          <p:xfrm>
            <a:off x="1376280" y="3713040"/>
            <a:ext cx="505080" cy="384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6280" y="3713040"/>
                      <a:ext cx="50508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1" name=""/>
            <p:cNvGrpSpPr/>
            <p:nvPr/>
          </p:nvGrpSpPr>
          <p:grpSpPr>
            <a:xfrm>
              <a:off x="2475000" y="3897360"/>
              <a:ext cx="301680" cy="181080"/>
              <a:chOff x="2475000" y="3897360"/>
              <a:chExt cx="301680" cy="181080"/>
            </a:xfrm>
          </p:grpSpPr>
          <p:graphicFrame>
            <p:nvGraphicFramePr>
              <p:cNvPr id="1262" name=""/>
              <p:cNvGraphicFramePr/>
              <p:nvPr/>
            </p:nvGraphicFramePr>
            <p:xfrm>
              <a:off x="2481120" y="3989520"/>
              <a:ext cx="295560" cy="88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6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481120" y="3989520"/>
                        <a:ext cx="295560" cy="88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64" name=""/>
              <p:cNvGraphicFramePr/>
              <p:nvPr/>
            </p:nvGraphicFramePr>
            <p:xfrm>
              <a:off x="2475000" y="3897360"/>
              <a:ext cx="295200" cy="87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6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75000" y="3897360"/>
                        <a:ext cx="295200" cy="8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266" name=""/>
          <p:cNvGrpSpPr/>
          <p:nvPr/>
        </p:nvGrpSpPr>
        <p:grpSpPr>
          <a:xfrm>
            <a:off x="1371600" y="1879560"/>
            <a:ext cx="1671480" cy="787320"/>
            <a:chOff x="1371600" y="1879560"/>
            <a:chExt cx="1671480" cy="787320"/>
          </a:xfrm>
        </p:grpSpPr>
        <p:graphicFrame>
          <p:nvGraphicFramePr>
            <p:cNvPr id="1267" name=""/>
            <p:cNvGraphicFramePr/>
            <p:nvPr/>
          </p:nvGraphicFramePr>
          <p:xfrm>
            <a:off x="1960560" y="1879560"/>
            <a:ext cx="577800" cy="787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60560" y="1879560"/>
                      <a:ext cx="5778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9" name=""/>
            <p:cNvGraphicFramePr/>
            <p:nvPr/>
          </p:nvGraphicFramePr>
          <p:xfrm>
            <a:off x="1371600" y="2075040"/>
            <a:ext cx="577800" cy="561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71600" y="2075040"/>
                      <a:ext cx="5778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1" name=""/>
            <p:cNvGraphicFramePr/>
            <p:nvPr/>
          </p:nvGraphicFramePr>
          <p:xfrm>
            <a:off x="2465280" y="2401920"/>
            <a:ext cx="577800" cy="130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65280" y="2401920"/>
                      <a:ext cx="5778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"/>
            <p:cNvGraphicFramePr/>
            <p:nvPr/>
          </p:nvGraphicFramePr>
          <p:xfrm>
            <a:off x="2465280" y="2266920"/>
            <a:ext cx="577800" cy="127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7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465280" y="2266920"/>
                      <a:ext cx="577800" cy="12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75" name=""/>
          <p:cNvSpPr/>
          <p:nvPr/>
        </p:nvSpPr>
        <p:spPr>
          <a:xfrm>
            <a:off x="573120" y="2654280"/>
            <a:ext cx="3693960" cy="4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Policy Cre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1447920" y="355680"/>
            <a:ext cx="1400040" cy="538200"/>
            <a:chOff x="1447920" y="355680"/>
            <a:chExt cx="1400040" cy="538200"/>
          </a:xfrm>
        </p:grpSpPr>
        <p:graphicFrame>
          <p:nvGraphicFramePr>
            <p:cNvPr id="1277" name=""/>
            <p:cNvGraphicFramePr/>
            <p:nvPr/>
          </p:nvGraphicFramePr>
          <p:xfrm>
            <a:off x="1922400" y="355680"/>
            <a:ext cx="609840" cy="538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7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922400" y="355680"/>
                      <a:ext cx="60984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9" name=""/>
            <p:cNvGraphicFramePr/>
            <p:nvPr/>
          </p:nvGraphicFramePr>
          <p:xfrm>
            <a:off x="1447920" y="436680"/>
            <a:ext cx="504720" cy="384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8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447920" y="436680"/>
                      <a:ext cx="50472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81" name=""/>
            <p:cNvGrpSpPr/>
            <p:nvPr/>
          </p:nvGrpSpPr>
          <p:grpSpPr>
            <a:xfrm>
              <a:off x="2546280" y="620640"/>
              <a:ext cx="301680" cy="181080"/>
              <a:chOff x="2546280" y="620640"/>
              <a:chExt cx="301680" cy="181080"/>
            </a:xfrm>
          </p:grpSpPr>
          <p:graphicFrame>
            <p:nvGraphicFramePr>
              <p:cNvPr id="1282" name=""/>
              <p:cNvGraphicFramePr/>
              <p:nvPr/>
            </p:nvGraphicFramePr>
            <p:xfrm>
              <a:off x="2552760" y="712800"/>
              <a:ext cx="295200" cy="8892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283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552760" y="712800"/>
                        <a:ext cx="295200" cy="88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84" name=""/>
              <p:cNvGraphicFramePr/>
              <p:nvPr/>
            </p:nvGraphicFramePr>
            <p:xfrm>
              <a:off x="2546280" y="620640"/>
              <a:ext cx="295200" cy="8712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285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2546280" y="620640"/>
                        <a:ext cx="295200" cy="8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286" name=""/>
          <p:cNvSpPr/>
          <p:nvPr/>
        </p:nvSpPr>
        <p:spPr>
          <a:xfrm>
            <a:off x="730080" y="4194000"/>
            <a:ext cx="3384720" cy="45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ertific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7" name=""/>
          <p:cNvSpPr/>
          <p:nvPr/>
        </p:nvSpPr>
        <p:spPr>
          <a:xfrm>
            <a:off x="1905120" y="5184720"/>
            <a:ext cx="71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5838840" y="3637080"/>
            <a:ext cx="1490760" cy="596880"/>
            <a:chOff x="5838840" y="3637080"/>
            <a:chExt cx="1490760" cy="596880"/>
          </a:xfrm>
        </p:grpSpPr>
        <p:graphicFrame>
          <p:nvGraphicFramePr>
            <p:cNvPr id="1289" name=""/>
            <p:cNvGraphicFramePr/>
            <p:nvPr/>
          </p:nvGraphicFramePr>
          <p:xfrm>
            <a:off x="6345360" y="3637080"/>
            <a:ext cx="647640" cy="5968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29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345360" y="3637080"/>
                      <a:ext cx="64764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1" name=""/>
            <p:cNvGraphicFramePr/>
            <p:nvPr/>
          </p:nvGraphicFramePr>
          <p:xfrm>
            <a:off x="5838840" y="3726000"/>
            <a:ext cx="538200" cy="426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29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838840" y="3726000"/>
                      <a:ext cx="53820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93" name=""/>
            <p:cNvGrpSpPr/>
            <p:nvPr/>
          </p:nvGrpSpPr>
          <p:grpSpPr>
            <a:xfrm>
              <a:off x="7008840" y="3930480"/>
              <a:ext cx="320760" cy="201960"/>
              <a:chOff x="7008840" y="3930480"/>
              <a:chExt cx="320760" cy="201960"/>
            </a:xfrm>
          </p:grpSpPr>
          <p:graphicFrame>
            <p:nvGraphicFramePr>
              <p:cNvPr id="1294" name=""/>
              <p:cNvGraphicFramePr/>
              <p:nvPr/>
            </p:nvGraphicFramePr>
            <p:xfrm>
              <a:off x="7013520" y="4033800"/>
              <a:ext cx="316080" cy="9864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1295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7013520" y="4033800"/>
                        <a:ext cx="316080" cy="9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96" name=""/>
              <p:cNvGraphicFramePr/>
              <p:nvPr/>
            </p:nvGraphicFramePr>
            <p:xfrm>
              <a:off x="7008840" y="3930480"/>
              <a:ext cx="312840" cy="9684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1297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7008840" y="3930480"/>
                        <a:ext cx="312840" cy="9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298" name=""/>
          <p:cNvGrpSpPr/>
          <p:nvPr/>
        </p:nvGrpSpPr>
        <p:grpSpPr>
          <a:xfrm>
            <a:off x="5753160" y="1685880"/>
            <a:ext cx="1778040" cy="876240"/>
            <a:chOff x="5753160" y="1685880"/>
            <a:chExt cx="1778040" cy="876240"/>
          </a:xfrm>
        </p:grpSpPr>
        <p:graphicFrame>
          <p:nvGraphicFramePr>
            <p:cNvPr id="1299" name=""/>
            <p:cNvGraphicFramePr/>
            <p:nvPr/>
          </p:nvGraphicFramePr>
          <p:xfrm>
            <a:off x="6378480" y="1685880"/>
            <a:ext cx="612720" cy="8762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300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378480" y="1685880"/>
                      <a:ext cx="61272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1" name=""/>
            <p:cNvGraphicFramePr/>
            <p:nvPr/>
          </p:nvGraphicFramePr>
          <p:xfrm>
            <a:off x="5753160" y="1903320"/>
            <a:ext cx="614160" cy="6256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302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5753160" y="1903320"/>
                      <a:ext cx="614160" cy="62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3" name=""/>
            <p:cNvGraphicFramePr/>
            <p:nvPr/>
          </p:nvGraphicFramePr>
          <p:xfrm>
            <a:off x="6915240" y="2266920"/>
            <a:ext cx="615960" cy="14436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304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6915240" y="2266920"/>
                      <a:ext cx="6159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5" name=""/>
            <p:cNvGraphicFramePr/>
            <p:nvPr/>
          </p:nvGraphicFramePr>
          <p:xfrm>
            <a:off x="6915240" y="2117880"/>
            <a:ext cx="615960" cy="14112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306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6915240" y="2117880"/>
                      <a:ext cx="615960" cy="1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07" name=""/>
          <p:cNvSpPr/>
          <p:nvPr/>
        </p:nvSpPr>
        <p:spPr>
          <a:xfrm>
            <a:off x="5105520" y="2624040"/>
            <a:ext cx="327636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Policy Cre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8" name=""/>
          <p:cNvSpPr/>
          <p:nvPr/>
        </p:nvSpPr>
        <p:spPr>
          <a:xfrm>
            <a:off x="6378480" y="1433520"/>
            <a:ext cx="22320" cy="3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5829480" y="355680"/>
            <a:ext cx="1339560" cy="598320"/>
            <a:chOff x="5829480" y="355680"/>
            <a:chExt cx="1339560" cy="598320"/>
          </a:xfrm>
        </p:grpSpPr>
        <p:graphicFrame>
          <p:nvGraphicFramePr>
            <p:cNvPr id="1310" name=""/>
            <p:cNvGraphicFramePr/>
            <p:nvPr/>
          </p:nvGraphicFramePr>
          <p:xfrm>
            <a:off x="6269040" y="355680"/>
            <a:ext cx="647640" cy="59832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1311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6269040" y="355680"/>
                      <a:ext cx="647640" cy="59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2" name=""/>
            <p:cNvGraphicFramePr/>
            <p:nvPr/>
          </p:nvGraphicFramePr>
          <p:xfrm>
            <a:off x="5829480" y="369720"/>
            <a:ext cx="536400" cy="42732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1313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5829480" y="369720"/>
                      <a:ext cx="53640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14" name=""/>
            <p:cNvGrpSpPr/>
            <p:nvPr/>
          </p:nvGrpSpPr>
          <p:grpSpPr>
            <a:xfrm>
              <a:off x="6846840" y="573120"/>
              <a:ext cx="322200" cy="201600"/>
              <a:chOff x="6846840" y="573120"/>
              <a:chExt cx="322200" cy="201600"/>
            </a:xfrm>
          </p:grpSpPr>
          <p:graphicFrame>
            <p:nvGraphicFramePr>
              <p:cNvPr id="1315" name=""/>
              <p:cNvGraphicFramePr/>
              <p:nvPr/>
            </p:nvGraphicFramePr>
            <p:xfrm>
              <a:off x="6854760" y="676440"/>
              <a:ext cx="314280" cy="98280"/>
            </p:xfrm>
            <a:graphic>
              <a:graphicData uri="http://schemas.openxmlformats.org/presentationml/2006/ole">
                <p:oleObj r:id="rId45" spid="">
                  <p:embed/>
                  <p:pic>
                    <p:nvPicPr>
                      <p:cNvPr id="1316" name="" descr=""/>
                      <p:cNvPicPr/>
                      <p:nvPr/>
                    </p:nvPicPr>
                    <p:blipFill>
                      <a:blip r:embed="rId46"/>
                      <a:stretch/>
                    </p:blipFill>
                    <p:spPr>
                      <a:xfrm>
                        <a:off x="6854760" y="676440"/>
                        <a:ext cx="314280" cy="9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17" name=""/>
              <p:cNvGraphicFramePr/>
              <p:nvPr/>
            </p:nvGraphicFramePr>
            <p:xfrm>
              <a:off x="6846840" y="573120"/>
              <a:ext cx="314280" cy="98640"/>
            </p:xfrm>
            <a:graphic>
              <a:graphicData uri="http://schemas.openxmlformats.org/presentationml/2006/ole">
                <p:oleObj r:id="rId47" spid="">
                  <p:embed/>
                  <p:pic>
                    <p:nvPicPr>
                      <p:cNvPr id="1318" name="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6846840" y="573120"/>
                        <a:ext cx="314280" cy="9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319" name=""/>
          <p:cNvSpPr/>
          <p:nvPr/>
        </p:nvSpPr>
        <p:spPr>
          <a:xfrm>
            <a:off x="5392800" y="4260960"/>
            <a:ext cx="306540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Certific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0" name=""/>
          <p:cNvSpPr/>
          <p:nvPr/>
        </p:nvSpPr>
        <p:spPr>
          <a:xfrm>
            <a:off x="6324480" y="5133960"/>
            <a:ext cx="82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l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1" name=""/>
          <p:cNvSpPr/>
          <p:nvPr/>
        </p:nvSpPr>
        <p:spPr>
          <a:xfrm>
            <a:off x="2247840" y="31240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2" name=""/>
          <p:cNvSpPr/>
          <p:nvPr/>
        </p:nvSpPr>
        <p:spPr>
          <a:xfrm>
            <a:off x="2247840" y="47242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3" name=""/>
          <p:cNvSpPr/>
          <p:nvPr/>
        </p:nvSpPr>
        <p:spPr>
          <a:xfrm>
            <a:off x="6705720" y="31240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4" name=""/>
          <p:cNvSpPr/>
          <p:nvPr/>
        </p:nvSpPr>
        <p:spPr>
          <a:xfrm>
            <a:off x="6705720" y="47242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5" name=""/>
          <p:cNvSpPr/>
          <p:nvPr/>
        </p:nvSpPr>
        <p:spPr>
          <a:xfrm>
            <a:off x="3886200" y="1371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6" name=""/>
          <p:cNvSpPr/>
          <p:nvPr/>
        </p:nvSpPr>
        <p:spPr>
          <a:xfrm>
            <a:off x="3276720" y="2286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7" name=""/>
          <p:cNvSpPr/>
          <p:nvPr/>
        </p:nvSpPr>
        <p:spPr>
          <a:xfrm>
            <a:off x="2590920" y="33526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8" name=""/>
          <p:cNvSpPr/>
          <p:nvPr/>
        </p:nvSpPr>
        <p:spPr>
          <a:xfrm>
            <a:off x="4800600" y="965160"/>
            <a:ext cx="38480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Root Certific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9" name=""/>
          <p:cNvSpPr/>
          <p:nvPr/>
        </p:nvSpPr>
        <p:spPr>
          <a:xfrm>
            <a:off x="3505320" y="812880"/>
            <a:ext cx="2057400" cy="0"/>
          </a:xfrm>
          <a:prstGeom prst="line">
            <a:avLst/>
          </a:prstGeom>
          <a:ln w="28440">
            <a:solidFill>
              <a:srgbClr val="cc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0" name=""/>
          <p:cNvSpPr/>
          <p:nvPr/>
        </p:nvSpPr>
        <p:spPr>
          <a:xfrm>
            <a:off x="6705720" y="1371600"/>
            <a:ext cx="0" cy="30492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/>
          </p:nvPr>
        </p:nvSpPr>
        <p:spPr>
          <a:xfrm>
            <a:off x="1143000" y="220968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Rebuild infrastructure components and operations in case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of site disaste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olutions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edicated back-up site for Root CA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evels of hierarchy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ff-site storage of CA system backup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58428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Disaster Recover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ustomer Support/Technical Assistance Center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543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Provide end users and certification authorities with  technical assistance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3521160"/>
            <a:ext cx="6019920" cy="26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4/7 Telephone suppor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-mail Support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eb site documentation and form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x-back support via Enterprise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mmunication Serv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ed Ex or U.S. Postal Servi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719033" descr=""/>
          <p:cNvPicPr/>
          <p:nvPr/>
        </p:nvPicPr>
        <p:blipFill>
          <a:blip r:embed="rId1"/>
          <a:stretch/>
        </p:blipFill>
        <p:spPr>
          <a:xfrm>
            <a:off x="6705720" y="149400"/>
            <a:ext cx="2286000" cy="152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Lessons Learned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ed a complete solutio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Limit the number of CA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Mandatory user educatio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Large scale, timely dissemination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of compromise management and certificate revocation is difficul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719033" descr=""/>
          <p:cNvPicPr/>
          <p:nvPr/>
        </p:nvPicPr>
        <p:blipFill>
          <a:blip r:embed="rId1"/>
          <a:stretch/>
        </p:blipFill>
        <p:spPr>
          <a:xfrm>
            <a:off x="6705720" y="149400"/>
            <a:ext cx="2286000" cy="152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0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1536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Meaningful Audit Analysis is tough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rchive Requirements must be defined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ross Certification Operational Feasibility Unclear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ed to plan and fund Disaster Recover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ed to plan and fund Technical Assistanc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What’s next in 2000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ransition PKI to new certificate policy and practice statemen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w software support for Version 3 Certificates and V2 CRLs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nhanced access control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Implement Indirect Certificate Revocation List Authority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elected Technology - 1995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281952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V1 Jumbo x.509 certificat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ertification Authority Workstatio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ortezza hardware token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04920" y="3994200"/>
            <a:ext cx="2743200" cy="1544040"/>
            <a:chOff x="304920" y="3994200"/>
            <a:chExt cx="2743200" cy="1544040"/>
          </a:xfrm>
        </p:grpSpPr>
        <p:sp>
          <p:nvSpPr>
            <p:cNvPr id="53" name=""/>
            <p:cNvSpPr/>
            <p:nvPr/>
          </p:nvSpPr>
          <p:spPr>
            <a:xfrm>
              <a:off x="304920" y="5265720"/>
              <a:ext cx="27432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egistration  Authority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143000" y="3994200"/>
              <a:ext cx="53352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609480" y="4408560"/>
              <a:ext cx="968400" cy="813600"/>
              <a:chOff x="609480" y="4408560"/>
              <a:chExt cx="968400" cy="813600"/>
            </a:xfrm>
          </p:grpSpPr>
          <p:graphicFrame>
            <p:nvGraphicFramePr>
              <p:cNvPr id="56" name=""/>
              <p:cNvGraphicFramePr/>
              <p:nvPr/>
            </p:nvGraphicFramePr>
            <p:xfrm>
              <a:off x="609480" y="4489560"/>
              <a:ext cx="968400" cy="732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9480" y="4489560"/>
                        <a:ext cx="968400" cy="73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"/>
              <p:cNvSpPr/>
              <p:nvPr/>
            </p:nvSpPr>
            <p:spPr>
              <a:xfrm>
                <a:off x="660240" y="4408560"/>
                <a:ext cx="49860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683800" y="457200"/>
            <a:ext cx="3109680" cy="1010880"/>
            <a:chOff x="2683800" y="457200"/>
            <a:chExt cx="3109680" cy="1010880"/>
          </a:xfrm>
        </p:grpSpPr>
        <p:grpSp>
          <p:nvGrpSpPr>
            <p:cNvPr id="60" name=""/>
            <p:cNvGrpSpPr/>
            <p:nvPr/>
          </p:nvGrpSpPr>
          <p:grpSpPr>
            <a:xfrm>
              <a:off x="3581280" y="457200"/>
              <a:ext cx="1084320" cy="388800"/>
              <a:chOff x="3581280" y="457200"/>
              <a:chExt cx="1084320" cy="388800"/>
            </a:xfrm>
          </p:grpSpPr>
          <p:graphicFrame>
            <p:nvGraphicFramePr>
              <p:cNvPr id="61" name=""/>
              <p:cNvGraphicFramePr/>
              <p:nvPr/>
            </p:nvGraphicFramePr>
            <p:xfrm>
              <a:off x="3949560" y="457200"/>
              <a:ext cx="469800" cy="388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949560" y="457200"/>
                        <a:ext cx="469800" cy="38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3" name=""/>
              <p:cNvGraphicFramePr/>
              <p:nvPr/>
            </p:nvGraphicFramePr>
            <p:xfrm>
              <a:off x="3581280" y="515880"/>
              <a:ext cx="390240" cy="278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581280" y="515880"/>
                        <a:ext cx="390240" cy="27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5" name=""/>
              <p:cNvGrpSpPr/>
              <p:nvPr/>
            </p:nvGrpSpPr>
            <p:grpSpPr>
              <a:xfrm>
                <a:off x="4431960" y="648720"/>
                <a:ext cx="233640" cy="131040"/>
                <a:chOff x="4431960" y="648720"/>
                <a:chExt cx="233640" cy="131040"/>
              </a:xfrm>
            </p:grpSpPr>
            <p:graphicFrame>
              <p:nvGraphicFramePr>
                <p:cNvPr id="66" name=""/>
                <p:cNvGraphicFramePr/>
                <p:nvPr/>
              </p:nvGraphicFramePr>
              <p:xfrm>
                <a:off x="4437000" y="716040"/>
                <a:ext cx="228600" cy="637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6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4437000" y="716040"/>
                          <a:ext cx="228600" cy="6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68" name=""/>
                <p:cNvGraphicFramePr/>
                <p:nvPr/>
              </p:nvGraphicFramePr>
              <p:xfrm>
                <a:off x="4431960" y="648720"/>
                <a:ext cx="228600" cy="655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69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4431960" y="648720"/>
                          <a:ext cx="228600" cy="65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70" name=""/>
            <p:cNvSpPr/>
            <p:nvPr/>
          </p:nvSpPr>
          <p:spPr>
            <a:xfrm>
              <a:off x="2683800" y="846360"/>
              <a:ext cx="31096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olicy Approving Authority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(PAA)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362320" y="3970440"/>
            <a:ext cx="1904760" cy="2012400"/>
            <a:chOff x="2362320" y="3970440"/>
            <a:chExt cx="1904760" cy="2012400"/>
          </a:xfrm>
        </p:grpSpPr>
        <p:sp>
          <p:nvSpPr>
            <p:cNvPr id="72" name=""/>
            <p:cNvSpPr/>
            <p:nvPr/>
          </p:nvSpPr>
          <p:spPr>
            <a:xfrm>
              <a:off x="2362320" y="3993840"/>
              <a:ext cx="1371600" cy="19890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67080" y="3970440"/>
              <a:ext cx="0" cy="19364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419720" y="3924360"/>
            <a:ext cx="2743200" cy="1585440"/>
            <a:chOff x="4419720" y="3924360"/>
            <a:chExt cx="2743200" cy="1585440"/>
          </a:xfrm>
        </p:grpSpPr>
        <p:graphicFrame>
          <p:nvGraphicFramePr>
            <p:cNvPr id="75" name=""/>
            <p:cNvGraphicFramePr/>
            <p:nvPr/>
          </p:nvGraphicFramePr>
          <p:xfrm>
            <a:off x="5181480" y="4491000"/>
            <a:ext cx="968400" cy="735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81480" y="4491000"/>
                      <a:ext cx="968400" cy="73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" name=""/>
            <p:cNvSpPr/>
            <p:nvPr/>
          </p:nvSpPr>
          <p:spPr>
            <a:xfrm>
              <a:off x="5029200" y="3924360"/>
              <a:ext cx="685800" cy="5796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19720" y="5237280"/>
              <a:ext cx="27432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egistration  Authority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400800" y="3665520"/>
            <a:ext cx="2743200" cy="1568160"/>
            <a:chOff x="6400800" y="3665520"/>
            <a:chExt cx="2743200" cy="1568160"/>
          </a:xfrm>
        </p:grpSpPr>
        <p:sp>
          <p:nvSpPr>
            <p:cNvPr id="80" name=""/>
            <p:cNvSpPr/>
            <p:nvPr/>
          </p:nvSpPr>
          <p:spPr>
            <a:xfrm>
              <a:off x="6400800" y="4961160"/>
              <a:ext cx="27432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egistration  Authority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7086600" y="4243320"/>
            <a:ext cx="866880" cy="711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086600" y="4243320"/>
                      <a:ext cx="8668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7467480" y="3665520"/>
              <a:ext cx="0" cy="5796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600200" y="5319720"/>
            <a:ext cx="6324480" cy="1179000"/>
            <a:chOff x="1600200" y="5319720"/>
            <a:chExt cx="6324480" cy="1179000"/>
          </a:xfrm>
        </p:grpSpPr>
        <p:sp>
          <p:nvSpPr>
            <p:cNvPr id="85" name=""/>
            <p:cNvSpPr/>
            <p:nvPr/>
          </p:nvSpPr>
          <p:spPr>
            <a:xfrm>
              <a:off x="1600200" y="5983200"/>
              <a:ext cx="6324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                 </a:t>
              </a: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User Community</a:t>
              </a:r>
              <a:endParaRPr b="0" lang="en-US" sz="2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400800" y="5319720"/>
              <a:ext cx="1295280" cy="8283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5651280"/>
              <a:ext cx="1447560" cy="4964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2720" y="5493960"/>
              <a:ext cx="0" cy="5792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370520" y="1343160"/>
            <a:ext cx="6115680" cy="1120320"/>
            <a:chOff x="1370520" y="1343160"/>
            <a:chExt cx="6115680" cy="1120320"/>
          </a:xfrm>
        </p:grpSpPr>
        <p:sp>
          <p:nvSpPr>
            <p:cNvPr id="90" name=""/>
            <p:cNvSpPr/>
            <p:nvPr/>
          </p:nvSpPr>
          <p:spPr>
            <a:xfrm>
              <a:off x="1370520" y="2116080"/>
              <a:ext cx="2891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olicy Creation Authority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209680" y="1757520"/>
              <a:ext cx="1084320" cy="388440"/>
              <a:chOff x="2209680" y="1757520"/>
              <a:chExt cx="1084320" cy="38844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2578320" y="1757520"/>
              <a:ext cx="471240" cy="3884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578320" y="1757520"/>
                        <a:ext cx="471240" cy="38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4" name=""/>
              <p:cNvGraphicFramePr/>
              <p:nvPr/>
            </p:nvGraphicFramePr>
            <p:xfrm>
              <a:off x="2209680" y="1816200"/>
              <a:ext cx="392400" cy="2779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09680" y="1816200"/>
                        <a:ext cx="392400" cy="27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6" name=""/>
              <p:cNvGrpSpPr/>
              <p:nvPr/>
            </p:nvGrpSpPr>
            <p:grpSpPr>
              <a:xfrm>
                <a:off x="3062520" y="1947240"/>
                <a:ext cx="231480" cy="132480"/>
                <a:chOff x="3062520" y="1947240"/>
                <a:chExt cx="231480" cy="132480"/>
              </a:xfrm>
            </p:grpSpPr>
            <p:graphicFrame>
              <p:nvGraphicFramePr>
                <p:cNvPr id="97" name=""/>
                <p:cNvGraphicFramePr/>
                <p:nvPr/>
              </p:nvGraphicFramePr>
              <p:xfrm>
                <a:off x="3065400" y="2016000"/>
                <a:ext cx="228600" cy="6372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98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3065400" y="2016000"/>
                          <a:ext cx="228600" cy="6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9" name=""/>
                <p:cNvGraphicFramePr/>
                <p:nvPr/>
              </p:nvGraphicFramePr>
              <p:xfrm>
                <a:off x="3062520" y="1947240"/>
                <a:ext cx="226800" cy="6516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100" name="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3062520" y="1947240"/>
                          <a:ext cx="226800" cy="65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101" name=""/>
            <p:cNvSpPr/>
            <p:nvPr/>
          </p:nvSpPr>
          <p:spPr>
            <a:xfrm>
              <a:off x="4648320" y="1343160"/>
              <a:ext cx="76176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94680" y="2116080"/>
              <a:ext cx="2891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olicy Creation Authority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410080" y="1757520"/>
              <a:ext cx="1084320" cy="388440"/>
              <a:chOff x="5410080" y="1757520"/>
              <a:chExt cx="1084320" cy="3884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5778720" y="1757520"/>
              <a:ext cx="471240" cy="3884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5778720" y="1757520"/>
                        <a:ext cx="471240" cy="38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6" name=""/>
              <p:cNvGraphicFramePr/>
              <p:nvPr/>
            </p:nvGraphicFramePr>
            <p:xfrm>
              <a:off x="5410080" y="1816200"/>
              <a:ext cx="392400" cy="27792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5410080" y="1816200"/>
                        <a:ext cx="392400" cy="27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08" name=""/>
              <p:cNvGrpSpPr/>
              <p:nvPr/>
            </p:nvGrpSpPr>
            <p:grpSpPr>
              <a:xfrm>
                <a:off x="6262920" y="1947240"/>
                <a:ext cx="231480" cy="132480"/>
                <a:chOff x="6262920" y="1947240"/>
                <a:chExt cx="231480" cy="132480"/>
              </a:xfrm>
            </p:grpSpPr>
            <p:graphicFrame>
              <p:nvGraphicFramePr>
                <p:cNvPr id="109" name=""/>
                <p:cNvGraphicFramePr/>
                <p:nvPr/>
              </p:nvGraphicFramePr>
              <p:xfrm>
                <a:off x="6265800" y="2016000"/>
                <a:ext cx="228600" cy="63720"/>
              </p:xfrm>
              <a:graphic>
                <a:graphicData uri="http://schemas.openxmlformats.org/presentationml/2006/ole">
                  <p:oleObj r:id="rId27" spid="">
                    <p:embed/>
                    <p:pic>
                      <p:nvPicPr>
                        <p:cNvPr id="110" name="" descr=""/>
                        <p:cNvPicPr/>
                        <p:nvPr/>
                      </p:nvPicPr>
                      <p:blipFill>
                        <a:blip r:embed="rId28"/>
                        <a:stretch/>
                      </p:blipFill>
                      <p:spPr>
                        <a:xfrm>
                          <a:off x="6265800" y="2016000"/>
                          <a:ext cx="228600" cy="6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11" name=""/>
                <p:cNvGraphicFramePr/>
                <p:nvPr/>
              </p:nvGraphicFramePr>
              <p:xfrm>
                <a:off x="6262920" y="1947240"/>
                <a:ext cx="226800" cy="65160"/>
              </p:xfrm>
              <a:graphic>
                <a:graphicData uri="http://schemas.openxmlformats.org/presentationml/2006/ole">
                  <p:oleObj r:id="rId29" spid="">
                    <p:embed/>
                    <p:pic>
                      <p:nvPicPr>
                        <p:cNvPr id="112" name="" descr=""/>
                        <p:cNvPicPr/>
                        <p:nvPr/>
                      </p:nvPicPr>
                      <p:blipFill>
                        <a:blip r:embed="rId30"/>
                        <a:stretch/>
                      </p:blipFill>
                      <p:spPr>
                        <a:xfrm>
                          <a:off x="6262920" y="1947240"/>
                          <a:ext cx="226800" cy="65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113" name=""/>
            <p:cNvSpPr/>
            <p:nvPr/>
          </p:nvSpPr>
          <p:spPr>
            <a:xfrm flipH="1">
              <a:off x="3048120" y="1343160"/>
              <a:ext cx="76176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11120" y="2482920"/>
            <a:ext cx="7513560" cy="1362240"/>
            <a:chOff x="411120" y="2482920"/>
            <a:chExt cx="7513560" cy="1362240"/>
          </a:xfrm>
        </p:grpSpPr>
        <p:sp>
          <p:nvSpPr>
            <p:cNvPr id="115" name=""/>
            <p:cNvSpPr/>
            <p:nvPr/>
          </p:nvSpPr>
          <p:spPr>
            <a:xfrm flipH="1">
              <a:off x="2057040" y="2482920"/>
              <a:ext cx="76212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2482920"/>
              <a:ext cx="76176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11120" y="2941920"/>
              <a:ext cx="2255760" cy="903240"/>
              <a:chOff x="411120" y="2941920"/>
              <a:chExt cx="2255760" cy="903240"/>
            </a:xfrm>
          </p:grpSpPr>
          <p:graphicFrame>
            <p:nvGraphicFramePr>
              <p:cNvPr id="118" name=""/>
              <p:cNvGraphicFramePr/>
              <p:nvPr/>
            </p:nvGraphicFramePr>
            <p:xfrm>
              <a:off x="1630440" y="2941920"/>
              <a:ext cx="1036440" cy="67284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119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1630440" y="2941920"/>
                        <a:ext cx="1036440" cy="67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0" name=""/>
              <p:cNvSpPr/>
              <p:nvPr/>
            </p:nvSpPr>
            <p:spPr>
              <a:xfrm>
                <a:off x="411120" y="3322800"/>
                <a:ext cx="19051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Certification Authority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620800" y="2941920"/>
              <a:ext cx="2255760" cy="903240"/>
              <a:chOff x="2620800" y="2941920"/>
              <a:chExt cx="2255760" cy="903240"/>
            </a:xfrm>
          </p:grpSpPr>
          <p:graphicFrame>
            <p:nvGraphicFramePr>
              <p:cNvPr id="122" name=""/>
              <p:cNvGraphicFramePr/>
              <p:nvPr/>
            </p:nvGraphicFramePr>
            <p:xfrm>
              <a:off x="3840120" y="2941920"/>
              <a:ext cx="1036440" cy="67284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123" name="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3840120" y="2941920"/>
                        <a:ext cx="1036440" cy="67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4" name=""/>
              <p:cNvSpPr/>
              <p:nvPr/>
            </p:nvSpPr>
            <p:spPr>
              <a:xfrm>
                <a:off x="2620800" y="3322800"/>
                <a:ext cx="19051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Certification Authority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668920" y="2941920"/>
              <a:ext cx="2255760" cy="903240"/>
              <a:chOff x="5668920" y="2941920"/>
              <a:chExt cx="2255760" cy="903240"/>
            </a:xfrm>
          </p:grpSpPr>
          <p:graphicFrame>
            <p:nvGraphicFramePr>
              <p:cNvPr id="126" name=""/>
              <p:cNvGraphicFramePr/>
              <p:nvPr/>
            </p:nvGraphicFramePr>
            <p:xfrm>
              <a:off x="6888240" y="2941920"/>
              <a:ext cx="1036440" cy="67284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127" name="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6888240" y="2941920"/>
                        <a:ext cx="1036440" cy="67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8" name=""/>
              <p:cNvSpPr/>
              <p:nvPr/>
            </p:nvSpPr>
            <p:spPr>
              <a:xfrm>
                <a:off x="5668920" y="3322800"/>
                <a:ext cx="19051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Certification Authority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095880" y="2482920"/>
              <a:ext cx="76212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49200" y="2432160"/>
            <a:ext cx="6730920" cy="3689280"/>
            <a:chOff x="349200" y="2432160"/>
            <a:chExt cx="6730920" cy="3689280"/>
          </a:xfrm>
        </p:grpSpPr>
        <p:grpSp>
          <p:nvGrpSpPr>
            <p:cNvPr id="131" name=""/>
            <p:cNvGrpSpPr/>
            <p:nvPr/>
          </p:nvGrpSpPr>
          <p:grpSpPr>
            <a:xfrm>
              <a:off x="349200" y="2432160"/>
              <a:ext cx="2406600" cy="3689280"/>
              <a:chOff x="349200" y="2432160"/>
              <a:chExt cx="2406600" cy="3689280"/>
            </a:xfrm>
          </p:grpSpPr>
          <p:sp>
            <p:nvSpPr>
              <p:cNvPr id="132" name=""/>
              <p:cNvSpPr/>
              <p:nvPr/>
            </p:nvSpPr>
            <p:spPr>
              <a:xfrm>
                <a:off x="836280" y="2432160"/>
                <a:ext cx="15231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nsitive-but-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Unclassified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49200" y="2457360"/>
                <a:ext cx="2406600" cy="36640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66560" y="2978280"/>
              <a:ext cx="657720" cy="743400"/>
              <a:chOff x="466560" y="2978280"/>
              <a:chExt cx="657720" cy="743400"/>
            </a:xfrm>
          </p:grpSpPr>
          <p:sp>
            <p:nvSpPr>
              <p:cNvPr id="135" name=""/>
              <p:cNvSpPr/>
              <p:nvPr/>
            </p:nvSpPr>
            <p:spPr>
              <a:xfrm>
                <a:off x="466560" y="297828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8200" y="3430440"/>
                <a:ext cx="49824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DoD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7160" y="3054240"/>
                <a:ext cx="62676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228680" y="2978280"/>
              <a:ext cx="658440" cy="743400"/>
              <a:chOff x="1228680" y="2978280"/>
              <a:chExt cx="658440" cy="743400"/>
            </a:xfrm>
          </p:grpSpPr>
          <p:sp>
            <p:nvSpPr>
              <p:cNvPr id="139" name=""/>
              <p:cNvSpPr/>
              <p:nvPr/>
            </p:nvSpPr>
            <p:spPr>
              <a:xfrm>
                <a:off x="1228680" y="297828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99960" y="3430440"/>
                <a:ext cx="43128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CIV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260720" y="3054240"/>
                <a:ext cx="62640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25520" y="3827160"/>
              <a:ext cx="2254320" cy="1227600"/>
              <a:chOff x="425520" y="3827160"/>
              <a:chExt cx="2254320" cy="122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25520" y="3828960"/>
                <a:ext cx="2254320" cy="122580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09760" y="3827160"/>
                <a:ext cx="539640" cy="1140120"/>
                <a:chOff x="509760" y="3827160"/>
                <a:chExt cx="539640" cy="1140120"/>
              </a:xfrm>
            </p:grpSpPr>
            <p:sp>
              <p:nvSpPr>
                <p:cNvPr id="145" name=""/>
                <p:cNvSpPr/>
                <p:nvPr/>
              </p:nvSpPr>
              <p:spPr>
                <a:xfrm rot="5400000">
                  <a:off x="584280" y="3861360"/>
                  <a:ext cx="4960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eaeaea"/>
                      </a:solidFill>
                      <a:latin typeface="Arial"/>
                    </a:rPr>
                    <a:t>....</a:t>
                  </a:r>
                  <a:endParaRPr b="0" lang="en-US" sz="22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85720" y="4170240"/>
                  <a:ext cx="463680" cy="6256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7560" y="424656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09760" y="4341960"/>
                  <a:ext cx="46332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524880" y="4527720"/>
                  <a:ext cx="45684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425520" y="5143680"/>
              <a:ext cx="225432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50800" y="5305320"/>
              <a:ext cx="406440" cy="635040"/>
              <a:chOff x="550800" y="5305320"/>
              <a:chExt cx="406440" cy="635040"/>
            </a:xfrm>
          </p:grpSpPr>
          <p:sp>
            <p:nvSpPr>
              <p:cNvPr id="152" name=""/>
              <p:cNvSpPr/>
              <p:nvPr/>
            </p:nvSpPr>
            <p:spPr>
              <a:xfrm>
                <a:off x="550800" y="530532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3120" y="533088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32160" y="534348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4920" y="538812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7120" y="574992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593640" y="5456160"/>
                <a:ext cx="311400" cy="246240"/>
                <a:chOff x="593640" y="5456160"/>
                <a:chExt cx="311400" cy="2462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8112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90480" y="5537160"/>
                  <a:ext cx="2556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60" name=""/>
                <p:cNvGrpSpPr/>
                <p:nvPr/>
              </p:nvGrpSpPr>
              <p:grpSpPr>
                <a:xfrm>
                  <a:off x="660240" y="5499000"/>
                  <a:ext cx="63720" cy="136440"/>
                  <a:chOff x="660240" y="5499000"/>
                  <a:chExt cx="63720" cy="13644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662040" y="549900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8580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6024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666720" y="5530680"/>
                    <a:ext cx="57240" cy="104760"/>
                    <a:chOff x="666720" y="5530680"/>
                    <a:chExt cx="57240" cy="104760"/>
                  </a:xfrm>
                </p:grpSpPr>
                <p:grpSp>
                  <p:nvGrpSpPr>
                    <p:cNvPr id="165" name=""/>
                    <p:cNvGrpSpPr/>
                    <p:nvPr/>
                  </p:nvGrpSpPr>
                  <p:grpSpPr>
                    <a:xfrm>
                      <a:off x="666720" y="5530680"/>
                      <a:ext cx="57240" cy="104760"/>
                      <a:chOff x="666720" y="5530680"/>
                      <a:chExt cx="57240" cy="104760"/>
                    </a:xfrm>
                  </p:grpSpPr>
                  <p:grpSp>
                    <p:nvGrpSpPr>
                      <p:cNvPr id="166" name=""/>
                      <p:cNvGrpSpPr/>
                      <p:nvPr/>
                    </p:nvGrpSpPr>
                    <p:grpSpPr>
                      <a:xfrm>
                        <a:off x="666720" y="5530680"/>
                        <a:ext cx="34920" cy="103320"/>
                        <a:chOff x="666720" y="5530680"/>
                        <a:chExt cx="34920" cy="103320"/>
                      </a:xfrm>
                    </p:grpSpPr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666720" y="553068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666720" y="553572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68904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69696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67644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72" name=""/>
                <p:cNvSpPr/>
                <p:nvPr/>
              </p:nvSpPr>
              <p:spPr>
                <a:xfrm>
                  <a:off x="617400" y="5607000"/>
                  <a:ext cx="13356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593640" y="5456160"/>
                  <a:ext cx="69840" cy="174600"/>
                  <a:chOff x="593640" y="5456160"/>
                  <a:chExt cx="69840" cy="174600"/>
                </a:xfrm>
              </p:grpSpPr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93640" y="5456160"/>
                    <a:ext cx="57240" cy="65160"/>
                    <a:chOff x="593640" y="5456160"/>
                    <a:chExt cx="57240" cy="651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595440" y="545616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623880" y="54561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593640" y="5495760"/>
                      <a:ext cx="5580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600120" y="5497560"/>
                    <a:ext cx="63360" cy="133200"/>
                    <a:chOff x="600120" y="5497560"/>
                    <a:chExt cx="63360" cy="13320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600120" y="5584680"/>
                      <a:ext cx="475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00120" y="5497560"/>
                      <a:ext cx="42840" cy="112680"/>
                      <a:chOff x="600120" y="5497560"/>
                      <a:chExt cx="42840" cy="11268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01560" y="549756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60012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628560" y="5497560"/>
                      <a:ext cx="180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63648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61272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86" name=""/>
                <p:cNvSpPr/>
                <p:nvPr/>
              </p:nvSpPr>
              <p:spPr>
                <a:xfrm>
                  <a:off x="625320" y="556560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71400" y="56116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620640" y="5513400"/>
                  <a:ext cx="65160" cy="68400"/>
                  <a:chOff x="620640" y="5513400"/>
                  <a:chExt cx="65160" cy="684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20640" y="55134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55560" y="5513400"/>
                    <a:ext cx="302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20640" y="5556240"/>
                    <a:ext cx="651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628560" y="5557680"/>
                  <a:ext cx="69840" cy="144720"/>
                  <a:chOff x="628560" y="5557680"/>
                  <a:chExt cx="69840" cy="14472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628560" y="5557680"/>
                    <a:ext cx="49320" cy="142920"/>
                    <a:chOff x="628560" y="5557680"/>
                    <a:chExt cx="49320" cy="142920"/>
                  </a:xfrm>
                </p:grpSpPr>
                <p:grpSp>
                  <p:nvGrpSpPr>
                    <p:cNvPr id="194" name=""/>
                    <p:cNvGrpSpPr/>
                    <p:nvPr/>
                  </p:nvGrpSpPr>
                  <p:grpSpPr>
                    <a:xfrm>
                      <a:off x="628560" y="5557680"/>
                      <a:ext cx="49320" cy="142920"/>
                      <a:chOff x="628560" y="5557680"/>
                      <a:chExt cx="49320" cy="142920"/>
                    </a:xfrm>
                  </p:grpSpPr>
                  <p:sp>
                    <p:nvSpPr>
                      <p:cNvPr id="195" name=""/>
                      <p:cNvSpPr/>
                      <p:nvPr/>
                    </p:nvSpPr>
                    <p:spPr>
                      <a:xfrm>
                        <a:off x="628560" y="555768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628560" y="5565600"/>
                        <a:ext cx="493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64296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98" name=""/>
                  <p:cNvSpPr/>
                  <p:nvPr/>
                </p:nvSpPr>
                <p:spPr>
                  <a:xfrm>
                    <a:off x="662040" y="555768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71400" y="555948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598320" y="5503680"/>
                  <a:ext cx="57240" cy="27000"/>
                  <a:chOff x="598320" y="5503680"/>
                  <a:chExt cx="57240" cy="2700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598320" y="5503680"/>
                    <a:ext cx="55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5556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74628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90560" y="5537160"/>
                  <a:ext cx="2556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789120" y="5499000"/>
                  <a:ext cx="54000" cy="136440"/>
                  <a:chOff x="789120" y="5499000"/>
                  <a:chExt cx="54000" cy="1364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789120" y="549900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8912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8912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795240" y="5530680"/>
                    <a:ext cx="47880" cy="104760"/>
                    <a:chOff x="795240" y="5530680"/>
                    <a:chExt cx="47880" cy="104760"/>
                  </a:xfrm>
                </p:grpSpPr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795240" y="5530680"/>
                      <a:ext cx="36720" cy="104760"/>
                      <a:chOff x="795240" y="5530680"/>
                      <a:chExt cx="36720" cy="104760"/>
                    </a:xfrm>
                  </p:grpSpPr>
                  <p:grpSp>
                    <p:nvGrpSpPr>
                      <p:cNvPr id="211" name=""/>
                      <p:cNvGrpSpPr/>
                      <p:nvPr/>
                    </p:nvGrpSpPr>
                    <p:grpSpPr>
                      <a:xfrm>
                        <a:off x="795240" y="5530680"/>
                        <a:ext cx="33480" cy="103320"/>
                        <a:chOff x="795240" y="5530680"/>
                        <a:chExt cx="33480" cy="103320"/>
                      </a:xfrm>
                    </p:grpSpPr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795240" y="5530680"/>
                          <a:ext cx="3348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795240" y="5535720"/>
                          <a:ext cx="3348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80496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79704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81612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217" name=""/>
                <p:cNvSpPr/>
                <p:nvPr/>
              </p:nvSpPr>
              <p:spPr>
                <a:xfrm>
                  <a:off x="746280" y="560700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846000" y="5456160"/>
                  <a:ext cx="59040" cy="174600"/>
                  <a:chOff x="846000" y="5456160"/>
                  <a:chExt cx="59040" cy="17460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846000" y="5456160"/>
                    <a:ext cx="57240" cy="65160"/>
                    <a:chOff x="846000" y="5456160"/>
                    <a:chExt cx="57240" cy="6516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847800" y="545616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847800" y="54561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846000" y="5495760"/>
                      <a:ext cx="5580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849240" y="5497560"/>
                    <a:ext cx="55800" cy="133200"/>
                    <a:chOff x="849240" y="5497560"/>
                    <a:chExt cx="55800" cy="13320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849240" y="558468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225" name=""/>
                    <p:cNvGrpSpPr/>
                    <p:nvPr/>
                  </p:nvGrpSpPr>
                  <p:grpSpPr>
                    <a:xfrm>
                      <a:off x="853920" y="5497560"/>
                      <a:ext cx="41400" cy="112680"/>
                      <a:chOff x="853920" y="5497560"/>
                      <a:chExt cx="41400" cy="112680"/>
                    </a:xfrm>
                  </p:grpSpPr>
                  <p:sp>
                    <p:nvSpPr>
                      <p:cNvPr id="226" name=""/>
                      <p:cNvSpPr/>
                      <p:nvPr/>
                    </p:nvSpPr>
                    <p:spPr>
                      <a:xfrm>
                        <a:off x="853920" y="549756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85392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866880" y="549756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85716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87804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868320" y="556560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16120" y="561168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809640" y="5513400"/>
                  <a:ext cx="66600" cy="68400"/>
                  <a:chOff x="809640" y="5513400"/>
                  <a:chExt cx="66600" cy="684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811080" y="55134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811080" y="5513400"/>
                    <a:ext cx="32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9640" y="5556240"/>
                    <a:ext cx="651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17560" y="5557680"/>
                  <a:ext cx="57240" cy="144720"/>
                  <a:chOff x="817560" y="5557680"/>
                  <a:chExt cx="57240" cy="144720"/>
                </a:xfrm>
              </p:grpSpPr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817560" y="5557680"/>
                    <a:ext cx="57240" cy="142920"/>
                    <a:chOff x="817560" y="5557680"/>
                    <a:chExt cx="57240" cy="142920"/>
                  </a:xfrm>
                </p:grpSpPr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817560" y="5557680"/>
                      <a:ext cx="49320" cy="142920"/>
                      <a:chOff x="817560" y="5557680"/>
                      <a:chExt cx="49320" cy="14292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817560" y="555768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819000" y="5565600"/>
                        <a:ext cx="4788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84780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43" name=""/>
                  <p:cNvSpPr/>
                  <p:nvPr/>
                </p:nvSpPr>
                <p:spPr>
                  <a:xfrm>
                    <a:off x="835200" y="555768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824040" y="5559480"/>
                    <a:ext cx="14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787320" y="5503680"/>
                  <a:ext cx="57240" cy="27000"/>
                  <a:chOff x="787320" y="5503680"/>
                  <a:chExt cx="57240" cy="270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787320" y="5503680"/>
                    <a:ext cx="55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84456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248" name=""/>
            <p:cNvGrpSpPr/>
            <p:nvPr/>
          </p:nvGrpSpPr>
          <p:grpSpPr>
            <a:xfrm>
              <a:off x="1328760" y="3827160"/>
              <a:ext cx="539640" cy="1140120"/>
              <a:chOff x="1328760" y="3827160"/>
              <a:chExt cx="539640" cy="1140120"/>
            </a:xfrm>
          </p:grpSpPr>
          <p:sp>
            <p:nvSpPr>
              <p:cNvPr id="249" name=""/>
              <p:cNvSpPr/>
              <p:nvPr/>
            </p:nvSpPr>
            <p:spPr>
              <a:xfrm rot="5400000">
                <a:off x="1384200" y="386136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05080" y="4170240"/>
                <a:ext cx="46332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66920" y="424656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28760" y="43419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1344600" y="453060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351080" y="5315040"/>
              <a:ext cx="406440" cy="635040"/>
              <a:chOff x="1351080" y="5315040"/>
              <a:chExt cx="406440" cy="635040"/>
            </a:xfrm>
          </p:grpSpPr>
          <p:sp>
            <p:nvSpPr>
              <p:cNvPr id="255" name=""/>
              <p:cNvSpPr/>
              <p:nvPr/>
            </p:nvSpPr>
            <p:spPr>
              <a:xfrm>
                <a:off x="1351080" y="531504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73040" y="5340240"/>
                <a:ext cx="35892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32080" y="535320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65200" y="539748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427040" y="575928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81040" y="554040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490760" y="554688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1460520" y="5508720"/>
                <a:ext cx="63360" cy="136440"/>
                <a:chOff x="1460520" y="5508720"/>
                <a:chExt cx="63360" cy="1364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461960" y="550872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14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22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486080" y="5508720"/>
                  <a:ext cx="2664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0"/>
                      </a:moveTo>
                      <a:lnTo>
                        <a:pt x="8" y="13"/>
                      </a:lnTo>
                      <a:lnTo>
                        <a:pt x="16" y="19"/>
                      </a:lnTo>
                      <a:lnTo>
                        <a:pt x="11" y="19"/>
                      </a:lnTo>
                      <a:lnTo>
                        <a:pt x="6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460520" y="5538600"/>
                  <a:ext cx="4608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1467000" y="5540400"/>
                  <a:ext cx="56880" cy="104760"/>
                  <a:chOff x="1467000" y="5540400"/>
                  <a:chExt cx="56880" cy="104760"/>
                </a:xfrm>
              </p:grpSpPr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1467000" y="5540400"/>
                    <a:ext cx="56880" cy="104760"/>
                    <a:chOff x="1467000" y="5540400"/>
                    <a:chExt cx="56880" cy="104760"/>
                  </a:xfrm>
                </p:grpSpPr>
                <p:grpSp>
                  <p:nvGrpSpPr>
                    <p:cNvPr id="268" name=""/>
                    <p:cNvGrpSpPr/>
                    <p:nvPr/>
                  </p:nvGrpSpPr>
                  <p:grpSpPr>
                    <a:xfrm>
                      <a:off x="1467000" y="5540400"/>
                      <a:ext cx="34920" cy="103320"/>
                      <a:chOff x="1467000" y="5540400"/>
                      <a:chExt cx="34920" cy="103320"/>
                    </a:xfrm>
                  </p:grpSpPr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1467000" y="5540400"/>
                        <a:ext cx="3492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1467000" y="5545080"/>
                        <a:ext cx="3492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488960" y="5540400"/>
                      <a:ext cx="270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5"/>
                          </a:lnTo>
                          <a:lnTo>
                            <a:pt x="0" y="6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1496880" y="554184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4"/>
                          </a:lnTo>
                          <a:lnTo>
                            <a:pt x="0" y="6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73" name=""/>
                  <p:cNvSpPr/>
                  <p:nvPr/>
                </p:nvSpPr>
                <p:spPr>
                  <a:xfrm>
                    <a:off x="1476360" y="5559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274" name=""/>
              <p:cNvSpPr/>
              <p:nvPr/>
            </p:nvSpPr>
            <p:spPr>
              <a:xfrm>
                <a:off x="1417680" y="5616720"/>
                <a:ext cx="13320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0" y="3"/>
                    </a:moveTo>
                    <a:lnTo>
                      <a:pt x="43" y="3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7" y="3"/>
                    </a:lnTo>
                    <a:lnTo>
                      <a:pt x="80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1393920" y="5465880"/>
                <a:ext cx="69840" cy="174600"/>
                <a:chOff x="1393920" y="5465880"/>
                <a:chExt cx="69840" cy="17460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393920" y="5465880"/>
                  <a:ext cx="56880" cy="64800"/>
                  <a:chOff x="1393920" y="5465880"/>
                  <a:chExt cx="56880" cy="648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1395360" y="5465880"/>
                    <a:ext cx="55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9" y="18"/>
                        </a:lnTo>
                        <a:lnTo>
                          <a:pt x="0" y="26"/>
                        </a:lnTo>
                        <a:lnTo>
                          <a:pt x="34" y="26"/>
                        </a:lnTo>
                        <a:lnTo>
                          <a:pt x="26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424160" y="5465880"/>
                    <a:ext cx="266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0" y="0"/>
                        </a:moveTo>
                        <a:lnTo>
                          <a:pt x="8" y="18"/>
                        </a:lnTo>
                        <a:lnTo>
                          <a:pt x="16" y="26"/>
                        </a:lnTo>
                        <a:lnTo>
                          <a:pt x="11" y="26"/>
                        </a:lnTo>
                        <a:lnTo>
                          <a:pt x="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393920" y="5505480"/>
                    <a:ext cx="5544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1400040" y="5506920"/>
                  <a:ext cx="63720" cy="133560"/>
                  <a:chOff x="1400040" y="5506920"/>
                  <a:chExt cx="63720" cy="13356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1400040" y="5594400"/>
                    <a:ext cx="4788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1400040" y="5506920"/>
                    <a:ext cx="42840" cy="112680"/>
                    <a:chOff x="1400040" y="5506920"/>
                    <a:chExt cx="42840" cy="11268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1401840" y="5506920"/>
                      <a:ext cx="4104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1400040" y="5513400"/>
                      <a:ext cx="4140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85" name=""/>
                  <p:cNvSpPr/>
                  <p:nvPr/>
                </p:nvSpPr>
                <p:spPr>
                  <a:xfrm>
                    <a:off x="1428840" y="5506920"/>
                    <a:ext cx="14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436760" y="550872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70"/>
                        </a:lnTo>
                        <a:lnTo>
                          <a:pt x="0" y="7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413000" y="5532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1425600" y="5575320"/>
                <a:ext cx="2520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71680" y="5621400"/>
                <a:ext cx="2520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1420920" y="5522760"/>
                <a:ext cx="65160" cy="68400"/>
                <a:chOff x="1420920" y="5522760"/>
                <a:chExt cx="65160" cy="684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420920" y="552276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21" y="0"/>
                      </a:moveTo>
                      <a:lnTo>
                        <a:pt x="10" y="20"/>
                      </a:lnTo>
                      <a:lnTo>
                        <a:pt x="0" y="28"/>
                      </a:lnTo>
                      <a:lnTo>
                        <a:pt x="40" y="28"/>
                      </a:lnTo>
                      <a:lnTo>
                        <a:pt x="30" y="19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455840" y="5522760"/>
                  <a:ext cx="30240" cy="46080"/>
                </a:xfrm>
                <a:custGeom>
                  <a:avLst/>
                  <a:gdLst/>
                  <a:ahLst/>
                  <a:rect l="l" t="t" r="r" b="b"/>
                  <a:pathLst>
                    <a:path w="19" h="29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18" y="28"/>
                      </a:lnTo>
                      <a:lnTo>
                        <a:pt x="13" y="28"/>
                      </a:lnTo>
                      <a:lnTo>
                        <a:pt x="7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420920" y="5565600"/>
                  <a:ext cx="6516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428840" y="5567400"/>
                <a:ext cx="69840" cy="144360"/>
                <a:chOff x="1428840" y="5567400"/>
                <a:chExt cx="69840" cy="14436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1428840" y="5567400"/>
                  <a:ext cx="48960" cy="142920"/>
                  <a:chOff x="1428840" y="5567400"/>
                  <a:chExt cx="48960" cy="142920"/>
                </a:xfrm>
              </p:grpSpPr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1428840" y="5567400"/>
                    <a:ext cx="48960" cy="142920"/>
                    <a:chOff x="1428840" y="5567400"/>
                    <a:chExt cx="48960" cy="14292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1428840" y="5567400"/>
                      <a:ext cx="48960" cy="25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1428840" y="5575320"/>
                      <a:ext cx="4896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99" name=""/>
                  <p:cNvSpPr/>
                  <p:nvPr/>
                </p:nvSpPr>
                <p:spPr>
                  <a:xfrm>
                    <a:off x="1442880" y="5594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3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1461960" y="5567400"/>
                  <a:ext cx="180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471680" y="5568840"/>
                  <a:ext cx="27000" cy="142920"/>
                </a:xfrm>
                <a:custGeom>
                  <a:avLst/>
                  <a:gdLst/>
                  <a:ahLst/>
                  <a:rect l="l" t="t" r="r" b="b"/>
                  <a:pathLst>
                    <a:path w="17" h="90">
                      <a:moveTo>
                        <a:pt x="0" y="0"/>
                      </a:moveTo>
                      <a:lnTo>
                        <a:pt x="16" y="1"/>
                      </a:lnTo>
                      <a:lnTo>
                        <a:pt x="16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1398600" y="5513400"/>
                <a:ext cx="57240" cy="27000"/>
                <a:chOff x="1398600" y="5513400"/>
                <a:chExt cx="57240" cy="270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398600" y="5513400"/>
                  <a:ext cx="5544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455840" y="55134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1546200" y="554040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4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43" y="58"/>
                    </a:lnTo>
                    <a:lnTo>
                      <a:pt x="43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590840" y="554688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1589040" y="5508720"/>
                <a:ext cx="54000" cy="136440"/>
                <a:chOff x="1589040" y="5508720"/>
                <a:chExt cx="54000" cy="1364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1589040" y="5508720"/>
                  <a:ext cx="47520" cy="31680"/>
                </a:xfrm>
                <a:custGeom>
                  <a:avLst/>
                  <a:gdLst/>
                  <a:ahLst/>
                  <a:rect l="l" t="t" r="r" b="b"/>
                  <a:pathLst>
                    <a:path w="30" h="20">
                      <a:moveTo>
                        <a:pt x="14" y="0"/>
                      </a:moveTo>
                      <a:lnTo>
                        <a:pt x="22" y="13"/>
                      </a:lnTo>
                      <a:lnTo>
                        <a:pt x="29" y="19"/>
                      </a:lnTo>
                      <a:lnTo>
                        <a:pt x="0" y="19"/>
                      </a:lnTo>
                      <a:lnTo>
                        <a:pt x="7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589040" y="55087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6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4" y="19"/>
                      </a:lnTo>
                      <a:lnTo>
                        <a:pt x="9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589040" y="5538600"/>
                  <a:ext cx="4608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1595520" y="5540400"/>
                  <a:ext cx="47520" cy="104760"/>
                  <a:chOff x="1595520" y="5540400"/>
                  <a:chExt cx="47520" cy="10476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1595520" y="5540400"/>
                    <a:ext cx="36360" cy="104760"/>
                    <a:chOff x="1595520" y="5540400"/>
                    <a:chExt cx="36360" cy="10476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1595520" y="5540400"/>
                      <a:ext cx="33120" cy="103320"/>
                      <a:chOff x="1595520" y="5540400"/>
                      <a:chExt cx="33120" cy="10332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1595520" y="5540400"/>
                        <a:ext cx="3312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1595520" y="5545080"/>
                        <a:ext cx="3312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1604880" y="5540400"/>
                      <a:ext cx="270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5"/>
                          </a:lnTo>
                          <a:lnTo>
                            <a:pt x="16" y="65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1596960" y="554184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4"/>
                          </a:lnTo>
                          <a:lnTo>
                            <a:pt x="16" y="6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18" name=""/>
                  <p:cNvSpPr/>
                  <p:nvPr/>
                </p:nvSpPr>
                <p:spPr>
                  <a:xfrm>
                    <a:off x="1616040" y="5559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19" name=""/>
              <p:cNvSpPr/>
              <p:nvPr/>
            </p:nvSpPr>
            <p:spPr>
              <a:xfrm>
                <a:off x="1546200" y="5616720"/>
                <a:ext cx="13320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8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83" y="58"/>
                    </a:lnTo>
                    <a:lnTo>
                      <a:pt x="83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1646280" y="5465880"/>
                <a:ext cx="58680" cy="174600"/>
                <a:chOff x="1646280" y="5465880"/>
                <a:chExt cx="58680" cy="174600"/>
              </a:xfrm>
            </p:grpSpPr>
            <p:grpSp>
              <p:nvGrpSpPr>
                <p:cNvPr id="321" name=""/>
                <p:cNvGrpSpPr/>
                <p:nvPr/>
              </p:nvGrpSpPr>
              <p:grpSpPr>
                <a:xfrm>
                  <a:off x="1646280" y="5465880"/>
                  <a:ext cx="57240" cy="64800"/>
                  <a:chOff x="1646280" y="5465880"/>
                  <a:chExt cx="57240" cy="648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1647720" y="5465880"/>
                    <a:ext cx="558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26" y="18"/>
                        </a:lnTo>
                        <a:lnTo>
                          <a:pt x="34" y="26"/>
                        </a:lnTo>
                        <a:lnTo>
                          <a:pt x="0" y="26"/>
                        </a:lnTo>
                        <a:lnTo>
                          <a:pt x="8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1647720" y="5465880"/>
                    <a:ext cx="270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16" y="0"/>
                        </a:moveTo>
                        <a:lnTo>
                          <a:pt x="7" y="18"/>
                        </a:lnTo>
                        <a:lnTo>
                          <a:pt x="0" y="26"/>
                        </a:lnTo>
                        <a:lnTo>
                          <a:pt x="5" y="26"/>
                        </a:lnTo>
                        <a:lnTo>
                          <a:pt x="10" y="19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1646280" y="5505480"/>
                    <a:ext cx="5544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1649520" y="5506920"/>
                  <a:ext cx="55440" cy="133560"/>
                  <a:chOff x="1649520" y="5506920"/>
                  <a:chExt cx="55440" cy="133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1649520" y="5594400"/>
                    <a:ext cx="4608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1654200" y="5506920"/>
                    <a:ext cx="41400" cy="112680"/>
                    <a:chOff x="1654200" y="5506920"/>
                    <a:chExt cx="41400" cy="11268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1654200" y="5506920"/>
                      <a:ext cx="4140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1654200" y="5513400"/>
                      <a:ext cx="4140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30" name=""/>
                  <p:cNvSpPr/>
                  <p:nvPr/>
                </p:nvSpPr>
                <p:spPr>
                  <a:xfrm>
                    <a:off x="1666800" y="5506920"/>
                    <a:ext cx="18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657440" y="550872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70"/>
                        </a:lnTo>
                        <a:lnTo>
                          <a:pt x="16" y="7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1677960" y="5532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3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33" name=""/>
              <p:cNvSpPr/>
              <p:nvPr/>
            </p:nvSpPr>
            <p:spPr>
              <a:xfrm>
                <a:off x="1668600" y="5575320"/>
                <a:ext cx="2520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16040" y="5621400"/>
                <a:ext cx="2556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1609560" y="5522760"/>
                <a:ext cx="66960" cy="68400"/>
                <a:chOff x="1609560" y="5522760"/>
                <a:chExt cx="66960" cy="684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611360" y="552276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19" y="0"/>
                      </a:moveTo>
                      <a:lnTo>
                        <a:pt x="30" y="20"/>
                      </a:lnTo>
                      <a:lnTo>
                        <a:pt x="40" y="28"/>
                      </a:lnTo>
                      <a:lnTo>
                        <a:pt x="0" y="28"/>
                      </a:lnTo>
                      <a:lnTo>
                        <a:pt x="10" y="19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611360" y="5522760"/>
                  <a:ext cx="31680" cy="4608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19" y="0"/>
                      </a:moveTo>
                      <a:lnTo>
                        <a:pt x="9" y="19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12" y="2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609560" y="5565600"/>
                  <a:ext cx="6516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1617840" y="5567400"/>
                <a:ext cx="56880" cy="144360"/>
                <a:chOff x="1617840" y="5567400"/>
                <a:chExt cx="56880" cy="144360"/>
              </a:xfrm>
            </p:grpSpPr>
            <p:grpSp>
              <p:nvGrpSpPr>
                <p:cNvPr id="340" name=""/>
                <p:cNvGrpSpPr/>
                <p:nvPr/>
              </p:nvGrpSpPr>
              <p:grpSpPr>
                <a:xfrm>
                  <a:off x="1617840" y="5567400"/>
                  <a:ext cx="56880" cy="142920"/>
                  <a:chOff x="1617840" y="5567400"/>
                  <a:chExt cx="56880" cy="142920"/>
                </a:xfrm>
              </p:grpSpPr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1617840" y="5567400"/>
                    <a:ext cx="48960" cy="142920"/>
                    <a:chOff x="1617840" y="5567400"/>
                    <a:chExt cx="48960" cy="14292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1617840" y="5567400"/>
                      <a:ext cx="48960" cy="25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1619280" y="5575320"/>
                      <a:ext cx="4752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1647720" y="5594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2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1635120" y="5567400"/>
                  <a:ext cx="144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623960" y="5568840"/>
                  <a:ext cx="1800" cy="142920"/>
                </a:xfrm>
                <a:custGeom>
                  <a:avLst/>
                  <a:gdLst/>
                  <a:ahLst/>
                  <a:rect l="l" t="t" r="r" b="b"/>
                  <a:pathLst>
                    <a:path w="1" h="9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1587600" y="5513400"/>
                <a:ext cx="56880" cy="27000"/>
                <a:chOff x="1587600" y="5513400"/>
                <a:chExt cx="56880" cy="270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587600" y="5513400"/>
                  <a:ext cx="5544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644480" y="55134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071800" y="3827160"/>
              <a:ext cx="545760" cy="1140120"/>
              <a:chOff x="2071800" y="3827160"/>
              <a:chExt cx="545760" cy="1140120"/>
            </a:xfrm>
          </p:grpSpPr>
          <p:sp>
            <p:nvSpPr>
              <p:cNvPr id="351" name=""/>
              <p:cNvSpPr/>
              <p:nvPr/>
            </p:nvSpPr>
            <p:spPr>
              <a:xfrm rot="5400000">
                <a:off x="2155680" y="386136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147760" y="4170240"/>
                <a:ext cx="46368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109960" y="424656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71800" y="434196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2087640" y="452268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2103480" y="5295960"/>
              <a:ext cx="406440" cy="635040"/>
              <a:chOff x="2103480" y="5295960"/>
              <a:chExt cx="406440" cy="635040"/>
            </a:xfrm>
          </p:grpSpPr>
          <p:sp>
            <p:nvSpPr>
              <p:cNvPr id="357" name=""/>
              <p:cNvSpPr/>
              <p:nvPr/>
            </p:nvSpPr>
            <p:spPr>
              <a:xfrm>
                <a:off x="2103480" y="529596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125800" y="5321160"/>
                <a:ext cx="35856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184480" y="533412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17600" y="537840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79800" y="5740560"/>
                <a:ext cx="24264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33440" y="5521320"/>
                <a:ext cx="7020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243160" y="552780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212920" y="5489640"/>
                <a:ext cx="63720" cy="136440"/>
                <a:chOff x="2212920" y="5489640"/>
                <a:chExt cx="63720" cy="13644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214720" y="5489640"/>
                  <a:ext cx="4572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14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22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238480" y="548964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0"/>
                      </a:moveTo>
                      <a:lnTo>
                        <a:pt x="8" y="13"/>
                      </a:lnTo>
                      <a:lnTo>
                        <a:pt x="16" y="19"/>
                      </a:lnTo>
                      <a:lnTo>
                        <a:pt x="11" y="19"/>
                      </a:lnTo>
                      <a:lnTo>
                        <a:pt x="6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212920" y="5519880"/>
                  <a:ext cx="4608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2219400" y="5521320"/>
                  <a:ext cx="57240" cy="104760"/>
                  <a:chOff x="2219400" y="5521320"/>
                  <a:chExt cx="57240" cy="104760"/>
                </a:xfrm>
              </p:grpSpPr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2219400" y="5521320"/>
                    <a:ext cx="57240" cy="104760"/>
                    <a:chOff x="2219400" y="5521320"/>
                    <a:chExt cx="57240" cy="104760"/>
                  </a:xfrm>
                </p:grpSpPr>
                <p:grpSp>
                  <p:nvGrpSpPr>
                    <p:cNvPr id="370" name=""/>
                    <p:cNvGrpSpPr/>
                    <p:nvPr/>
                  </p:nvGrpSpPr>
                  <p:grpSpPr>
                    <a:xfrm>
                      <a:off x="2219400" y="5521320"/>
                      <a:ext cx="34920" cy="103320"/>
                      <a:chOff x="2219400" y="5521320"/>
                      <a:chExt cx="34920" cy="103320"/>
                    </a:xfrm>
                  </p:grpSpPr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2219400" y="5521320"/>
                        <a:ext cx="3492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2219400" y="5526000"/>
                        <a:ext cx="3492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2241720" y="5521320"/>
                      <a:ext cx="2664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5"/>
                          </a:lnTo>
                          <a:lnTo>
                            <a:pt x="0" y="6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2249640" y="552276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4"/>
                          </a:lnTo>
                          <a:lnTo>
                            <a:pt x="0" y="6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75" name=""/>
                  <p:cNvSpPr/>
                  <p:nvPr/>
                </p:nvSpPr>
                <p:spPr>
                  <a:xfrm>
                    <a:off x="2228760" y="5540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76" name=""/>
              <p:cNvSpPr/>
              <p:nvPr/>
            </p:nvSpPr>
            <p:spPr>
              <a:xfrm>
                <a:off x="2170080" y="5597640"/>
                <a:ext cx="13356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0" y="3"/>
                    </a:moveTo>
                    <a:lnTo>
                      <a:pt x="43" y="3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7" y="3"/>
                    </a:lnTo>
                    <a:lnTo>
                      <a:pt x="80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2146320" y="5446800"/>
                <a:ext cx="69840" cy="174600"/>
                <a:chOff x="2146320" y="5446800"/>
                <a:chExt cx="69840" cy="17460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2146320" y="5446800"/>
                  <a:ext cx="57240" cy="65160"/>
                  <a:chOff x="2146320" y="5446800"/>
                  <a:chExt cx="57240" cy="6516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2147760" y="5446800"/>
                    <a:ext cx="558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9" y="18"/>
                        </a:lnTo>
                        <a:lnTo>
                          <a:pt x="0" y="26"/>
                        </a:lnTo>
                        <a:lnTo>
                          <a:pt x="34" y="26"/>
                        </a:lnTo>
                        <a:lnTo>
                          <a:pt x="26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176560" y="5446800"/>
                    <a:ext cx="270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0" y="0"/>
                        </a:moveTo>
                        <a:lnTo>
                          <a:pt x="8" y="18"/>
                        </a:lnTo>
                        <a:lnTo>
                          <a:pt x="16" y="26"/>
                        </a:lnTo>
                        <a:lnTo>
                          <a:pt x="11" y="26"/>
                        </a:lnTo>
                        <a:lnTo>
                          <a:pt x="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46320" y="5486400"/>
                    <a:ext cx="5544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2152800" y="5487840"/>
                  <a:ext cx="63360" cy="133560"/>
                  <a:chOff x="2152800" y="5487840"/>
                  <a:chExt cx="63360" cy="1335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2152800" y="5575320"/>
                    <a:ext cx="4752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2152800" y="5487840"/>
                    <a:ext cx="42840" cy="112680"/>
                    <a:chOff x="2152800" y="5487840"/>
                    <a:chExt cx="42840" cy="1126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2154240" y="5487840"/>
                      <a:ext cx="4140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2152800" y="5494320"/>
                      <a:ext cx="4104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>
                    <a:off x="2181240" y="5487840"/>
                    <a:ext cx="14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189160" y="548964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70"/>
                        </a:lnTo>
                        <a:lnTo>
                          <a:pt x="0" y="7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165400" y="5513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90" name=""/>
              <p:cNvSpPr/>
              <p:nvPr/>
            </p:nvSpPr>
            <p:spPr>
              <a:xfrm>
                <a:off x="2178000" y="5556240"/>
                <a:ext cx="2556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224080" y="5602320"/>
                <a:ext cx="2556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2173320" y="5503680"/>
                <a:ext cx="65160" cy="68400"/>
                <a:chOff x="2173320" y="5503680"/>
                <a:chExt cx="65160" cy="684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173320" y="550368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21" y="0"/>
                      </a:moveTo>
                      <a:lnTo>
                        <a:pt x="10" y="20"/>
                      </a:lnTo>
                      <a:lnTo>
                        <a:pt x="0" y="28"/>
                      </a:lnTo>
                      <a:lnTo>
                        <a:pt x="40" y="28"/>
                      </a:lnTo>
                      <a:lnTo>
                        <a:pt x="30" y="19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208240" y="5503680"/>
                  <a:ext cx="30240" cy="46080"/>
                </a:xfrm>
                <a:custGeom>
                  <a:avLst/>
                  <a:gdLst/>
                  <a:ahLst/>
                  <a:rect l="l" t="t" r="r" b="b"/>
                  <a:pathLst>
                    <a:path w="19" h="29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18" y="28"/>
                      </a:lnTo>
                      <a:lnTo>
                        <a:pt x="13" y="28"/>
                      </a:lnTo>
                      <a:lnTo>
                        <a:pt x="7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173320" y="5546880"/>
                  <a:ext cx="6516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181240" y="5548320"/>
                <a:ext cx="69840" cy="144360"/>
                <a:chOff x="2181240" y="5548320"/>
                <a:chExt cx="69840" cy="14436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2181240" y="5548320"/>
                  <a:ext cx="49320" cy="142920"/>
                  <a:chOff x="2181240" y="5548320"/>
                  <a:chExt cx="49320" cy="142920"/>
                </a:xfrm>
              </p:grpSpPr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181240" y="5548320"/>
                    <a:ext cx="49320" cy="142920"/>
                    <a:chOff x="2181240" y="5548320"/>
                    <a:chExt cx="49320" cy="14292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2181240" y="5548320"/>
                      <a:ext cx="49320" cy="255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2181240" y="5556240"/>
                      <a:ext cx="4932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01" name=""/>
                  <p:cNvSpPr/>
                  <p:nvPr/>
                </p:nvSpPr>
                <p:spPr>
                  <a:xfrm>
                    <a:off x="2195640" y="55753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3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2214720" y="5548320"/>
                  <a:ext cx="144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24080" y="5549760"/>
                  <a:ext cx="27000" cy="142920"/>
                </a:xfrm>
                <a:custGeom>
                  <a:avLst/>
                  <a:gdLst/>
                  <a:ahLst/>
                  <a:rect l="l" t="t" r="r" b="b"/>
                  <a:pathLst>
                    <a:path w="17" h="90">
                      <a:moveTo>
                        <a:pt x="0" y="0"/>
                      </a:moveTo>
                      <a:lnTo>
                        <a:pt x="16" y="1"/>
                      </a:lnTo>
                      <a:lnTo>
                        <a:pt x="16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151000" y="5494320"/>
                <a:ext cx="57240" cy="27000"/>
                <a:chOff x="2151000" y="5494320"/>
                <a:chExt cx="57240" cy="270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151000" y="5494320"/>
                  <a:ext cx="5580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08240" y="54943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2298600" y="552132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4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43" y="58"/>
                    </a:lnTo>
                    <a:lnTo>
                      <a:pt x="43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43240" y="552780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2341440" y="5489640"/>
                <a:ext cx="54000" cy="136440"/>
                <a:chOff x="2341440" y="5489640"/>
                <a:chExt cx="54000" cy="1364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2341440" y="5489640"/>
                  <a:ext cx="47880" cy="31680"/>
                </a:xfrm>
                <a:custGeom>
                  <a:avLst/>
                  <a:gdLst/>
                  <a:ahLst/>
                  <a:rect l="l" t="t" r="r" b="b"/>
                  <a:pathLst>
                    <a:path w="30" h="20">
                      <a:moveTo>
                        <a:pt x="14" y="0"/>
                      </a:moveTo>
                      <a:lnTo>
                        <a:pt x="22" y="13"/>
                      </a:lnTo>
                      <a:lnTo>
                        <a:pt x="29" y="19"/>
                      </a:lnTo>
                      <a:lnTo>
                        <a:pt x="0" y="19"/>
                      </a:lnTo>
                      <a:lnTo>
                        <a:pt x="7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341440" y="548964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6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4" y="19"/>
                      </a:lnTo>
                      <a:lnTo>
                        <a:pt x="9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341440" y="5519880"/>
                  <a:ext cx="4608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2347920" y="5521320"/>
                  <a:ext cx="47520" cy="104760"/>
                  <a:chOff x="2347920" y="5521320"/>
                  <a:chExt cx="47520" cy="104760"/>
                </a:xfrm>
              </p:grpSpPr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2347920" y="5521320"/>
                    <a:ext cx="36360" cy="104760"/>
                    <a:chOff x="2347920" y="5521320"/>
                    <a:chExt cx="36360" cy="104760"/>
                  </a:xfrm>
                </p:grpSpPr>
                <p:grpSp>
                  <p:nvGrpSpPr>
                    <p:cNvPr id="415" name=""/>
                    <p:cNvGrpSpPr/>
                    <p:nvPr/>
                  </p:nvGrpSpPr>
                  <p:grpSpPr>
                    <a:xfrm>
                      <a:off x="2347920" y="5521320"/>
                      <a:ext cx="33480" cy="103320"/>
                      <a:chOff x="2347920" y="5521320"/>
                      <a:chExt cx="33480" cy="103320"/>
                    </a:xfrm>
                  </p:grpSpPr>
                  <p:sp>
                    <p:nvSpPr>
                      <p:cNvPr id="416" name=""/>
                      <p:cNvSpPr/>
                      <p:nvPr/>
                    </p:nvSpPr>
                    <p:spPr>
                      <a:xfrm>
                        <a:off x="2347920" y="5521320"/>
                        <a:ext cx="3348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2347920" y="5526000"/>
                        <a:ext cx="3348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2357280" y="5521320"/>
                      <a:ext cx="270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5"/>
                          </a:lnTo>
                          <a:lnTo>
                            <a:pt x="16" y="65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2349360" y="552276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4"/>
                          </a:lnTo>
                          <a:lnTo>
                            <a:pt x="16" y="6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20" name=""/>
                  <p:cNvSpPr/>
                  <p:nvPr/>
                </p:nvSpPr>
                <p:spPr>
                  <a:xfrm>
                    <a:off x="2368440" y="5540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421" name=""/>
              <p:cNvSpPr/>
              <p:nvPr/>
            </p:nvSpPr>
            <p:spPr>
              <a:xfrm>
                <a:off x="2298600" y="5597640"/>
                <a:ext cx="13356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8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83" y="58"/>
                    </a:lnTo>
                    <a:lnTo>
                      <a:pt x="83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2398680" y="5446800"/>
                <a:ext cx="58680" cy="174600"/>
                <a:chOff x="2398680" y="5446800"/>
                <a:chExt cx="58680" cy="174600"/>
              </a:xfrm>
            </p:grpSpPr>
            <p:grpSp>
              <p:nvGrpSpPr>
                <p:cNvPr id="423" name=""/>
                <p:cNvGrpSpPr/>
                <p:nvPr/>
              </p:nvGrpSpPr>
              <p:grpSpPr>
                <a:xfrm>
                  <a:off x="2398680" y="5446800"/>
                  <a:ext cx="57240" cy="65160"/>
                  <a:chOff x="2398680" y="5446800"/>
                  <a:chExt cx="57240" cy="65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400480" y="5446800"/>
                    <a:ext cx="55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26" y="18"/>
                        </a:lnTo>
                        <a:lnTo>
                          <a:pt x="34" y="26"/>
                        </a:lnTo>
                        <a:lnTo>
                          <a:pt x="0" y="26"/>
                        </a:lnTo>
                        <a:lnTo>
                          <a:pt x="8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400480" y="5446800"/>
                    <a:ext cx="266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16" y="0"/>
                        </a:moveTo>
                        <a:lnTo>
                          <a:pt x="7" y="18"/>
                        </a:lnTo>
                        <a:lnTo>
                          <a:pt x="0" y="26"/>
                        </a:lnTo>
                        <a:lnTo>
                          <a:pt x="5" y="26"/>
                        </a:lnTo>
                        <a:lnTo>
                          <a:pt x="10" y="19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398680" y="5486400"/>
                    <a:ext cx="5544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2401920" y="5487840"/>
                  <a:ext cx="55440" cy="133560"/>
                  <a:chOff x="2401920" y="5487840"/>
                  <a:chExt cx="55440" cy="1335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2401920" y="5575320"/>
                    <a:ext cx="4608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2406600" y="5487840"/>
                    <a:ext cx="41400" cy="112680"/>
                    <a:chOff x="2406600" y="5487840"/>
                    <a:chExt cx="41400" cy="11268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406600" y="5487840"/>
                      <a:ext cx="4140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2406600" y="5494320"/>
                      <a:ext cx="4140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2419200" y="5487840"/>
                    <a:ext cx="18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409840" y="548964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70"/>
                        </a:lnTo>
                        <a:lnTo>
                          <a:pt x="16" y="7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430360" y="5513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3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2421000" y="5556240"/>
                <a:ext cx="2520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68440" y="5602320"/>
                <a:ext cx="2556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2362320" y="5503680"/>
                <a:ext cx="66600" cy="68400"/>
                <a:chOff x="2362320" y="5503680"/>
                <a:chExt cx="66600" cy="684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363760" y="550368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19" y="0"/>
                      </a:moveTo>
                      <a:lnTo>
                        <a:pt x="30" y="20"/>
                      </a:lnTo>
                      <a:lnTo>
                        <a:pt x="40" y="28"/>
                      </a:lnTo>
                      <a:lnTo>
                        <a:pt x="0" y="28"/>
                      </a:lnTo>
                      <a:lnTo>
                        <a:pt x="10" y="19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363760" y="5503680"/>
                  <a:ext cx="31680" cy="4608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19" y="0"/>
                      </a:moveTo>
                      <a:lnTo>
                        <a:pt x="9" y="19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12" y="2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362320" y="5546880"/>
                  <a:ext cx="6480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2370240" y="5548320"/>
                <a:ext cx="56880" cy="144360"/>
                <a:chOff x="2370240" y="5548320"/>
                <a:chExt cx="56880" cy="14436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2370240" y="5548320"/>
                  <a:ext cx="56880" cy="142920"/>
                  <a:chOff x="2370240" y="5548320"/>
                  <a:chExt cx="56880" cy="142920"/>
                </a:xfrm>
              </p:grpSpPr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2370240" y="5548320"/>
                    <a:ext cx="48960" cy="142920"/>
                    <a:chOff x="2370240" y="5548320"/>
                    <a:chExt cx="48960" cy="14292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2370240" y="5548320"/>
                      <a:ext cx="48960" cy="255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2371680" y="5556240"/>
                      <a:ext cx="4752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46" name=""/>
                  <p:cNvSpPr/>
                  <p:nvPr/>
                </p:nvSpPr>
                <p:spPr>
                  <a:xfrm>
                    <a:off x="2400480" y="5575320"/>
                    <a:ext cx="2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2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2387520" y="5548320"/>
                  <a:ext cx="180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76360" y="5549760"/>
                  <a:ext cx="1800" cy="142920"/>
                </a:xfrm>
                <a:custGeom>
                  <a:avLst/>
                  <a:gdLst/>
                  <a:ahLst/>
                  <a:rect l="l" t="t" r="r" b="b"/>
                  <a:pathLst>
                    <a:path w="1" h="9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2340000" y="5494320"/>
                <a:ext cx="57240" cy="27000"/>
                <a:chOff x="2340000" y="5494320"/>
                <a:chExt cx="57240" cy="270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2340000" y="5494320"/>
                  <a:ext cx="5544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97240" y="54943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452" name=""/>
            <p:cNvGrpSpPr/>
            <p:nvPr/>
          </p:nvGrpSpPr>
          <p:grpSpPr>
            <a:xfrm>
              <a:off x="2901960" y="2457360"/>
              <a:ext cx="2406600" cy="3664080"/>
              <a:chOff x="2901960" y="2457360"/>
              <a:chExt cx="2406600" cy="3664080"/>
            </a:xfrm>
          </p:grpSpPr>
          <p:sp>
            <p:nvSpPr>
              <p:cNvPr id="453" name=""/>
              <p:cNvSpPr/>
              <p:nvPr/>
            </p:nvSpPr>
            <p:spPr>
              <a:xfrm>
                <a:off x="3086640" y="2565360"/>
                <a:ext cx="1064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CRE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901960" y="2457360"/>
                <a:ext cx="2406600" cy="36640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019320" y="2978280"/>
              <a:ext cx="658440" cy="743400"/>
              <a:chOff x="3019320" y="2978280"/>
              <a:chExt cx="658440" cy="743400"/>
            </a:xfrm>
          </p:grpSpPr>
          <p:sp>
            <p:nvSpPr>
              <p:cNvPr id="456" name=""/>
              <p:cNvSpPr/>
              <p:nvPr/>
            </p:nvSpPr>
            <p:spPr>
              <a:xfrm>
                <a:off x="3019320" y="297828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90240" y="3430440"/>
                <a:ext cx="49824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DoD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051360" y="3052800"/>
                <a:ext cx="62640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781440" y="2978280"/>
              <a:ext cx="658440" cy="743400"/>
              <a:chOff x="3781440" y="2978280"/>
              <a:chExt cx="658440" cy="743400"/>
            </a:xfrm>
          </p:grpSpPr>
          <p:sp>
            <p:nvSpPr>
              <p:cNvPr id="460" name=""/>
              <p:cNvSpPr/>
              <p:nvPr/>
            </p:nvSpPr>
            <p:spPr>
              <a:xfrm>
                <a:off x="3781440" y="2978280"/>
                <a:ext cx="62532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52720" y="3430440"/>
                <a:ext cx="48780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CIV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813480" y="3052800"/>
                <a:ext cx="62640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</a:t>
                </a:r>
                <a:r>
                  <a:rPr b="1" lang="en-US" sz="14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2978280" y="3828960"/>
              <a:ext cx="2253960" cy="122580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3062160" y="3827160"/>
              <a:ext cx="574560" cy="1136880"/>
              <a:chOff x="3062160" y="3827160"/>
              <a:chExt cx="574560" cy="1136880"/>
            </a:xfrm>
          </p:grpSpPr>
          <p:sp>
            <p:nvSpPr>
              <p:cNvPr id="465" name=""/>
              <p:cNvSpPr/>
              <p:nvPr/>
            </p:nvSpPr>
            <p:spPr>
              <a:xfrm rot="5400000">
                <a:off x="3174840" y="386136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38480" y="41673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00320" y="4243320"/>
                <a:ext cx="46368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062160" y="433872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3077640" y="451656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881520" y="3836520"/>
              <a:ext cx="539640" cy="1127520"/>
              <a:chOff x="3881520" y="3836520"/>
              <a:chExt cx="539640" cy="1127520"/>
            </a:xfrm>
          </p:grpSpPr>
          <p:sp>
            <p:nvSpPr>
              <p:cNvPr id="471" name=""/>
              <p:cNvSpPr/>
              <p:nvPr/>
            </p:nvSpPr>
            <p:spPr>
              <a:xfrm rot="5400000">
                <a:off x="3956040" y="387072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57480" y="41673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19680" y="4243320"/>
                <a:ext cx="46332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81520" y="433872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3897360" y="451944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624560" y="3836520"/>
              <a:ext cx="564840" cy="1127520"/>
              <a:chOff x="4624560" y="3836520"/>
              <a:chExt cx="564840" cy="1127520"/>
            </a:xfrm>
          </p:grpSpPr>
          <p:sp>
            <p:nvSpPr>
              <p:cNvPr id="477" name=""/>
              <p:cNvSpPr/>
              <p:nvPr/>
            </p:nvSpPr>
            <p:spPr>
              <a:xfrm rot="5400000">
                <a:off x="4727520" y="387072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00520" y="41673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62360" y="4243320"/>
                <a:ext cx="46368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24560" y="433872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639680" y="453240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2978280" y="5143680"/>
              <a:ext cx="225396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3141720" y="5334120"/>
              <a:ext cx="406440" cy="635040"/>
              <a:chOff x="3141720" y="5334120"/>
              <a:chExt cx="406440" cy="635040"/>
            </a:xfrm>
          </p:grpSpPr>
          <p:sp>
            <p:nvSpPr>
              <p:cNvPr id="484" name=""/>
              <p:cNvSpPr/>
              <p:nvPr/>
            </p:nvSpPr>
            <p:spPr>
              <a:xfrm>
                <a:off x="3141720" y="533412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64040" y="5359320"/>
                <a:ext cx="35856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22720" y="537192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255840" y="541656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218040" y="5778360"/>
                <a:ext cx="24264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3184560" y="5484960"/>
                <a:ext cx="311040" cy="245880"/>
                <a:chOff x="3184560" y="5484960"/>
                <a:chExt cx="311040" cy="2458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271680" y="555948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281400" y="5565600"/>
                  <a:ext cx="2520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492" name=""/>
                <p:cNvGrpSpPr/>
                <p:nvPr/>
              </p:nvGrpSpPr>
              <p:grpSpPr>
                <a:xfrm>
                  <a:off x="3251160" y="5527800"/>
                  <a:ext cx="63720" cy="136440"/>
                  <a:chOff x="3251160" y="5527800"/>
                  <a:chExt cx="63720" cy="13644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3252960" y="5527800"/>
                    <a:ext cx="457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3276720" y="55278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3251160" y="555768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3257640" y="5559480"/>
                    <a:ext cx="57240" cy="104760"/>
                    <a:chOff x="3257640" y="5559480"/>
                    <a:chExt cx="57240" cy="104760"/>
                  </a:xfrm>
                </p:grpSpPr>
                <p:grpSp>
                  <p:nvGrpSpPr>
                    <p:cNvPr id="497" name=""/>
                    <p:cNvGrpSpPr/>
                    <p:nvPr/>
                  </p:nvGrpSpPr>
                  <p:grpSpPr>
                    <a:xfrm>
                      <a:off x="3257640" y="5559480"/>
                      <a:ext cx="57240" cy="104760"/>
                      <a:chOff x="3257640" y="5559480"/>
                      <a:chExt cx="57240" cy="104760"/>
                    </a:xfrm>
                  </p:grpSpPr>
                  <p:grpSp>
                    <p:nvGrpSpPr>
                      <p:cNvPr id="498" name=""/>
                      <p:cNvGrpSpPr/>
                      <p:nvPr/>
                    </p:nvGrpSpPr>
                    <p:grpSpPr>
                      <a:xfrm>
                        <a:off x="3257640" y="5559480"/>
                        <a:ext cx="34920" cy="102960"/>
                        <a:chOff x="3257640" y="5559480"/>
                        <a:chExt cx="34920" cy="102960"/>
                      </a:xfrm>
                    </p:grpSpPr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>
                          <a:off x="3257640" y="5559480"/>
                          <a:ext cx="3492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>
                          <a:off x="3257640" y="556416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501" name=""/>
                      <p:cNvSpPr/>
                      <p:nvPr/>
                    </p:nvSpPr>
                    <p:spPr>
                      <a:xfrm>
                        <a:off x="3279600" y="55594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3287880" y="5560920"/>
                        <a:ext cx="2700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3267000" y="5578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04" name=""/>
                <p:cNvSpPr/>
                <p:nvPr/>
              </p:nvSpPr>
              <p:spPr>
                <a:xfrm>
                  <a:off x="3208320" y="5635440"/>
                  <a:ext cx="133200" cy="9396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184560" y="5484960"/>
                  <a:ext cx="69840" cy="174600"/>
                  <a:chOff x="3184560" y="5484960"/>
                  <a:chExt cx="69840" cy="174600"/>
                </a:xfrm>
              </p:grpSpPr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3184560" y="5484960"/>
                    <a:ext cx="57240" cy="64800"/>
                    <a:chOff x="3184560" y="5484960"/>
                    <a:chExt cx="57240" cy="6480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3186000" y="548496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3214800" y="54849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3184560" y="5524560"/>
                      <a:ext cx="5544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3191040" y="5526000"/>
                    <a:ext cx="63360" cy="133560"/>
                    <a:chOff x="3191040" y="5526000"/>
                    <a:chExt cx="63360" cy="13356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191040" y="5613480"/>
                      <a:ext cx="475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512" name=""/>
                    <p:cNvGrpSpPr/>
                    <p:nvPr/>
                  </p:nvGrpSpPr>
                  <p:grpSpPr>
                    <a:xfrm>
                      <a:off x="3191040" y="5526000"/>
                      <a:ext cx="42840" cy="112680"/>
                      <a:chOff x="3191040" y="5526000"/>
                      <a:chExt cx="42840" cy="112680"/>
                    </a:xfrm>
                  </p:grpSpPr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3192480" y="5526000"/>
                        <a:ext cx="4140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3191040" y="5532480"/>
                        <a:ext cx="4104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219480" y="5526000"/>
                      <a:ext cx="144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227400" y="55278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203640" y="5551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18" name=""/>
                <p:cNvSpPr/>
                <p:nvPr/>
              </p:nvSpPr>
              <p:spPr>
                <a:xfrm>
                  <a:off x="3216240" y="559440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262320" y="56404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20" name=""/>
                <p:cNvGrpSpPr/>
                <p:nvPr/>
              </p:nvGrpSpPr>
              <p:grpSpPr>
                <a:xfrm>
                  <a:off x="3211560" y="5541840"/>
                  <a:ext cx="65160" cy="68400"/>
                  <a:chOff x="3211560" y="5541840"/>
                  <a:chExt cx="65160" cy="6840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3211560" y="554184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246480" y="5541840"/>
                    <a:ext cx="302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211560" y="5584680"/>
                    <a:ext cx="651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3219480" y="5586480"/>
                  <a:ext cx="69840" cy="144360"/>
                  <a:chOff x="3219480" y="5586480"/>
                  <a:chExt cx="69840" cy="14436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3219480" y="5586480"/>
                    <a:ext cx="49320" cy="142920"/>
                    <a:chOff x="3219480" y="5586480"/>
                    <a:chExt cx="49320" cy="142920"/>
                  </a:xfrm>
                </p:grpSpPr>
                <p:grpSp>
                  <p:nvGrpSpPr>
                    <p:cNvPr id="526" name=""/>
                    <p:cNvGrpSpPr/>
                    <p:nvPr/>
                  </p:nvGrpSpPr>
                  <p:grpSpPr>
                    <a:xfrm>
                      <a:off x="3219480" y="5586480"/>
                      <a:ext cx="49320" cy="142920"/>
                      <a:chOff x="3219480" y="5586480"/>
                      <a:chExt cx="49320" cy="142920"/>
                    </a:xfrm>
                  </p:grpSpPr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3219480" y="5586480"/>
                        <a:ext cx="4932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3219480" y="5594400"/>
                        <a:ext cx="493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233880" y="56134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530" name=""/>
                  <p:cNvSpPr/>
                  <p:nvPr/>
                </p:nvSpPr>
                <p:spPr>
                  <a:xfrm>
                    <a:off x="3252960" y="5586480"/>
                    <a:ext cx="14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3262320" y="558792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3189240" y="5532480"/>
                  <a:ext cx="57240" cy="27000"/>
                  <a:chOff x="3189240" y="5532480"/>
                  <a:chExt cx="57240" cy="270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>
                    <a:off x="3189240" y="55324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246480" y="55324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535" name=""/>
                <p:cNvSpPr/>
                <p:nvPr/>
              </p:nvSpPr>
              <p:spPr>
                <a:xfrm>
                  <a:off x="3336840" y="555948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81480" y="5565600"/>
                  <a:ext cx="2520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3379680" y="5527800"/>
                  <a:ext cx="54000" cy="136440"/>
                  <a:chOff x="3379680" y="5527800"/>
                  <a:chExt cx="54000" cy="13644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3379680" y="5527800"/>
                    <a:ext cx="478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3379680" y="55278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3379680" y="555768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3386160" y="5559480"/>
                    <a:ext cx="47520" cy="104760"/>
                    <a:chOff x="3386160" y="5559480"/>
                    <a:chExt cx="47520" cy="104760"/>
                  </a:xfrm>
                </p:grpSpPr>
                <p:grpSp>
                  <p:nvGrpSpPr>
                    <p:cNvPr id="542" name=""/>
                    <p:cNvGrpSpPr/>
                    <p:nvPr/>
                  </p:nvGrpSpPr>
                  <p:grpSpPr>
                    <a:xfrm>
                      <a:off x="3386160" y="5559480"/>
                      <a:ext cx="36360" cy="104760"/>
                      <a:chOff x="3386160" y="5559480"/>
                      <a:chExt cx="36360" cy="104760"/>
                    </a:xfrm>
                  </p:grpSpPr>
                  <p:grpSp>
                    <p:nvGrpSpPr>
                      <p:cNvPr id="543" name=""/>
                      <p:cNvGrpSpPr/>
                      <p:nvPr/>
                    </p:nvGrpSpPr>
                    <p:grpSpPr>
                      <a:xfrm>
                        <a:off x="3386160" y="5559480"/>
                        <a:ext cx="33480" cy="102960"/>
                        <a:chOff x="3386160" y="5559480"/>
                        <a:chExt cx="33480" cy="102960"/>
                      </a:xfrm>
                    </p:grpSpPr>
                    <p:sp>
                      <p:nvSpPr>
                        <p:cNvPr id="544" name=""/>
                        <p:cNvSpPr/>
                        <p:nvPr/>
                      </p:nvSpPr>
                      <p:spPr>
                        <a:xfrm>
                          <a:off x="3386160" y="5559480"/>
                          <a:ext cx="3348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545" name=""/>
                        <p:cNvSpPr/>
                        <p:nvPr/>
                      </p:nvSpPr>
                      <p:spPr>
                        <a:xfrm>
                          <a:off x="3386160" y="5564160"/>
                          <a:ext cx="3348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3395520" y="55594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3387600" y="5560920"/>
                        <a:ext cx="2700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3406680" y="5578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49" name=""/>
                <p:cNvSpPr/>
                <p:nvPr/>
              </p:nvSpPr>
              <p:spPr>
                <a:xfrm>
                  <a:off x="3336840" y="5635440"/>
                  <a:ext cx="133560" cy="9396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3436920" y="5484960"/>
                  <a:ext cx="58680" cy="174600"/>
                  <a:chOff x="3436920" y="5484960"/>
                  <a:chExt cx="58680" cy="174600"/>
                </a:xfrm>
              </p:grpSpPr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3436920" y="5484960"/>
                    <a:ext cx="57240" cy="64800"/>
                    <a:chOff x="3436920" y="5484960"/>
                    <a:chExt cx="57240" cy="648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3438360" y="548496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3438360" y="54849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3436920" y="5524560"/>
                      <a:ext cx="5544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3440160" y="5526000"/>
                    <a:ext cx="55440" cy="133560"/>
                    <a:chOff x="3440160" y="5526000"/>
                    <a:chExt cx="55440" cy="1335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3440160" y="561348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557" name=""/>
                    <p:cNvGrpSpPr/>
                    <p:nvPr/>
                  </p:nvGrpSpPr>
                  <p:grpSpPr>
                    <a:xfrm>
                      <a:off x="3444840" y="5526000"/>
                      <a:ext cx="41400" cy="112680"/>
                      <a:chOff x="3444840" y="5526000"/>
                      <a:chExt cx="41400" cy="112680"/>
                    </a:xfrm>
                  </p:grpSpPr>
                  <p:sp>
                    <p:nvSpPr>
                      <p:cNvPr id="558" name=""/>
                      <p:cNvSpPr/>
                      <p:nvPr/>
                    </p:nvSpPr>
                    <p:spPr>
                      <a:xfrm>
                        <a:off x="3444840" y="5526000"/>
                        <a:ext cx="4140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>
                        <a:off x="3444840" y="5532480"/>
                        <a:ext cx="4140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3457440" y="5526000"/>
                      <a:ext cx="180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3448080" y="55278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3468600" y="5551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63" name=""/>
                <p:cNvSpPr/>
                <p:nvPr/>
              </p:nvSpPr>
              <p:spPr>
                <a:xfrm>
                  <a:off x="3459240" y="559440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406680" y="56404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65" name=""/>
                <p:cNvGrpSpPr/>
                <p:nvPr/>
              </p:nvGrpSpPr>
              <p:grpSpPr>
                <a:xfrm>
                  <a:off x="3400560" y="5541840"/>
                  <a:ext cx="66600" cy="68400"/>
                  <a:chOff x="3400560" y="5541840"/>
                  <a:chExt cx="66600" cy="6840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3402000" y="554184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402000" y="554184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3400560" y="5584680"/>
                    <a:ext cx="6480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3408480" y="5586480"/>
                  <a:ext cx="56880" cy="144360"/>
                  <a:chOff x="3408480" y="5586480"/>
                  <a:chExt cx="56880" cy="144360"/>
                </a:xfrm>
              </p:grpSpPr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3408480" y="5586480"/>
                    <a:ext cx="56880" cy="142920"/>
                    <a:chOff x="3408480" y="5586480"/>
                    <a:chExt cx="56880" cy="142920"/>
                  </a:xfrm>
                </p:grpSpPr>
                <p:grpSp>
                  <p:nvGrpSpPr>
                    <p:cNvPr id="571" name=""/>
                    <p:cNvGrpSpPr/>
                    <p:nvPr/>
                  </p:nvGrpSpPr>
                  <p:grpSpPr>
                    <a:xfrm>
                      <a:off x="3408480" y="5586480"/>
                      <a:ext cx="48960" cy="142920"/>
                      <a:chOff x="3408480" y="5586480"/>
                      <a:chExt cx="48960" cy="142920"/>
                    </a:xfrm>
                  </p:grpSpPr>
                  <p:sp>
                    <p:nvSpPr>
                      <p:cNvPr id="572" name=""/>
                      <p:cNvSpPr/>
                      <p:nvPr/>
                    </p:nvSpPr>
                    <p:spPr>
                      <a:xfrm>
                        <a:off x="3408480" y="5586480"/>
                        <a:ext cx="4896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73" name=""/>
                      <p:cNvSpPr/>
                      <p:nvPr/>
                    </p:nvSpPr>
                    <p:spPr>
                      <a:xfrm>
                        <a:off x="3409920" y="559440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3438360" y="56134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575" name=""/>
                  <p:cNvSpPr/>
                  <p:nvPr/>
                </p:nvSpPr>
                <p:spPr>
                  <a:xfrm>
                    <a:off x="3425760" y="5586480"/>
                    <a:ext cx="18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414600" y="5587920"/>
                    <a:ext cx="1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77" name=""/>
                <p:cNvGrpSpPr/>
                <p:nvPr/>
              </p:nvGrpSpPr>
              <p:grpSpPr>
                <a:xfrm>
                  <a:off x="3378240" y="5532480"/>
                  <a:ext cx="57240" cy="27000"/>
                  <a:chOff x="3378240" y="5532480"/>
                  <a:chExt cx="57240" cy="2700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>
                    <a:off x="3378240" y="55324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3435480" y="55324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580" name=""/>
            <p:cNvGrpSpPr/>
            <p:nvPr/>
          </p:nvGrpSpPr>
          <p:grpSpPr>
            <a:xfrm>
              <a:off x="3922560" y="5343480"/>
              <a:ext cx="406440" cy="635040"/>
              <a:chOff x="3922560" y="5343480"/>
              <a:chExt cx="406440" cy="635040"/>
            </a:xfrm>
          </p:grpSpPr>
          <p:sp>
            <p:nvSpPr>
              <p:cNvPr id="581" name=""/>
              <p:cNvSpPr/>
              <p:nvPr/>
            </p:nvSpPr>
            <p:spPr>
              <a:xfrm>
                <a:off x="3922560" y="534348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44880" y="536904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003920" y="538164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037040" y="542592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998880" y="578808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3965400" y="5494320"/>
                <a:ext cx="311400" cy="246240"/>
                <a:chOff x="3965400" y="5494320"/>
                <a:chExt cx="311400" cy="2462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4052880" y="556884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062240" y="5575320"/>
                  <a:ext cx="2556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4032360" y="5537160"/>
                  <a:ext cx="63360" cy="136440"/>
                  <a:chOff x="4032360" y="5537160"/>
                  <a:chExt cx="63360" cy="13644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4033800" y="553716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4057560" y="553716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032360" y="5567400"/>
                    <a:ext cx="4608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4038480" y="5568840"/>
                    <a:ext cx="57240" cy="104760"/>
                    <a:chOff x="4038480" y="5568840"/>
                    <a:chExt cx="57240" cy="104760"/>
                  </a:xfrm>
                </p:grpSpPr>
                <p:grpSp>
                  <p:nvGrpSpPr>
                    <p:cNvPr id="594" name=""/>
                    <p:cNvGrpSpPr/>
                    <p:nvPr/>
                  </p:nvGrpSpPr>
                  <p:grpSpPr>
                    <a:xfrm>
                      <a:off x="4038480" y="5568840"/>
                      <a:ext cx="57240" cy="104760"/>
                      <a:chOff x="4038480" y="5568840"/>
                      <a:chExt cx="57240" cy="104760"/>
                    </a:xfrm>
                  </p:grpSpPr>
                  <p:grpSp>
                    <p:nvGrpSpPr>
                      <p:cNvPr id="595" name=""/>
                      <p:cNvGrpSpPr/>
                      <p:nvPr/>
                    </p:nvGrpSpPr>
                    <p:grpSpPr>
                      <a:xfrm>
                        <a:off x="4038480" y="5568840"/>
                        <a:ext cx="34920" cy="103320"/>
                        <a:chOff x="4038480" y="5568840"/>
                        <a:chExt cx="34920" cy="103320"/>
                      </a:xfrm>
                    </p:grpSpPr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>
                          <a:off x="4038480" y="556884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4038480" y="557388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598" name=""/>
                      <p:cNvSpPr/>
                      <p:nvPr/>
                    </p:nvSpPr>
                    <p:spPr>
                      <a:xfrm>
                        <a:off x="4060800" y="556884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>
                        <a:off x="4068720" y="557064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4048200" y="5587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01" name=""/>
                <p:cNvSpPr/>
                <p:nvPr/>
              </p:nvSpPr>
              <p:spPr>
                <a:xfrm>
                  <a:off x="3989520" y="564516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02" name=""/>
                <p:cNvGrpSpPr/>
                <p:nvPr/>
              </p:nvGrpSpPr>
              <p:grpSpPr>
                <a:xfrm>
                  <a:off x="3965400" y="5494320"/>
                  <a:ext cx="70200" cy="174600"/>
                  <a:chOff x="3965400" y="5494320"/>
                  <a:chExt cx="70200" cy="174600"/>
                </a:xfrm>
              </p:grpSpPr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3965400" y="5494320"/>
                    <a:ext cx="57240" cy="65160"/>
                    <a:chOff x="3965400" y="5494320"/>
                    <a:chExt cx="57240" cy="6516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3967200" y="549432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3995640" y="549432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3965400" y="5533920"/>
                      <a:ext cx="5580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3971880" y="5535720"/>
                    <a:ext cx="63720" cy="133200"/>
                    <a:chOff x="3971880" y="5535720"/>
                    <a:chExt cx="63720" cy="13320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3971880" y="5622840"/>
                      <a:ext cx="475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609" name=""/>
                    <p:cNvGrpSpPr/>
                    <p:nvPr/>
                  </p:nvGrpSpPr>
                  <p:grpSpPr>
                    <a:xfrm>
                      <a:off x="3971880" y="5535720"/>
                      <a:ext cx="42840" cy="112680"/>
                      <a:chOff x="3971880" y="5535720"/>
                      <a:chExt cx="42840" cy="112680"/>
                    </a:xfrm>
                  </p:grpSpPr>
                  <p:sp>
                    <p:nvSpPr>
                      <p:cNvPr id="610" name=""/>
                      <p:cNvSpPr/>
                      <p:nvPr/>
                    </p:nvSpPr>
                    <p:spPr>
                      <a:xfrm>
                        <a:off x="3973680" y="553572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11" name=""/>
                      <p:cNvSpPr/>
                      <p:nvPr/>
                    </p:nvSpPr>
                    <p:spPr>
                      <a:xfrm>
                        <a:off x="3971880" y="554184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4000680" y="553572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4008600" y="553716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3984480" y="5560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15" name=""/>
                <p:cNvSpPr/>
                <p:nvPr/>
              </p:nvSpPr>
              <p:spPr>
                <a:xfrm>
                  <a:off x="3997440" y="560376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043520" y="564984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992400" y="5551560"/>
                  <a:ext cx="65160" cy="68040"/>
                  <a:chOff x="3992400" y="5551560"/>
                  <a:chExt cx="65160" cy="6804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992400" y="555156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4027320" y="5551560"/>
                    <a:ext cx="302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992400" y="559440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4000680" y="5595840"/>
                  <a:ext cx="69840" cy="144720"/>
                  <a:chOff x="4000680" y="5595840"/>
                  <a:chExt cx="69840" cy="144720"/>
                </a:xfrm>
              </p:grpSpPr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4000680" y="5595840"/>
                    <a:ext cx="48960" cy="142920"/>
                    <a:chOff x="4000680" y="5595840"/>
                    <a:chExt cx="48960" cy="142920"/>
                  </a:xfrm>
                </p:grpSpPr>
                <p:grpSp>
                  <p:nvGrpSpPr>
                    <p:cNvPr id="623" name=""/>
                    <p:cNvGrpSpPr/>
                    <p:nvPr/>
                  </p:nvGrpSpPr>
                  <p:grpSpPr>
                    <a:xfrm>
                      <a:off x="4000680" y="5595840"/>
                      <a:ext cx="48960" cy="142920"/>
                      <a:chOff x="4000680" y="5595840"/>
                      <a:chExt cx="48960" cy="142920"/>
                    </a:xfrm>
                  </p:grpSpPr>
                  <p:sp>
                    <p:nvSpPr>
                      <p:cNvPr id="624" name=""/>
                      <p:cNvSpPr/>
                      <p:nvPr/>
                    </p:nvSpPr>
                    <p:spPr>
                      <a:xfrm>
                        <a:off x="4000680" y="5595840"/>
                        <a:ext cx="4896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25" name=""/>
                      <p:cNvSpPr/>
                      <p:nvPr/>
                    </p:nvSpPr>
                    <p:spPr>
                      <a:xfrm>
                        <a:off x="4000680" y="560376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4014720" y="5622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4033800" y="5595840"/>
                    <a:ext cx="1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4043520" y="559764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29" name=""/>
                <p:cNvGrpSpPr/>
                <p:nvPr/>
              </p:nvGrpSpPr>
              <p:grpSpPr>
                <a:xfrm>
                  <a:off x="3970440" y="5541840"/>
                  <a:ext cx="56880" cy="27000"/>
                  <a:chOff x="3970440" y="5541840"/>
                  <a:chExt cx="56880" cy="270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3970440" y="554184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027320" y="554184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632" name=""/>
                <p:cNvSpPr/>
                <p:nvPr/>
              </p:nvSpPr>
              <p:spPr>
                <a:xfrm>
                  <a:off x="4118040" y="556884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62320" y="5575320"/>
                  <a:ext cx="2556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34" name=""/>
                <p:cNvGrpSpPr/>
                <p:nvPr/>
              </p:nvGrpSpPr>
              <p:grpSpPr>
                <a:xfrm>
                  <a:off x="4160880" y="5537160"/>
                  <a:ext cx="54000" cy="136440"/>
                  <a:chOff x="4160880" y="5537160"/>
                  <a:chExt cx="54000" cy="13644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>
                    <a:off x="4160880" y="553716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4160880" y="553716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160880" y="5567400"/>
                    <a:ext cx="4608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4167360" y="5568840"/>
                    <a:ext cx="47520" cy="104760"/>
                    <a:chOff x="4167360" y="5568840"/>
                    <a:chExt cx="47520" cy="104760"/>
                  </a:xfrm>
                </p:grpSpPr>
                <p:grpSp>
                  <p:nvGrpSpPr>
                    <p:cNvPr id="639" name=""/>
                    <p:cNvGrpSpPr/>
                    <p:nvPr/>
                  </p:nvGrpSpPr>
                  <p:grpSpPr>
                    <a:xfrm>
                      <a:off x="4167360" y="5568840"/>
                      <a:ext cx="36360" cy="104760"/>
                      <a:chOff x="4167360" y="5568840"/>
                      <a:chExt cx="36360" cy="104760"/>
                    </a:xfrm>
                  </p:grpSpPr>
                  <p:grpSp>
                    <p:nvGrpSpPr>
                      <p:cNvPr id="640" name=""/>
                      <p:cNvGrpSpPr/>
                      <p:nvPr/>
                    </p:nvGrpSpPr>
                    <p:grpSpPr>
                      <a:xfrm>
                        <a:off x="4167360" y="5568840"/>
                        <a:ext cx="33120" cy="103320"/>
                        <a:chOff x="4167360" y="5568840"/>
                        <a:chExt cx="33120" cy="103320"/>
                      </a:xfrm>
                    </p:grpSpPr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>
                          <a:off x="4167360" y="5568840"/>
                          <a:ext cx="331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>
                          <a:off x="4167360" y="5573880"/>
                          <a:ext cx="331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643" name=""/>
                      <p:cNvSpPr/>
                      <p:nvPr/>
                    </p:nvSpPr>
                    <p:spPr>
                      <a:xfrm>
                        <a:off x="4176720" y="556884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44" name=""/>
                      <p:cNvSpPr/>
                      <p:nvPr/>
                    </p:nvSpPr>
                    <p:spPr>
                      <a:xfrm>
                        <a:off x="4168800" y="557064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4187880" y="5587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46" name=""/>
                <p:cNvSpPr/>
                <p:nvPr/>
              </p:nvSpPr>
              <p:spPr>
                <a:xfrm>
                  <a:off x="4118040" y="564516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47" name=""/>
                <p:cNvGrpSpPr/>
                <p:nvPr/>
              </p:nvGrpSpPr>
              <p:grpSpPr>
                <a:xfrm>
                  <a:off x="4218120" y="5494320"/>
                  <a:ext cx="58680" cy="174600"/>
                  <a:chOff x="4218120" y="5494320"/>
                  <a:chExt cx="58680" cy="174600"/>
                </a:xfrm>
              </p:grpSpPr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4218120" y="5494320"/>
                    <a:ext cx="56880" cy="65160"/>
                    <a:chOff x="4218120" y="5494320"/>
                    <a:chExt cx="56880" cy="6516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4219560" y="549432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4219560" y="549432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4218120" y="553392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4221000" y="5535720"/>
                    <a:ext cx="55800" cy="133200"/>
                    <a:chOff x="4221000" y="5535720"/>
                    <a:chExt cx="55800" cy="13320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4221000" y="562284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654" name=""/>
                    <p:cNvGrpSpPr/>
                    <p:nvPr/>
                  </p:nvGrpSpPr>
                  <p:grpSpPr>
                    <a:xfrm>
                      <a:off x="4226040" y="5535720"/>
                      <a:ext cx="41040" cy="112680"/>
                      <a:chOff x="4226040" y="5535720"/>
                      <a:chExt cx="41040" cy="112680"/>
                    </a:xfrm>
                  </p:grpSpPr>
                  <p:sp>
                    <p:nvSpPr>
                      <p:cNvPr id="655" name=""/>
                      <p:cNvSpPr/>
                      <p:nvPr/>
                    </p:nvSpPr>
                    <p:spPr>
                      <a:xfrm>
                        <a:off x="4226040" y="553572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4226040" y="5541840"/>
                        <a:ext cx="4104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4238640" y="553572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4229280" y="5537160"/>
                      <a:ext cx="266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4249800" y="5560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60" name=""/>
                <p:cNvSpPr/>
                <p:nvPr/>
              </p:nvSpPr>
              <p:spPr>
                <a:xfrm>
                  <a:off x="4240080" y="560376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187880" y="564984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62" name=""/>
                <p:cNvGrpSpPr/>
                <p:nvPr/>
              </p:nvGrpSpPr>
              <p:grpSpPr>
                <a:xfrm>
                  <a:off x="4181400" y="5551560"/>
                  <a:ext cx="66600" cy="68040"/>
                  <a:chOff x="4181400" y="5551560"/>
                  <a:chExt cx="66600" cy="6804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4183200" y="555156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183200" y="555156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181400" y="559440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4189320" y="5595840"/>
                  <a:ext cx="57240" cy="144720"/>
                  <a:chOff x="4189320" y="5595840"/>
                  <a:chExt cx="57240" cy="144720"/>
                </a:xfrm>
              </p:grpSpPr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4189320" y="5595840"/>
                    <a:ext cx="57240" cy="142920"/>
                    <a:chOff x="4189320" y="5595840"/>
                    <a:chExt cx="57240" cy="142920"/>
                  </a:xfrm>
                </p:grpSpPr>
                <p:grpSp>
                  <p:nvGrpSpPr>
                    <p:cNvPr id="668" name=""/>
                    <p:cNvGrpSpPr/>
                    <p:nvPr/>
                  </p:nvGrpSpPr>
                  <p:grpSpPr>
                    <a:xfrm>
                      <a:off x="4189320" y="5595840"/>
                      <a:ext cx="49320" cy="142920"/>
                      <a:chOff x="4189320" y="5595840"/>
                      <a:chExt cx="49320" cy="142920"/>
                    </a:xfrm>
                  </p:grpSpPr>
                  <p:sp>
                    <p:nvSpPr>
                      <p:cNvPr id="669" name=""/>
                      <p:cNvSpPr/>
                      <p:nvPr/>
                    </p:nvSpPr>
                    <p:spPr>
                      <a:xfrm>
                        <a:off x="4189320" y="559584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70" name=""/>
                      <p:cNvSpPr/>
                      <p:nvPr/>
                    </p:nvSpPr>
                    <p:spPr>
                      <a:xfrm>
                        <a:off x="4191120" y="560376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4219560" y="5622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672" name=""/>
                  <p:cNvSpPr/>
                  <p:nvPr/>
                </p:nvSpPr>
                <p:spPr>
                  <a:xfrm>
                    <a:off x="4206960" y="559584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4195800" y="5597640"/>
                    <a:ext cx="14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4159080" y="5541840"/>
                  <a:ext cx="57240" cy="27000"/>
                  <a:chOff x="4159080" y="5541840"/>
                  <a:chExt cx="57240" cy="2700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4159080" y="5541840"/>
                    <a:ext cx="55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4216320" y="554184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677" name=""/>
            <p:cNvGrpSpPr/>
            <p:nvPr/>
          </p:nvGrpSpPr>
          <p:grpSpPr>
            <a:xfrm>
              <a:off x="4675320" y="5324400"/>
              <a:ext cx="406440" cy="635040"/>
              <a:chOff x="4675320" y="5324400"/>
              <a:chExt cx="406440" cy="635040"/>
            </a:xfrm>
          </p:grpSpPr>
          <p:sp>
            <p:nvSpPr>
              <p:cNvPr id="678" name=""/>
              <p:cNvSpPr/>
              <p:nvPr/>
            </p:nvSpPr>
            <p:spPr>
              <a:xfrm>
                <a:off x="4675320" y="532440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697280" y="534996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756320" y="536256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789440" y="540684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751280" y="576900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4718160" y="5475240"/>
                <a:ext cx="311040" cy="246240"/>
                <a:chOff x="4718160" y="5475240"/>
                <a:chExt cx="311040" cy="2462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4805280" y="554976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815000" y="555624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86" name=""/>
                <p:cNvGrpSpPr/>
                <p:nvPr/>
              </p:nvGrpSpPr>
              <p:grpSpPr>
                <a:xfrm>
                  <a:off x="4784760" y="5518080"/>
                  <a:ext cx="63360" cy="136440"/>
                  <a:chOff x="4784760" y="5518080"/>
                  <a:chExt cx="63360" cy="13644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>
                    <a:off x="4786200" y="551808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4809960" y="55180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784760" y="554832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4791240" y="5549760"/>
                    <a:ext cx="56880" cy="104760"/>
                    <a:chOff x="4791240" y="5549760"/>
                    <a:chExt cx="56880" cy="104760"/>
                  </a:xfrm>
                </p:grpSpPr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4791240" y="5549760"/>
                      <a:ext cx="56880" cy="104760"/>
                      <a:chOff x="4791240" y="5549760"/>
                      <a:chExt cx="56880" cy="104760"/>
                    </a:xfrm>
                  </p:grpSpPr>
                  <p:grpSp>
                    <p:nvGrpSpPr>
                      <p:cNvPr id="692" name=""/>
                      <p:cNvGrpSpPr/>
                      <p:nvPr/>
                    </p:nvGrpSpPr>
                    <p:grpSpPr>
                      <a:xfrm>
                        <a:off x="4791240" y="5549760"/>
                        <a:ext cx="34920" cy="103320"/>
                        <a:chOff x="4791240" y="5549760"/>
                        <a:chExt cx="34920" cy="103320"/>
                      </a:xfrm>
                    </p:grpSpPr>
                    <p:sp>
                      <p:nvSpPr>
                        <p:cNvPr id="693" name=""/>
                        <p:cNvSpPr/>
                        <p:nvPr/>
                      </p:nvSpPr>
                      <p:spPr>
                        <a:xfrm>
                          <a:off x="4791240" y="554976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694" name=""/>
                        <p:cNvSpPr/>
                        <p:nvPr/>
                      </p:nvSpPr>
                      <p:spPr>
                        <a:xfrm>
                          <a:off x="4791240" y="555480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695" name=""/>
                      <p:cNvSpPr/>
                      <p:nvPr/>
                    </p:nvSpPr>
                    <p:spPr>
                      <a:xfrm>
                        <a:off x="4813200" y="554976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4821120" y="555156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4800600" y="5568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98" name=""/>
                <p:cNvSpPr/>
                <p:nvPr/>
              </p:nvSpPr>
              <p:spPr>
                <a:xfrm>
                  <a:off x="4741920" y="562608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4718160" y="5475240"/>
                  <a:ext cx="69840" cy="174600"/>
                  <a:chOff x="4718160" y="5475240"/>
                  <a:chExt cx="69840" cy="174600"/>
                </a:xfrm>
              </p:grpSpPr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4718160" y="5475240"/>
                    <a:ext cx="56880" cy="65160"/>
                    <a:chOff x="4718160" y="5475240"/>
                    <a:chExt cx="56880" cy="6516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4719600" y="547524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4748040" y="547524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4718160" y="551484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4724280" y="5516640"/>
                    <a:ext cx="63720" cy="133200"/>
                    <a:chOff x="4724280" y="5516640"/>
                    <a:chExt cx="63720" cy="13320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4724280" y="5603760"/>
                      <a:ext cx="478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706" name=""/>
                    <p:cNvGrpSpPr/>
                    <p:nvPr/>
                  </p:nvGrpSpPr>
                  <p:grpSpPr>
                    <a:xfrm>
                      <a:off x="4724280" y="5516640"/>
                      <a:ext cx="42840" cy="112680"/>
                      <a:chOff x="4724280" y="5516640"/>
                      <a:chExt cx="42840" cy="112680"/>
                    </a:xfrm>
                  </p:grpSpPr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4726080" y="551664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>
                        <a:off x="4724280" y="552276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4753080" y="551664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4761000" y="551808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4737240" y="5541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712" name=""/>
                <p:cNvSpPr/>
                <p:nvPr/>
              </p:nvSpPr>
              <p:spPr>
                <a:xfrm>
                  <a:off x="4749840" y="558468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795920" y="563076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14" name=""/>
                <p:cNvGrpSpPr/>
                <p:nvPr/>
              </p:nvGrpSpPr>
              <p:grpSpPr>
                <a:xfrm>
                  <a:off x="4745160" y="5532480"/>
                  <a:ext cx="64800" cy="68040"/>
                  <a:chOff x="4745160" y="5532480"/>
                  <a:chExt cx="64800" cy="6804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>
                    <a:off x="4745160" y="553248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4780080" y="5532480"/>
                    <a:ext cx="29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4745160" y="5575320"/>
                    <a:ext cx="6480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4753080" y="5576760"/>
                  <a:ext cx="69840" cy="144720"/>
                  <a:chOff x="4753080" y="5576760"/>
                  <a:chExt cx="69840" cy="144720"/>
                </a:xfrm>
              </p:grpSpPr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4753080" y="5576760"/>
                    <a:ext cx="48960" cy="142920"/>
                    <a:chOff x="4753080" y="5576760"/>
                    <a:chExt cx="48960" cy="142920"/>
                  </a:xfrm>
                </p:grpSpPr>
                <p:grpSp>
                  <p:nvGrpSpPr>
                    <p:cNvPr id="720" name=""/>
                    <p:cNvGrpSpPr/>
                    <p:nvPr/>
                  </p:nvGrpSpPr>
                  <p:grpSpPr>
                    <a:xfrm>
                      <a:off x="4753080" y="5576760"/>
                      <a:ext cx="48960" cy="142920"/>
                      <a:chOff x="4753080" y="5576760"/>
                      <a:chExt cx="48960" cy="142920"/>
                    </a:xfrm>
                  </p:grpSpPr>
                  <p:sp>
                    <p:nvSpPr>
                      <p:cNvPr id="721" name=""/>
                      <p:cNvSpPr/>
                      <p:nvPr/>
                    </p:nvSpPr>
                    <p:spPr>
                      <a:xfrm>
                        <a:off x="4753080" y="5576760"/>
                        <a:ext cx="4896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22" name=""/>
                      <p:cNvSpPr/>
                      <p:nvPr/>
                    </p:nvSpPr>
                    <p:spPr>
                      <a:xfrm>
                        <a:off x="4753080" y="558468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4767120" y="5603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724" name=""/>
                  <p:cNvSpPr/>
                  <p:nvPr/>
                </p:nvSpPr>
                <p:spPr>
                  <a:xfrm>
                    <a:off x="4786200" y="5576760"/>
                    <a:ext cx="1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4795920" y="557856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26" name=""/>
                <p:cNvGrpSpPr/>
                <p:nvPr/>
              </p:nvGrpSpPr>
              <p:grpSpPr>
                <a:xfrm>
                  <a:off x="4722840" y="5522760"/>
                  <a:ext cx="57240" cy="27000"/>
                  <a:chOff x="4722840" y="5522760"/>
                  <a:chExt cx="57240" cy="2700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4722840" y="552276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4780080" y="552276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729" name=""/>
                <p:cNvSpPr/>
                <p:nvPr/>
              </p:nvSpPr>
              <p:spPr>
                <a:xfrm>
                  <a:off x="4870440" y="554976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915080" y="555624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31" name=""/>
                <p:cNvGrpSpPr/>
                <p:nvPr/>
              </p:nvGrpSpPr>
              <p:grpSpPr>
                <a:xfrm>
                  <a:off x="4913280" y="5518080"/>
                  <a:ext cx="54000" cy="136440"/>
                  <a:chOff x="4913280" y="5518080"/>
                  <a:chExt cx="54000" cy="13644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4913280" y="551808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4913280" y="55180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913280" y="554832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4919760" y="5549760"/>
                    <a:ext cx="47520" cy="104760"/>
                    <a:chOff x="4919760" y="5549760"/>
                    <a:chExt cx="47520" cy="104760"/>
                  </a:xfrm>
                </p:grpSpPr>
                <p:grpSp>
                  <p:nvGrpSpPr>
                    <p:cNvPr id="736" name=""/>
                    <p:cNvGrpSpPr/>
                    <p:nvPr/>
                  </p:nvGrpSpPr>
                  <p:grpSpPr>
                    <a:xfrm>
                      <a:off x="4919760" y="5549760"/>
                      <a:ext cx="36360" cy="104760"/>
                      <a:chOff x="4919760" y="5549760"/>
                      <a:chExt cx="36360" cy="104760"/>
                    </a:xfrm>
                  </p:grpSpPr>
                  <p:grpSp>
                    <p:nvGrpSpPr>
                      <p:cNvPr id="737" name=""/>
                      <p:cNvGrpSpPr/>
                      <p:nvPr/>
                    </p:nvGrpSpPr>
                    <p:grpSpPr>
                      <a:xfrm>
                        <a:off x="4919760" y="5549760"/>
                        <a:ext cx="33120" cy="103320"/>
                        <a:chOff x="4919760" y="5549760"/>
                        <a:chExt cx="33120" cy="103320"/>
                      </a:xfrm>
                    </p:grpSpPr>
                    <p:sp>
                      <p:nvSpPr>
                        <p:cNvPr id="738" name=""/>
                        <p:cNvSpPr/>
                        <p:nvPr/>
                      </p:nvSpPr>
                      <p:spPr>
                        <a:xfrm>
                          <a:off x="4919760" y="5549760"/>
                          <a:ext cx="331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739" name=""/>
                        <p:cNvSpPr/>
                        <p:nvPr/>
                      </p:nvSpPr>
                      <p:spPr>
                        <a:xfrm>
                          <a:off x="4919760" y="5554800"/>
                          <a:ext cx="331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4929120" y="554976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>
                        <a:off x="4921200" y="555156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4940280" y="5568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743" name=""/>
                <p:cNvSpPr/>
                <p:nvPr/>
              </p:nvSpPr>
              <p:spPr>
                <a:xfrm>
                  <a:off x="4870440" y="562608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44" name=""/>
                <p:cNvGrpSpPr/>
                <p:nvPr/>
              </p:nvGrpSpPr>
              <p:grpSpPr>
                <a:xfrm>
                  <a:off x="4970520" y="5475240"/>
                  <a:ext cx="58680" cy="174600"/>
                  <a:chOff x="4970520" y="5475240"/>
                  <a:chExt cx="58680" cy="174600"/>
                </a:xfrm>
              </p:grpSpPr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4970520" y="5475240"/>
                    <a:ext cx="57240" cy="65160"/>
                    <a:chOff x="4970520" y="5475240"/>
                    <a:chExt cx="57240" cy="65160"/>
                  </a:xfrm>
                </p:grpSpPr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4971960" y="547524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4971960" y="547524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4970520" y="551484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4973760" y="5516640"/>
                    <a:ext cx="55440" cy="133200"/>
                    <a:chOff x="4973760" y="5516640"/>
                    <a:chExt cx="55440" cy="13320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4973760" y="560376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751" name=""/>
                    <p:cNvGrpSpPr/>
                    <p:nvPr/>
                  </p:nvGrpSpPr>
                  <p:grpSpPr>
                    <a:xfrm>
                      <a:off x="4978440" y="5516640"/>
                      <a:ext cx="41400" cy="112680"/>
                      <a:chOff x="4978440" y="5516640"/>
                      <a:chExt cx="41400" cy="112680"/>
                    </a:xfrm>
                  </p:grpSpPr>
                  <p:sp>
                    <p:nvSpPr>
                      <p:cNvPr id="752" name=""/>
                      <p:cNvSpPr/>
                      <p:nvPr/>
                    </p:nvSpPr>
                    <p:spPr>
                      <a:xfrm>
                        <a:off x="4978440" y="551664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53" name=""/>
                      <p:cNvSpPr/>
                      <p:nvPr/>
                    </p:nvSpPr>
                    <p:spPr>
                      <a:xfrm>
                        <a:off x="4978440" y="552276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4991040" y="5516640"/>
                      <a:ext cx="180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4981680" y="551808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5002200" y="5541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757" name=""/>
                <p:cNvSpPr/>
                <p:nvPr/>
              </p:nvSpPr>
              <p:spPr>
                <a:xfrm>
                  <a:off x="4992840" y="558468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940280" y="563076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59" name=""/>
                <p:cNvGrpSpPr/>
                <p:nvPr/>
              </p:nvGrpSpPr>
              <p:grpSpPr>
                <a:xfrm>
                  <a:off x="4933800" y="5532480"/>
                  <a:ext cx="66960" cy="68040"/>
                  <a:chOff x="4933800" y="5532480"/>
                  <a:chExt cx="66960" cy="6804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>
                    <a:off x="4935600" y="553248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935600" y="553248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933800" y="557532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4941720" y="5576760"/>
                  <a:ext cx="57240" cy="144720"/>
                  <a:chOff x="4941720" y="5576760"/>
                  <a:chExt cx="57240" cy="144720"/>
                </a:xfrm>
              </p:grpSpPr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4941720" y="5576760"/>
                    <a:ext cx="57240" cy="142920"/>
                    <a:chOff x="4941720" y="5576760"/>
                    <a:chExt cx="57240" cy="142920"/>
                  </a:xfrm>
                </p:grpSpPr>
                <p:grpSp>
                  <p:nvGrpSpPr>
                    <p:cNvPr id="765" name=""/>
                    <p:cNvGrpSpPr/>
                    <p:nvPr/>
                  </p:nvGrpSpPr>
                  <p:grpSpPr>
                    <a:xfrm>
                      <a:off x="4941720" y="5576760"/>
                      <a:ext cx="49320" cy="142920"/>
                      <a:chOff x="4941720" y="5576760"/>
                      <a:chExt cx="49320" cy="142920"/>
                    </a:xfrm>
                  </p:grpSpPr>
                  <p:sp>
                    <p:nvSpPr>
                      <p:cNvPr id="766" name=""/>
                      <p:cNvSpPr/>
                      <p:nvPr/>
                    </p:nvSpPr>
                    <p:spPr>
                      <a:xfrm>
                        <a:off x="4941720" y="557676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4943520" y="558468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4971960" y="5603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769" name=""/>
                  <p:cNvSpPr/>
                  <p:nvPr/>
                </p:nvSpPr>
                <p:spPr>
                  <a:xfrm>
                    <a:off x="4959360" y="557676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4948200" y="5578560"/>
                    <a:ext cx="1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4911840" y="5522760"/>
                  <a:ext cx="56880" cy="27000"/>
                  <a:chOff x="4911840" y="5522760"/>
                  <a:chExt cx="56880" cy="2700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>
                    <a:off x="4911840" y="552276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968720" y="552276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774" name=""/>
            <p:cNvGrpSpPr/>
            <p:nvPr/>
          </p:nvGrpSpPr>
          <p:grpSpPr>
            <a:xfrm>
              <a:off x="5454720" y="2457360"/>
              <a:ext cx="1625400" cy="3664080"/>
              <a:chOff x="5454720" y="2457360"/>
              <a:chExt cx="1625400" cy="3664080"/>
            </a:xfrm>
          </p:grpSpPr>
          <p:sp>
            <p:nvSpPr>
              <p:cNvPr id="775" name=""/>
              <p:cNvSpPr/>
              <p:nvPr/>
            </p:nvSpPr>
            <p:spPr>
              <a:xfrm>
                <a:off x="5525640" y="2565360"/>
                <a:ext cx="1480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OP SECRET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454720" y="2457360"/>
                <a:ext cx="1625400" cy="36640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553000" y="2959200"/>
              <a:ext cx="658440" cy="743400"/>
              <a:chOff x="5553000" y="2959200"/>
              <a:chExt cx="658440" cy="743400"/>
            </a:xfrm>
          </p:grpSpPr>
          <p:sp>
            <p:nvSpPr>
              <p:cNvPr id="778" name=""/>
              <p:cNvSpPr/>
              <p:nvPr/>
            </p:nvSpPr>
            <p:spPr>
              <a:xfrm>
                <a:off x="5553000" y="295920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779" name=""/>
              <p:cNvGrpSpPr/>
              <p:nvPr/>
            </p:nvGrpSpPr>
            <p:grpSpPr>
              <a:xfrm>
                <a:off x="5585040" y="3036960"/>
                <a:ext cx="626400" cy="665640"/>
                <a:chOff x="5585040" y="3036960"/>
                <a:chExt cx="626400" cy="6656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5623920" y="3411360"/>
                  <a:ext cx="498240" cy="291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0" i="1" lang="en-US" sz="1600" spc="-1" strike="noStrike">
                      <a:solidFill>
                        <a:srgbClr val="eaeaea"/>
                      </a:solidFill>
                      <a:latin typeface="Arial"/>
                    </a:rPr>
                    <a:t>DoD</a:t>
                  </a:r>
                  <a:endParaRPr b="0" lang="en-US" sz="16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5585040" y="3036960"/>
                  <a:ext cx="62640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PCA 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782" name=""/>
            <p:cNvGrpSpPr/>
            <p:nvPr/>
          </p:nvGrpSpPr>
          <p:grpSpPr>
            <a:xfrm>
              <a:off x="5530680" y="3817440"/>
              <a:ext cx="1473480" cy="1237320"/>
              <a:chOff x="5530680" y="3817440"/>
              <a:chExt cx="1473480" cy="1237320"/>
            </a:xfrm>
          </p:grpSpPr>
          <p:sp>
            <p:nvSpPr>
              <p:cNvPr id="783" name=""/>
              <p:cNvSpPr/>
              <p:nvPr/>
            </p:nvSpPr>
            <p:spPr>
              <a:xfrm>
                <a:off x="5530680" y="3828960"/>
                <a:ext cx="1473480" cy="122580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5595840" y="3817440"/>
                <a:ext cx="574560" cy="1146600"/>
                <a:chOff x="5595840" y="3817440"/>
                <a:chExt cx="574560" cy="1146600"/>
              </a:xfrm>
            </p:grpSpPr>
            <p:sp>
              <p:nvSpPr>
                <p:cNvPr id="785" name=""/>
                <p:cNvSpPr/>
                <p:nvPr/>
              </p:nvSpPr>
              <p:spPr>
                <a:xfrm rot="5400000">
                  <a:off x="5708520" y="3851640"/>
                  <a:ext cx="4960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eaeaea"/>
                      </a:solidFill>
                      <a:latin typeface="Arial"/>
                    </a:rPr>
                    <a:t>....</a:t>
                  </a:r>
                  <a:endParaRPr b="0" lang="en-US" sz="22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672160" y="416736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634000" y="4243320"/>
                  <a:ext cx="463680" cy="6256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595840" y="433872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5611320" y="4518000"/>
                  <a:ext cx="45684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6415200" y="3817440"/>
                <a:ext cx="539640" cy="1146600"/>
                <a:chOff x="6415200" y="3817440"/>
                <a:chExt cx="539640" cy="1146600"/>
              </a:xfrm>
            </p:grpSpPr>
            <p:sp>
              <p:nvSpPr>
                <p:cNvPr id="791" name=""/>
                <p:cNvSpPr/>
                <p:nvPr/>
              </p:nvSpPr>
              <p:spPr>
                <a:xfrm rot="5400000">
                  <a:off x="6480360" y="3851640"/>
                  <a:ext cx="4960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eaeaea"/>
                      </a:solidFill>
                      <a:latin typeface="Arial"/>
                    </a:rPr>
                    <a:t>....</a:t>
                  </a:r>
                  <a:endParaRPr b="0" lang="en-US" sz="22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491160" y="416736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453360" y="4243320"/>
                  <a:ext cx="463320" cy="6256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415200" y="4338720"/>
                  <a:ext cx="46332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>
                  <a:off x="6431040" y="4521240"/>
                  <a:ext cx="45684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796" name=""/>
            <p:cNvGrpSpPr/>
            <p:nvPr/>
          </p:nvGrpSpPr>
          <p:grpSpPr>
            <a:xfrm>
              <a:off x="5627520" y="5334120"/>
              <a:ext cx="1244880" cy="644400"/>
              <a:chOff x="5627520" y="5334120"/>
              <a:chExt cx="1244880" cy="644400"/>
            </a:xfrm>
          </p:grpSpPr>
          <p:grpSp>
            <p:nvGrpSpPr>
              <p:cNvPr id="797" name=""/>
              <p:cNvGrpSpPr/>
              <p:nvPr/>
            </p:nvGrpSpPr>
            <p:grpSpPr>
              <a:xfrm>
                <a:off x="5627520" y="5334120"/>
                <a:ext cx="406440" cy="635040"/>
                <a:chOff x="5627520" y="5334120"/>
                <a:chExt cx="406440" cy="63504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5627520" y="5334120"/>
                  <a:ext cx="406440" cy="6350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649840" y="5359320"/>
                  <a:ext cx="358920" cy="59076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08880" y="5371920"/>
                  <a:ext cx="24552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FORTEZZA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742000" y="5416560"/>
                  <a:ext cx="190800" cy="1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rypto 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  </a:t>
                  </a: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ard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703840" y="5778360"/>
                  <a:ext cx="243000" cy="147600"/>
                </a:xfrm>
                <a:prstGeom prst="rect">
                  <a:avLst/>
                </a:prstGeom>
                <a:solidFill>
                  <a:srgbClr val="f35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0240" rIns="30240" tIns="15840" bIns="1584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Group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Technologies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803" name=""/>
                <p:cNvGrpSpPr/>
                <p:nvPr/>
              </p:nvGrpSpPr>
              <p:grpSpPr>
                <a:xfrm>
                  <a:off x="5670720" y="5484960"/>
                  <a:ext cx="311040" cy="245880"/>
                  <a:chOff x="5670720" y="5484960"/>
                  <a:chExt cx="311040" cy="24588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>
                    <a:off x="5757840" y="555948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0" y="3"/>
                        </a:move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13" y="0"/>
                        </a:lnTo>
                        <a:lnTo>
                          <a:pt x="13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43" y="0"/>
                        </a:lnTo>
                        <a:lnTo>
                          <a:pt x="4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5767560" y="5565600"/>
                    <a:ext cx="25200" cy="79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5737320" y="5527800"/>
                    <a:ext cx="63360" cy="136440"/>
                    <a:chOff x="5737320" y="5527800"/>
                    <a:chExt cx="63360" cy="136440"/>
                  </a:xfrm>
                </p:grpSpPr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5738760" y="5527800"/>
                      <a:ext cx="460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4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28" y="19"/>
                          </a:lnTo>
                          <a:lnTo>
                            <a:pt x="22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5762520" y="552780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0" y="0"/>
                          </a:moveTo>
                          <a:lnTo>
                            <a:pt x="8" y="13"/>
                          </a:lnTo>
                          <a:lnTo>
                            <a:pt x="16" y="19"/>
                          </a:lnTo>
                          <a:lnTo>
                            <a:pt x="11" y="19"/>
                          </a:lnTo>
                          <a:lnTo>
                            <a:pt x="6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>
                      <a:off x="5737320" y="5557680"/>
                      <a:ext cx="4608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5743440" y="5559480"/>
                      <a:ext cx="57240" cy="104760"/>
                      <a:chOff x="5743440" y="5559480"/>
                      <a:chExt cx="57240" cy="104760"/>
                    </a:xfrm>
                  </p:grpSpPr>
                  <p:grpSp>
                    <p:nvGrpSpPr>
                      <p:cNvPr id="811" name=""/>
                      <p:cNvGrpSpPr/>
                      <p:nvPr/>
                    </p:nvGrpSpPr>
                    <p:grpSpPr>
                      <a:xfrm>
                        <a:off x="5743440" y="5559480"/>
                        <a:ext cx="57240" cy="104760"/>
                        <a:chOff x="5743440" y="5559480"/>
                        <a:chExt cx="57240" cy="104760"/>
                      </a:xfrm>
                    </p:grpSpPr>
                    <p:grpSp>
                      <p:nvGrpSpPr>
                        <p:cNvPr id="812" name=""/>
                        <p:cNvGrpSpPr/>
                        <p:nvPr/>
                      </p:nvGrpSpPr>
                      <p:grpSpPr>
                        <a:xfrm>
                          <a:off x="5743440" y="5559480"/>
                          <a:ext cx="34920" cy="102960"/>
                          <a:chOff x="5743440" y="5559480"/>
                          <a:chExt cx="34920" cy="102960"/>
                        </a:xfrm>
                      </p:grpSpPr>
                      <p:sp>
                        <p:nvSpPr>
                          <p:cNvPr id="813" name=""/>
                          <p:cNvSpPr/>
                          <p:nvPr/>
                        </p:nvSpPr>
                        <p:spPr>
                          <a:xfrm>
                            <a:off x="5743440" y="5559480"/>
                            <a:ext cx="34920" cy="2520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0" bIns="-28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814" name=""/>
                          <p:cNvSpPr/>
                          <p:nvPr/>
                        </p:nvSpPr>
                        <p:spPr>
                          <a:xfrm>
                            <a:off x="5743440" y="5564160"/>
                            <a:ext cx="3492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>
                          <a:off x="5765760" y="555948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5"/>
                              </a:lnTo>
                              <a:lnTo>
                                <a:pt x="0" y="65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>
                          <a:off x="5773680" y="5560920"/>
                          <a:ext cx="2700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4"/>
                              </a:lnTo>
                              <a:lnTo>
                                <a:pt x="0" y="64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17" name=""/>
                      <p:cNvSpPr/>
                      <p:nvPr/>
                    </p:nvSpPr>
                    <p:spPr>
                      <a:xfrm>
                        <a:off x="5753160" y="5578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18" name=""/>
                  <p:cNvSpPr/>
                  <p:nvPr/>
                </p:nvSpPr>
                <p:spPr>
                  <a:xfrm>
                    <a:off x="5694480" y="5635440"/>
                    <a:ext cx="13320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0" y="3"/>
                        </a:moveTo>
                        <a:lnTo>
                          <a:pt x="43" y="3"/>
                        </a:lnTo>
                        <a:lnTo>
                          <a:pt x="43" y="0"/>
                        </a:lnTo>
                        <a:lnTo>
                          <a:pt x="46" y="0"/>
                        </a:lnTo>
                        <a:lnTo>
                          <a:pt x="46" y="3"/>
                        </a:lnTo>
                        <a:lnTo>
                          <a:pt x="49" y="3"/>
                        </a:lnTo>
                        <a:lnTo>
                          <a:pt x="49" y="0"/>
                        </a:lnTo>
                        <a:lnTo>
                          <a:pt x="52" y="0"/>
                        </a:lnTo>
                        <a:lnTo>
                          <a:pt x="52" y="3"/>
                        </a:lnTo>
                        <a:lnTo>
                          <a:pt x="55" y="3"/>
                        </a:lnTo>
                        <a:lnTo>
                          <a:pt x="55" y="0"/>
                        </a:lnTo>
                        <a:lnTo>
                          <a:pt x="58" y="0"/>
                        </a:lnTo>
                        <a:lnTo>
                          <a:pt x="58" y="3"/>
                        </a:lnTo>
                        <a:lnTo>
                          <a:pt x="61" y="3"/>
                        </a:lnTo>
                        <a:lnTo>
                          <a:pt x="61" y="0"/>
                        </a:lnTo>
                        <a:lnTo>
                          <a:pt x="64" y="0"/>
                        </a:lnTo>
                        <a:lnTo>
                          <a:pt x="64" y="3"/>
                        </a:lnTo>
                        <a:lnTo>
                          <a:pt x="68" y="3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1" y="3"/>
                        </a:lnTo>
                        <a:lnTo>
                          <a:pt x="74" y="3"/>
                        </a:lnTo>
                        <a:lnTo>
                          <a:pt x="74" y="0"/>
                        </a:lnTo>
                        <a:lnTo>
                          <a:pt x="77" y="0"/>
                        </a:lnTo>
                        <a:lnTo>
                          <a:pt x="77" y="3"/>
                        </a:lnTo>
                        <a:lnTo>
                          <a:pt x="80" y="3"/>
                        </a:lnTo>
                        <a:lnTo>
                          <a:pt x="80" y="0"/>
                        </a:lnTo>
                        <a:lnTo>
                          <a:pt x="83" y="0"/>
                        </a:lnTo>
                        <a:lnTo>
                          <a:pt x="8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5670720" y="5484960"/>
                    <a:ext cx="69840" cy="174600"/>
                    <a:chOff x="5670720" y="5484960"/>
                    <a:chExt cx="69840" cy="174600"/>
                  </a:xfrm>
                </p:grpSpPr>
                <p:grpSp>
                  <p:nvGrpSpPr>
                    <p:cNvPr id="820" name=""/>
                    <p:cNvGrpSpPr/>
                    <p:nvPr/>
                  </p:nvGrpSpPr>
                  <p:grpSpPr>
                    <a:xfrm>
                      <a:off x="5670720" y="5484960"/>
                      <a:ext cx="56880" cy="64800"/>
                      <a:chOff x="5670720" y="5484960"/>
                      <a:chExt cx="56880" cy="64800"/>
                    </a:xfrm>
                  </p:grpSpPr>
                  <p:sp>
                    <p:nvSpPr>
                      <p:cNvPr id="821" name=""/>
                      <p:cNvSpPr/>
                      <p:nvPr/>
                    </p:nvSpPr>
                    <p:spPr>
                      <a:xfrm>
                        <a:off x="5672160" y="5484960"/>
                        <a:ext cx="5544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9" y="18"/>
                            </a:lnTo>
                            <a:lnTo>
                              <a:pt x="0" y="26"/>
                            </a:lnTo>
                            <a:lnTo>
                              <a:pt x="34" y="26"/>
                            </a:lnTo>
                            <a:lnTo>
                              <a:pt x="26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22" name=""/>
                      <p:cNvSpPr/>
                      <p:nvPr/>
                    </p:nvSpPr>
                    <p:spPr>
                      <a:xfrm>
                        <a:off x="5700600" y="548496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0" y="0"/>
                            </a:moveTo>
                            <a:lnTo>
                              <a:pt x="8" y="18"/>
                            </a:lnTo>
                            <a:lnTo>
                              <a:pt x="16" y="26"/>
                            </a:lnTo>
                            <a:lnTo>
                              <a:pt x="11" y="26"/>
                            </a:lnTo>
                            <a:lnTo>
                              <a:pt x="6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23" name=""/>
                      <p:cNvSpPr/>
                      <p:nvPr/>
                    </p:nvSpPr>
                    <p:spPr>
                      <a:xfrm>
                        <a:off x="5670720" y="5524560"/>
                        <a:ext cx="55440" cy="2520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824" name=""/>
                    <p:cNvGrpSpPr/>
                    <p:nvPr/>
                  </p:nvGrpSpPr>
                  <p:grpSpPr>
                    <a:xfrm>
                      <a:off x="5676840" y="5526000"/>
                      <a:ext cx="63720" cy="133560"/>
                      <a:chOff x="5676840" y="5526000"/>
                      <a:chExt cx="63720" cy="133560"/>
                    </a:xfrm>
                  </p:grpSpPr>
                  <p:sp>
                    <p:nvSpPr>
                      <p:cNvPr id="825" name=""/>
                      <p:cNvSpPr/>
                      <p:nvPr/>
                    </p:nvSpPr>
                    <p:spPr>
                      <a:xfrm>
                        <a:off x="5676840" y="5613480"/>
                        <a:ext cx="4752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826" name=""/>
                      <p:cNvGrpSpPr/>
                      <p:nvPr/>
                    </p:nvGrpSpPr>
                    <p:grpSpPr>
                      <a:xfrm>
                        <a:off x="5676840" y="5526000"/>
                        <a:ext cx="42840" cy="112680"/>
                        <a:chOff x="5676840" y="5526000"/>
                        <a:chExt cx="42840" cy="112680"/>
                      </a:xfrm>
                    </p:grpSpPr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>
                          <a:off x="5678640" y="5526000"/>
                          <a:ext cx="4104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>
                          <a:off x="5676840" y="5532480"/>
                          <a:ext cx="41400" cy="10620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5705640" y="5526000"/>
                        <a:ext cx="1440" cy="11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30" name=""/>
                      <p:cNvSpPr/>
                      <p:nvPr/>
                    </p:nvSpPr>
                    <p:spPr>
                      <a:xfrm>
                        <a:off x="5713560" y="552780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70"/>
                            </a:lnTo>
                            <a:lnTo>
                              <a:pt x="0" y="7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31" name=""/>
                      <p:cNvSpPr/>
                      <p:nvPr/>
                    </p:nvSpPr>
                    <p:spPr>
                      <a:xfrm>
                        <a:off x="5689440" y="5551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2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32" name=""/>
                  <p:cNvSpPr/>
                  <p:nvPr/>
                </p:nvSpPr>
                <p:spPr>
                  <a:xfrm>
                    <a:off x="5702400" y="5594400"/>
                    <a:ext cx="2520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748480" y="5640480"/>
                    <a:ext cx="2520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5697360" y="5541840"/>
                    <a:ext cx="65160" cy="68400"/>
                    <a:chOff x="5697360" y="5541840"/>
                    <a:chExt cx="65160" cy="68400"/>
                  </a:xfrm>
                </p:grpSpPr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5697360" y="5541840"/>
                      <a:ext cx="65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21" y="0"/>
                          </a:moveTo>
                          <a:lnTo>
                            <a:pt x="10" y="20"/>
                          </a:lnTo>
                          <a:lnTo>
                            <a:pt x="0" y="28"/>
                          </a:lnTo>
                          <a:lnTo>
                            <a:pt x="40" y="28"/>
                          </a:lnTo>
                          <a:lnTo>
                            <a:pt x="30" y="19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5732640" y="5541840"/>
                      <a:ext cx="298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9">
                          <a:moveTo>
                            <a:pt x="0" y="0"/>
                          </a:moveTo>
                          <a:lnTo>
                            <a:pt x="9" y="19"/>
                          </a:lnTo>
                          <a:lnTo>
                            <a:pt x="18" y="28"/>
                          </a:lnTo>
                          <a:lnTo>
                            <a:pt x="13" y="28"/>
                          </a:lnTo>
                          <a:lnTo>
                            <a:pt x="7" y="2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5697360" y="5584680"/>
                      <a:ext cx="6516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38" name=""/>
                  <p:cNvGrpSpPr/>
                  <p:nvPr/>
                </p:nvGrpSpPr>
                <p:grpSpPr>
                  <a:xfrm>
                    <a:off x="5705640" y="5586480"/>
                    <a:ext cx="69840" cy="144360"/>
                    <a:chOff x="5705640" y="5586480"/>
                    <a:chExt cx="69840" cy="144360"/>
                  </a:xfrm>
                </p:grpSpPr>
                <p:grpSp>
                  <p:nvGrpSpPr>
                    <p:cNvPr id="839" name=""/>
                    <p:cNvGrpSpPr/>
                    <p:nvPr/>
                  </p:nvGrpSpPr>
                  <p:grpSpPr>
                    <a:xfrm>
                      <a:off x="5705640" y="5586480"/>
                      <a:ext cx="48960" cy="142920"/>
                      <a:chOff x="5705640" y="5586480"/>
                      <a:chExt cx="48960" cy="142920"/>
                    </a:xfrm>
                  </p:grpSpPr>
                  <p:grpSp>
                    <p:nvGrpSpPr>
                      <p:cNvPr id="840" name=""/>
                      <p:cNvGrpSpPr/>
                      <p:nvPr/>
                    </p:nvGrpSpPr>
                    <p:grpSpPr>
                      <a:xfrm>
                        <a:off x="5705640" y="5586480"/>
                        <a:ext cx="48960" cy="142920"/>
                        <a:chOff x="5705640" y="5586480"/>
                        <a:chExt cx="48960" cy="142920"/>
                      </a:xfrm>
                    </p:grpSpPr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>
                          <a:off x="5705640" y="5586480"/>
                          <a:ext cx="48960" cy="2520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42" name=""/>
                        <p:cNvSpPr/>
                        <p:nvPr/>
                      </p:nvSpPr>
                      <p:spPr>
                        <a:xfrm>
                          <a:off x="5705640" y="5594400"/>
                          <a:ext cx="4896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43" name=""/>
                      <p:cNvSpPr/>
                      <p:nvPr/>
                    </p:nvSpPr>
                    <p:spPr>
                      <a:xfrm>
                        <a:off x="5719680" y="56134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3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5738760" y="5586480"/>
                      <a:ext cx="180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5748480" y="5587920"/>
                      <a:ext cx="2700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90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46" name=""/>
                  <p:cNvGrpSpPr/>
                  <p:nvPr/>
                </p:nvGrpSpPr>
                <p:grpSpPr>
                  <a:xfrm>
                    <a:off x="5675400" y="5532480"/>
                    <a:ext cx="57240" cy="27000"/>
                    <a:chOff x="5675400" y="5532480"/>
                    <a:chExt cx="57240" cy="27000"/>
                  </a:xfrm>
                </p:grpSpPr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5675400" y="553248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5732640" y="553248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849" name=""/>
                  <p:cNvSpPr/>
                  <p:nvPr/>
                </p:nvSpPr>
                <p:spPr>
                  <a:xfrm>
                    <a:off x="5823000" y="555948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4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30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4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43" y="58"/>
                        </a:lnTo>
                        <a:lnTo>
                          <a:pt x="43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5867280" y="5565600"/>
                    <a:ext cx="25560" cy="79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5865840" y="5527800"/>
                    <a:ext cx="54000" cy="136440"/>
                    <a:chOff x="5865840" y="5527800"/>
                    <a:chExt cx="54000" cy="13644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5865840" y="5527800"/>
                      <a:ext cx="475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4" y="0"/>
                          </a:moveTo>
                          <a:lnTo>
                            <a:pt x="22" y="13"/>
                          </a:lnTo>
                          <a:lnTo>
                            <a:pt x="29" y="19"/>
                          </a:lnTo>
                          <a:lnTo>
                            <a:pt x="0" y="19"/>
                          </a:lnTo>
                          <a:lnTo>
                            <a:pt x="7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5865840" y="552780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16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4" y="19"/>
                          </a:lnTo>
                          <a:lnTo>
                            <a:pt x="9" y="1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5865840" y="5557680"/>
                      <a:ext cx="4608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855" name=""/>
                    <p:cNvGrpSpPr/>
                    <p:nvPr/>
                  </p:nvGrpSpPr>
                  <p:grpSpPr>
                    <a:xfrm>
                      <a:off x="5872320" y="5559480"/>
                      <a:ext cx="47520" cy="104760"/>
                      <a:chOff x="5872320" y="5559480"/>
                      <a:chExt cx="47520" cy="104760"/>
                    </a:xfrm>
                  </p:grpSpPr>
                  <p:grpSp>
                    <p:nvGrpSpPr>
                      <p:cNvPr id="856" name=""/>
                      <p:cNvGrpSpPr/>
                      <p:nvPr/>
                    </p:nvGrpSpPr>
                    <p:grpSpPr>
                      <a:xfrm>
                        <a:off x="5872320" y="5559480"/>
                        <a:ext cx="36360" cy="104760"/>
                        <a:chOff x="5872320" y="5559480"/>
                        <a:chExt cx="36360" cy="104760"/>
                      </a:xfrm>
                    </p:grpSpPr>
                    <p:grpSp>
                      <p:nvGrpSpPr>
                        <p:cNvPr id="857" name=""/>
                        <p:cNvGrpSpPr/>
                        <p:nvPr/>
                      </p:nvGrpSpPr>
                      <p:grpSpPr>
                        <a:xfrm>
                          <a:off x="5872320" y="5559480"/>
                          <a:ext cx="33120" cy="102960"/>
                          <a:chOff x="5872320" y="5559480"/>
                          <a:chExt cx="33120" cy="102960"/>
                        </a:xfrm>
                      </p:grpSpPr>
                      <p:sp>
                        <p:nvSpPr>
                          <p:cNvPr id="858" name=""/>
                          <p:cNvSpPr/>
                          <p:nvPr/>
                        </p:nvSpPr>
                        <p:spPr>
                          <a:xfrm>
                            <a:off x="5872320" y="5559480"/>
                            <a:ext cx="33120" cy="2520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0" bIns="-28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859" name=""/>
                          <p:cNvSpPr/>
                          <p:nvPr/>
                        </p:nvSpPr>
                        <p:spPr>
                          <a:xfrm>
                            <a:off x="5872320" y="5564160"/>
                            <a:ext cx="3312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>
                          <a:off x="5881680" y="555948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5"/>
                              </a:lnTo>
                              <a:lnTo>
                                <a:pt x="16" y="65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61" name=""/>
                        <p:cNvSpPr/>
                        <p:nvPr/>
                      </p:nvSpPr>
                      <p:spPr>
                        <a:xfrm>
                          <a:off x="5873760" y="5560920"/>
                          <a:ext cx="2700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4"/>
                              </a:lnTo>
                              <a:lnTo>
                                <a:pt x="16" y="64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62" name=""/>
                      <p:cNvSpPr/>
                      <p:nvPr/>
                    </p:nvSpPr>
                    <p:spPr>
                      <a:xfrm>
                        <a:off x="5892840" y="5578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63" name=""/>
                  <p:cNvSpPr/>
                  <p:nvPr/>
                </p:nvSpPr>
                <p:spPr>
                  <a:xfrm>
                    <a:off x="5823000" y="5635440"/>
                    <a:ext cx="13320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8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83" y="58"/>
                        </a:lnTo>
                        <a:lnTo>
                          <a:pt x="83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64" name=""/>
                  <p:cNvGrpSpPr/>
                  <p:nvPr/>
                </p:nvGrpSpPr>
                <p:grpSpPr>
                  <a:xfrm>
                    <a:off x="5923080" y="5484960"/>
                    <a:ext cx="58680" cy="174600"/>
                    <a:chOff x="5923080" y="5484960"/>
                    <a:chExt cx="58680" cy="174600"/>
                  </a:xfrm>
                </p:grpSpPr>
                <p:grpSp>
                  <p:nvGrpSpPr>
                    <p:cNvPr id="865" name=""/>
                    <p:cNvGrpSpPr/>
                    <p:nvPr/>
                  </p:nvGrpSpPr>
                  <p:grpSpPr>
                    <a:xfrm>
                      <a:off x="5923080" y="5484960"/>
                      <a:ext cx="56880" cy="64800"/>
                      <a:chOff x="5923080" y="5484960"/>
                      <a:chExt cx="56880" cy="64800"/>
                    </a:xfrm>
                  </p:grpSpPr>
                  <p:sp>
                    <p:nvSpPr>
                      <p:cNvPr id="866" name=""/>
                      <p:cNvSpPr/>
                      <p:nvPr/>
                    </p:nvSpPr>
                    <p:spPr>
                      <a:xfrm>
                        <a:off x="5924520" y="5484960"/>
                        <a:ext cx="5544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26" y="18"/>
                            </a:lnTo>
                            <a:lnTo>
                              <a:pt x="34" y="26"/>
                            </a:lnTo>
                            <a:lnTo>
                              <a:pt x="0" y="26"/>
                            </a:lnTo>
                            <a:lnTo>
                              <a:pt x="8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67" name=""/>
                      <p:cNvSpPr/>
                      <p:nvPr/>
                    </p:nvSpPr>
                    <p:spPr>
                      <a:xfrm>
                        <a:off x="5924520" y="548496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16" y="0"/>
                            </a:moveTo>
                            <a:lnTo>
                              <a:pt x="7" y="18"/>
                            </a:lnTo>
                            <a:lnTo>
                              <a:pt x="0" y="26"/>
                            </a:lnTo>
                            <a:lnTo>
                              <a:pt x="5" y="26"/>
                            </a:lnTo>
                            <a:lnTo>
                              <a:pt x="10" y="19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68" name=""/>
                      <p:cNvSpPr/>
                      <p:nvPr/>
                    </p:nvSpPr>
                    <p:spPr>
                      <a:xfrm>
                        <a:off x="5923080" y="5524560"/>
                        <a:ext cx="55440" cy="2520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869" name=""/>
                    <p:cNvGrpSpPr/>
                    <p:nvPr/>
                  </p:nvGrpSpPr>
                  <p:grpSpPr>
                    <a:xfrm>
                      <a:off x="5925960" y="5526000"/>
                      <a:ext cx="55800" cy="133560"/>
                      <a:chOff x="5925960" y="5526000"/>
                      <a:chExt cx="55800" cy="133560"/>
                    </a:xfrm>
                  </p:grpSpPr>
                  <p:sp>
                    <p:nvSpPr>
                      <p:cNvPr id="870" name=""/>
                      <p:cNvSpPr/>
                      <p:nvPr/>
                    </p:nvSpPr>
                    <p:spPr>
                      <a:xfrm>
                        <a:off x="5925960" y="5613480"/>
                        <a:ext cx="4608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871" name=""/>
                      <p:cNvGrpSpPr/>
                      <p:nvPr/>
                    </p:nvGrpSpPr>
                    <p:grpSpPr>
                      <a:xfrm>
                        <a:off x="5931000" y="5526000"/>
                        <a:ext cx="41040" cy="112680"/>
                        <a:chOff x="5931000" y="5526000"/>
                        <a:chExt cx="41040" cy="112680"/>
                      </a:xfrm>
                    </p:grpSpPr>
                    <p:sp>
                      <p:nvSpPr>
                        <p:cNvPr id="872" name=""/>
                        <p:cNvSpPr/>
                        <p:nvPr/>
                      </p:nvSpPr>
                      <p:spPr>
                        <a:xfrm>
                          <a:off x="5931000" y="5526000"/>
                          <a:ext cx="4104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73" name=""/>
                        <p:cNvSpPr/>
                        <p:nvPr/>
                      </p:nvSpPr>
                      <p:spPr>
                        <a:xfrm>
                          <a:off x="5931000" y="5532480"/>
                          <a:ext cx="41040" cy="10620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74" name=""/>
                      <p:cNvSpPr/>
                      <p:nvPr/>
                    </p:nvSpPr>
                    <p:spPr>
                      <a:xfrm>
                        <a:off x="5943600" y="5526000"/>
                        <a:ext cx="1440" cy="11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75" name=""/>
                      <p:cNvSpPr/>
                      <p:nvPr/>
                    </p:nvSpPr>
                    <p:spPr>
                      <a:xfrm>
                        <a:off x="5934240" y="552780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70"/>
                            </a:lnTo>
                            <a:lnTo>
                              <a:pt x="16" y="7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76" name=""/>
                      <p:cNvSpPr/>
                      <p:nvPr/>
                    </p:nvSpPr>
                    <p:spPr>
                      <a:xfrm>
                        <a:off x="5954760" y="5551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3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77" name=""/>
                  <p:cNvSpPr/>
                  <p:nvPr/>
                </p:nvSpPr>
                <p:spPr>
                  <a:xfrm>
                    <a:off x="5945040" y="5594400"/>
                    <a:ext cx="2556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5892840" y="5640480"/>
                    <a:ext cx="2520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79" name=""/>
                  <p:cNvGrpSpPr/>
                  <p:nvPr/>
                </p:nvGrpSpPr>
                <p:grpSpPr>
                  <a:xfrm>
                    <a:off x="5886360" y="5541840"/>
                    <a:ext cx="66600" cy="68400"/>
                    <a:chOff x="5886360" y="5541840"/>
                    <a:chExt cx="66600" cy="68400"/>
                  </a:xfrm>
                </p:grpSpPr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5888160" y="5541840"/>
                      <a:ext cx="648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19" y="0"/>
                          </a:moveTo>
                          <a:lnTo>
                            <a:pt x="30" y="20"/>
                          </a:lnTo>
                          <a:lnTo>
                            <a:pt x="40" y="28"/>
                          </a:lnTo>
                          <a:lnTo>
                            <a:pt x="0" y="28"/>
                          </a:lnTo>
                          <a:lnTo>
                            <a:pt x="10" y="19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5888160" y="5541840"/>
                      <a:ext cx="316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9">
                          <a:moveTo>
                            <a:pt x="19" y="0"/>
                          </a:moveTo>
                          <a:lnTo>
                            <a:pt x="9" y="19"/>
                          </a:lnTo>
                          <a:lnTo>
                            <a:pt x="0" y="28"/>
                          </a:lnTo>
                          <a:lnTo>
                            <a:pt x="6" y="28"/>
                          </a:lnTo>
                          <a:lnTo>
                            <a:pt x="12" y="2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5886360" y="5584680"/>
                      <a:ext cx="6516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5894280" y="5586480"/>
                    <a:ext cx="57240" cy="144360"/>
                    <a:chOff x="5894280" y="5586480"/>
                    <a:chExt cx="57240" cy="144360"/>
                  </a:xfrm>
                </p:grpSpPr>
                <p:grpSp>
                  <p:nvGrpSpPr>
                    <p:cNvPr id="884" name=""/>
                    <p:cNvGrpSpPr/>
                    <p:nvPr/>
                  </p:nvGrpSpPr>
                  <p:grpSpPr>
                    <a:xfrm>
                      <a:off x="5894280" y="5586480"/>
                      <a:ext cx="57240" cy="142920"/>
                      <a:chOff x="5894280" y="5586480"/>
                      <a:chExt cx="57240" cy="142920"/>
                    </a:xfrm>
                  </p:grpSpPr>
                  <p:grpSp>
                    <p:nvGrpSpPr>
                      <p:cNvPr id="885" name=""/>
                      <p:cNvGrpSpPr/>
                      <p:nvPr/>
                    </p:nvGrpSpPr>
                    <p:grpSpPr>
                      <a:xfrm>
                        <a:off x="5894280" y="5586480"/>
                        <a:ext cx="49320" cy="142920"/>
                        <a:chOff x="5894280" y="5586480"/>
                        <a:chExt cx="49320" cy="142920"/>
                      </a:xfrm>
                    </p:grpSpPr>
                    <p:sp>
                      <p:nvSpPr>
                        <p:cNvPr id="886" name=""/>
                        <p:cNvSpPr/>
                        <p:nvPr/>
                      </p:nvSpPr>
                      <p:spPr>
                        <a:xfrm>
                          <a:off x="5894280" y="5586480"/>
                          <a:ext cx="49320" cy="2520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87" name=""/>
                        <p:cNvSpPr/>
                        <p:nvPr/>
                      </p:nvSpPr>
                      <p:spPr>
                        <a:xfrm>
                          <a:off x="5896080" y="5594400"/>
                          <a:ext cx="4752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88" name=""/>
                      <p:cNvSpPr/>
                      <p:nvPr/>
                    </p:nvSpPr>
                    <p:spPr>
                      <a:xfrm>
                        <a:off x="5924520" y="56134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2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5911920" y="5586480"/>
                      <a:ext cx="144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5900760" y="5587920"/>
                      <a:ext cx="144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0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5864400" y="5532480"/>
                    <a:ext cx="56880" cy="27000"/>
                    <a:chOff x="5864400" y="5532480"/>
                    <a:chExt cx="56880" cy="27000"/>
                  </a:xfrm>
                </p:grpSpPr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5864400" y="553248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5921280" y="553248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</p:grpSp>
          <p:grpSp>
            <p:nvGrpSpPr>
              <p:cNvPr id="894" name=""/>
              <p:cNvGrpSpPr/>
              <p:nvPr/>
            </p:nvGrpSpPr>
            <p:grpSpPr>
              <a:xfrm>
                <a:off x="6465960" y="5343480"/>
                <a:ext cx="406440" cy="635040"/>
                <a:chOff x="6465960" y="5343480"/>
                <a:chExt cx="406440" cy="63504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6465960" y="5343480"/>
                  <a:ext cx="406440" cy="6350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488280" y="5369040"/>
                  <a:ext cx="358560" cy="59040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46960" y="5381640"/>
                  <a:ext cx="24552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FORTEZZA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80080" y="5425920"/>
                  <a:ext cx="190800" cy="1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rypto 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  </a:t>
                  </a: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ard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541920" y="5788080"/>
                  <a:ext cx="243000" cy="147600"/>
                </a:xfrm>
                <a:prstGeom prst="rect">
                  <a:avLst/>
                </a:prstGeom>
                <a:solidFill>
                  <a:srgbClr val="f35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0240" rIns="30240" tIns="15840" bIns="1584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Group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Technologies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900" name=""/>
                <p:cNvGrpSpPr/>
                <p:nvPr/>
              </p:nvGrpSpPr>
              <p:grpSpPr>
                <a:xfrm>
                  <a:off x="6508800" y="5494320"/>
                  <a:ext cx="311040" cy="246240"/>
                  <a:chOff x="6508800" y="5494320"/>
                  <a:chExt cx="311040" cy="24624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6595920" y="556884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0" y="3"/>
                        </a:move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13" y="0"/>
                        </a:lnTo>
                        <a:lnTo>
                          <a:pt x="13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43" y="0"/>
                        </a:lnTo>
                        <a:lnTo>
                          <a:pt x="4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6605640" y="5575320"/>
                    <a:ext cx="25200" cy="7920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03" name=""/>
                  <p:cNvGrpSpPr/>
                  <p:nvPr/>
                </p:nvGrpSpPr>
                <p:grpSpPr>
                  <a:xfrm>
                    <a:off x="6575400" y="5537160"/>
                    <a:ext cx="63360" cy="136440"/>
                    <a:chOff x="6575400" y="5537160"/>
                    <a:chExt cx="63360" cy="136440"/>
                  </a:xfrm>
                </p:grpSpPr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6576840" y="5537160"/>
                      <a:ext cx="460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4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28" y="19"/>
                          </a:lnTo>
                          <a:lnTo>
                            <a:pt x="22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6600960" y="553716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0" y="0"/>
                          </a:moveTo>
                          <a:lnTo>
                            <a:pt x="8" y="13"/>
                          </a:lnTo>
                          <a:lnTo>
                            <a:pt x="16" y="19"/>
                          </a:lnTo>
                          <a:lnTo>
                            <a:pt x="11" y="19"/>
                          </a:lnTo>
                          <a:lnTo>
                            <a:pt x="6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6575400" y="5567400"/>
                      <a:ext cx="4608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907" name=""/>
                    <p:cNvGrpSpPr/>
                    <p:nvPr/>
                  </p:nvGrpSpPr>
                  <p:grpSpPr>
                    <a:xfrm>
                      <a:off x="6581880" y="5568840"/>
                      <a:ext cx="56880" cy="104760"/>
                      <a:chOff x="6581880" y="5568840"/>
                      <a:chExt cx="56880" cy="104760"/>
                    </a:xfrm>
                  </p:grpSpPr>
                  <p:grpSp>
                    <p:nvGrpSpPr>
                      <p:cNvPr id="908" name=""/>
                      <p:cNvGrpSpPr/>
                      <p:nvPr/>
                    </p:nvGrpSpPr>
                    <p:grpSpPr>
                      <a:xfrm>
                        <a:off x="6581880" y="5568840"/>
                        <a:ext cx="56880" cy="104760"/>
                        <a:chOff x="6581880" y="5568840"/>
                        <a:chExt cx="56880" cy="104760"/>
                      </a:xfrm>
                    </p:grpSpPr>
                    <p:grpSp>
                      <p:nvGrpSpPr>
                        <p:cNvPr id="909" name=""/>
                        <p:cNvGrpSpPr/>
                        <p:nvPr/>
                      </p:nvGrpSpPr>
                      <p:grpSpPr>
                        <a:xfrm>
                          <a:off x="6581880" y="5568840"/>
                          <a:ext cx="34920" cy="103320"/>
                          <a:chOff x="6581880" y="5568840"/>
                          <a:chExt cx="34920" cy="103320"/>
                        </a:xfrm>
                      </p:grpSpPr>
                      <p:sp>
                        <p:nvSpPr>
                          <p:cNvPr id="910" name=""/>
                          <p:cNvSpPr/>
                          <p:nvPr/>
                        </p:nvSpPr>
                        <p:spPr>
                          <a:xfrm>
                            <a:off x="6581880" y="5568840"/>
                            <a:ext cx="34920" cy="2556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440" bIns="-28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911" name=""/>
                          <p:cNvSpPr/>
                          <p:nvPr/>
                        </p:nvSpPr>
                        <p:spPr>
                          <a:xfrm>
                            <a:off x="6581880" y="5573880"/>
                            <a:ext cx="3492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912" name=""/>
                        <p:cNvSpPr/>
                        <p:nvPr/>
                      </p:nvSpPr>
                      <p:spPr>
                        <a:xfrm>
                          <a:off x="6603840" y="556884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5"/>
                              </a:lnTo>
                              <a:lnTo>
                                <a:pt x="0" y="65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13" name=""/>
                        <p:cNvSpPr/>
                        <p:nvPr/>
                      </p:nvSpPr>
                      <p:spPr>
                        <a:xfrm>
                          <a:off x="6611760" y="5570640"/>
                          <a:ext cx="27000" cy="10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4"/>
                              </a:lnTo>
                              <a:lnTo>
                                <a:pt x="0" y="64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14" name=""/>
                      <p:cNvSpPr/>
                      <p:nvPr/>
                    </p:nvSpPr>
                    <p:spPr>
                      <a:xfrm>
                        <a:off x="6591240" y="5587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15" name=""/>
                  <p:cNvSpPr/>
                  <p:nvPr/>
                </p:nvSpPr>
                <p:spPr>
                  <a:xfrm>
                    <a:off x="6532560" y="5645160"/>
                    <a:ext cx="1332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0" y="3"/>
                        </a:moveTo>
                        <a:lnTo>
                          <a:pt x="43" y="3"/>
                        </a:lnTo>
                        <a:lnTo>
                          <a:pt x="43" y="0"/>
                        </a:lnTo>
                        <a:lnTo>
                          <a:pt x="46" y="0"/>
                        </a:lnTo>
                        <a:lnTo>
                          <a:pt x="46" y="3"/>
                        </a:lnTo>
                        <a:lnTo>
                          <a:pt x="49" y="3"/>
                        </a:lnTo>
                        <a:lnTo>
                          <a:pt x="49" y="0"/>
                        </a:lnTo>
                        <a:lnTo>
                          <a:pt x="52" y="0"/>
                        </a:lnTo>
                        <a:lnTo>
                          <a:pt x="52" y="3"/>
                        </a:lnTo>
                        <a:lnTo>
                          <a:pt x="55" y="3"/>
                        </a:lnTo>
                        <a:lnTo>
                          <a:pt x="55" y="0"/>
                        </a:lnTo>
                        <a:lnTo>
                          <a:pt x="58" y="0"/>
                        </a:lnTo>
                        <a:lnTo>
                          <a:pt x="58" y="3"/>
                        </a:lnTo>
                        <a:lnTo>
                          <a:pt x="61" y="3"/>
                        </a:lnTo>
                        <a:lnTo>
                          <a:pt x="61" y="0"/>
                        </a:lnTo>
                        <a:lnTo>
                          <a:pt x="64" y="0"/>
                        </a:lnTo>
                        <a:lnTo>
                          <a:pt x="64" y="3"/>
                        </a:lnTo>
                        <a:lnTo>
                          <a:pt x="68" y="3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1" y="3"/>
                        </a:lnTo>
                        <a:lnTo>
                          <a:pt x="74" y="3"/>
                        </a:lnTo>
                        <a:lnTo>
                          <a:pt x="74" y="0"/>
                        </a:lnTo>
                        <a:lnTo>
                          <a:pt x="77" y="0"/>
                        </a:lnTo>
                        <a:lnTo>
                          <a:pt x="77" y="3"/>
                        </a:lnTo>
                        <a:lnTo>
                          <a:pt x="80" y="3"/>
                        </a:lnTo>
                        <a:lnTo>
                          <a:pt x="80" y="0"/>
                        </a:lnTo>
                        <a:lnTo>
                          <a:pt x="83" y="0"/>
                        </a:lnTo>
                        <a:lnTo>
                          <a:pt x="8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16" name=""/>
                  <p:cNvGrpSpPr/>
                  <p:nvPr/>
                </p:nvGrpSpPr>
                <p:grpSpPr>
                  <a:xfrm>
                    <a:off x="6508800" y="5494320"/>
                    <a:ext cx="69840" cy="174600"/>
                    <a:chOff x="6508800" y="5494320"/>
                    <a:chExt cx="69840" cy="174600"/>
                  </a:xfrm>
                </p:grpSpPr>
                <p:grpSp>
                  <p:nvGrpSpPr>
                    <p:cNvPr id="917" name=""/>
                    <p:cNvGrpSpPr/>
                    <p:nvPr/>
                  </p:nvGrpSpPr>
                  <p:grpSpPr>
                    <a:xfrm>
                      <a:off x="6508800" y="5494320"/>
                      <a:ext cx="57240" cy="65160"/>
                      <a:chOff x="6508800" y="5494320"/>
                      <a:chExt cx="57240" cy="65160"/>
                    </a:xfrm>
                  </p:grpSpPr>
                  <p:sp>
                    <p:nvSpPr>
                      <p:cNvPr id="918" name=""/>
                      <p:cNvSpPr/>
                      <p:nvPr/>
                    </p:nvSpPr>
                    <p:spPr>
                      <a:xfrm>
                        <a:off x="6510240" y="5494320"/>
                        <a:ext cx="558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9" y="18"/>
                            </a:lnTo>
                            <a:lnTo>
                              <a:pt x="0" y="26"/>
                            </a:lnTo>
                            <a:lnTo>
                              <a:pt x="34" y="26"/>
                            </a:lnTo>
                            <a:lnTo>
                              <a:pt x="26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19" name=""/>
                      <p:cNvSpPr/>
                      <p:nvPr/>
                    </p:nvSpPr>
                    <p:spPr>
                      <a:xfrm>
                        <a:off x="6539040" y="549432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0" y="0"/>
                            </a:moveTo>
                            <a:lnTo>
                              <a:pt x="8" y="18"/>
                            </a:lnTo>
                            <a:lnTo>
                              <a:pt x="16" y="26"/>
                            </a:lnTo>
                            <a:lnTo>
                              <a:pt x="11" y="26"/>
                            </a:lnTo>
                            <a:lnTo>
                              <a:pt x="6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>
                        <a:off x="6508800" y="5533920"/>
                        <a:ext cx="55440" cy="2556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921" name=""/>
                    <p:cNvGrpSpPr/>
                    <p:nvPr/>
                  </p:nvGrpSpPr>
                  <p:grpSpPr>
                    <a:xfrm>
                      <a:off x="6515280" y="5535720"/>
                      <a:ext cx="63360" cy="133200"/>
                      <a:chOff x="6515280" y="5535720"/>
                      <a:chExt cx="63360" cy="133200"/>
                    </a:xfrm>
                  </p:grpSpPr>
                  <p:sp>
                    <p:nvSpPr>
                      <p:cNvPr id="922" name=""/>
                      <p:cNvSpPr/>
                      <p:nvPr/>
                    </p:nvSpPr>
                    <p:spPr>
                      <a:xfrm>
                        <a:off x="6515280" y="5622840"/>
                        <a:ext cx="4752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923" name=""/>
                      <p:cNvGrpSpPr/>
                      <p:nvPr/>
                    </p:nvGrpSpPr>
                    <p:grpSpPr>
                      <a:xfrm>
                        <a:off x="6515280" y="5535720"/>
                        <a:ext cx="42840" cy="112680"/>
                        <a:chOff x="6515280" y="5535720"/>
                        <a:chExt cx="42840" cy="112680"/>
                      </a:xfrm>
                    </p:grpSpPr>
                    <p:sp>
                      <p:nvSpPr>
                        <p:cNvPr id="924" name=""/>
                        <p:cNvSpPr/>
                        <p:nvPr/>
                      </p:nvSpPr>
                      <p:spPr>
                        <a:xfrm>
                          <a:off x="6516720" y="5535720"/>
                          <a:ext cx="4140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25" name=""/>
                        <p:cNvSpPr/>
                        <p:nvPr/>
                      </p:nvSpPr>
                      <p:spPr>
                        <a:xfrm>
                          <a:off x="6515280" y="5541840"/>
                          <a:ext cx="41040" cy="10656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26" name=""/>
                      <p:cNvSpPr/>
                      <p:nvPr/>
                    </p:nvSpPr>
                    <p:spPr>
                      <a:xfrm>
                        <a:off x="6543720" y="5535720"/>
                        <a:ext cx="144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27" name=""/>
                      <p:cNvSpPr/>
                      <p:nvPr/>
                    </p:nvSpPr>
                    <p:spPr>
                      <a:xfrm>
                        <a:off x="6551640" y="553716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70"/>
                            </a:lnTo>
                            <a:lnTo>
                              <a:pt x="0" y="7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28" name=""/>
                      <p:cNvSpPr/>
                      <p:nvPr/>
                    </p:nvSpPr>
                    <p:spPr>
                      <a:xfrm>
                        <a:off x="6527880" y="5560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2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29" name=""/>
                  <p:cNvSpPr/>
                  <p:nvPr/>
                </p:nvSpPr>
                <p:spPr>
                  <a:xfrm>
                    <a:off x="6540480" y="5603760"/>
                    <a:ext cx="2556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6586560" y="5649840"/>
                    <a:ext cx="2520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31" name=""/>
                  <p:cNvGrpSpPr/>
                  <p:nvPr/>
                </p:nvGrpSpPr>
                <p:grpSpPr>
                  <a:xfrm>
                    <a:off x="6535800" y="5551560"/>
                    <a:ext cx="65160" cy="68040"/>
                    <a:chOff x="6535800" y="5551560"/>
                    <a:chExt cx="65160" cy="68040"/>
                  </a:xfrm>
                </p:grpSpPr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6535800" y="5551560"/>
                      <a:ext cx="65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21" y="0"/>
                          </a:moveTo>
                          <a:lnTo>
                            <a:pt x="10" y="20"/>
                          </a:lnTo>
                          <a:lnTo>
                            <a:pt x="0" y="28"/>
                          </a:lnTo>
                          <a:lnTo>
                            <a:pt x="40" y="28"/>
                          </a:lnTo>
                          <a:lnTo>
                            <a:pt x="30" y="19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6570720" y="5551560"/>
                      <a:ext cx="302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9">
                          <a:moveTo>
                            <a:pt x="0" y="0"/>
                          </a:moveTo>
                          <a:lnTo>
                            <a:pt x="9" y="19"/>
                          </a:lnTo>
                          <a:lnTo>
                            <a:pt x="18" y="28"/>
                          </a:lnTo>
                          <a:lnTo>
                            <a:pt x="13" y="28"/>
                          </a:lnTo>
                          <a:lnTo>
                            <a:pt x="7" y="2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6535800" y="5594400"/>
                      <a:ext cx="6516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6543720" y="5595840"/>
                    <a:ext cx="69840" cy="144720"/>
                    <a:chOff x="6543720" y="5595840"/>
                    <a:chExt cx="69840" cy="144720"/>
                  </a:xfrm>
                </p:grpSpPr>
                <p:grpSp>
                  <p:nvGrpSpPr>
                    <p:cNvPr id="936" name=""/>
                    <p:cNvGrpSpPr/>
                    <p:nvPr/>
                  </p:nvGrpSpPr>
                  <p:grpSpPr>
                    <a:xfrm>
                      <a:off x="6543720" y="5595840"/>
                      <a:ext cx="49320" cy="142920"/>
                      <a:chOff x="6543720" y="5595840"/>
                      <a:chExt cx="49320" cy="142920"/>
                    </a:xfrm>
                  </p:grpSpPr>
                  <p:grpSp>
                    <p:nvGrpSpPr>
                      <p:cNvPr id="937" name=""/>
                      <p:cNvGrpSpPr/>
                      <p:nvPr/>
                    </p:nvGrpSpPr>
                    <p:grpSpPr>
                      <a:xfrm>
                        <a:off x="6543720" y="5595840"/>
                        <a:ext cx="49320" cy="142920"/>
                        <a:chOff x="6543720" y="5595840"/>
                        <a:chExt cx="49320" cy="142920"/>
                      </a:xfrm>
                    </p:grpSpPr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>
                          <a:off x="6543720" y="5595840"/>
                          <a:ext cx="49320" cy="2556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39" name=""/>
                        <p:cNvSpPr/>
                        <p:nvPr/>
                      </p:nvSpPr>
                      <p:spPr>
                        <a:xfrm>
                          <a:off x="6543720" y="5603760"/>
                          <a:ext cx="4932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40" name=""/>
                      <p:cNvSpPr/>
                      <p:nvPr/>
                    </p:nvSpPr>
                    <p:spPr>
                      <a:xfrm>
                        <a:off x="6558120" y="562284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3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6576840" y="5595840"/>
                      <a:ext cx="18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6586560" y="5597640"/>
                      <a:ext cx="2700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90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6513480" y="5541840"/>
                    <a:ext cx="57240" cy="27000"/>
                    <a:chOff x="6513480" y="5541840"/>
                    <a:chExt cx="57240" cy="27000"/>
                  </a:xfrm>
                </p:grpSpPr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6513480" y="554184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6570720" y="554184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946" name=""/>
                  <p:cNvSpPr/>
                  <p:nvPr/>
                </p:nvSpPr>
                <p:spPr>
                  <a:xfrm>
                    <a:off x="6661080" y="556884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4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30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4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43" y="58"/>
                        </a:lnTo>
                        <a:lnTo>
                          <a:pt x="43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6705720" y="5575320"/>
                    <a:ext cx="25200" cy="7920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6703920" y="5537160"/>
                    <a:ext cx="54000" cy="136440"/>
                    <a:chOff x="6703920" y="5537160"/>
                    <a:chExt cx="54000" cy="13644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6703920" y="5537160"/>
                      <a:ext cx="478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4" y="0"/>
                          </a:moveTo>
                          <a:lnTo>
                            <a:pt x="22" y="13"/>
                          </a:lnTo>
                          <a:lnTo>
                            <a:pt x="29" y="19"/>
                          </a:lnTo>
                          <a:lnTo>
                            <a:pt x="0" y="19"/>
                          </a:lnTo>
                          <a:lnTo>
                            <a:pt x="7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6703920" y="553716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16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4" y="19"/>
                          </a:lnTo>
                          <a:lnTo>
                            <a:pt x="9" y="1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6703920" y="5567400"/>
                      <a:ext cx="4608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952" name=""/>
                    <p:cNvGrpSpPr/>
                    <p:nvPr/>
                  </p:nvGrpSpPr>
                  <p:grpSpPr>
                    <a:xfrm>
                      <a:off x="6710400" y="5568840"/>
                      <a:ext cx="47520" cy="104760"/>
                      <a:chOff x="6710400" y="5568840"/>
                      <a:chExt cx="47520" cy="104760"/>
                    </a:xfrm>
                  </p:grpSpPr>
                  <p:grpSp>
                    <p:nvGrpSpPr>
                      <p:cNvPr id="953" name=""/>
                      <p:cNvGrpSpPr/>
                      <p:nvPr/>
                    </p:nvGrpSpPr>
                    <p:grpSpPr>
                      <a:xfrm>
                        <a:off x="6710400" y="5568840"/>
                        <a:ext cx="36360" cy="104760"/>
                        <a:chOff x="6710400" y="5568840"/>
                        <a:chExt cx="36360" cy="104760"/>
                      </a:xfrm>
                    </p:grpSpPr>
                    <p:grpSp>
                      <p:nvGrpSpPr>
                        <p:cNvPr id="954" name=""/>
                        <p:cNvGrpSpPr/>
                        <p:nvPr/>
                      </p:nvGrpSpPr>
                      <p:grpSpPr>
                        <a:xfrm>
                          <a:off x="6710400" y="5568840"/>
                          <a:ext cx="33480" cy="103320"/>
                          <a:chOff x="6710400" y="5568840"/>
                          <a:chExt cx="33480" cy="103320"/>
                        </a:xfrm>
                      </p:grpSpPr>
                      <p:sp>
                        <p:nvSpPr>
                          <p:cNvPr id="955" name=""/>
                          <p:cNvSpPr/>
                          <p:nvPr/>
                        </p:nvSpPr>
                        <p:spPr>
                          <a:xfrm>
                            <a:off x="6710400" y="5568840"/>
                            <a:ext cx="33480" cy="2556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440" bIns="-28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956" name=""/>
                          <p:cNvSpPr/>
                          <p:nvPr/>
                        </p:nvSpPr>
                        <p:spPr>
                          <a:xfrm>
                            <a:off x="6710400" y="5573880"/>
                            <a:ext cx="3348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957" name=""/>
                        <p:cNvSpPr/>
                        <p:nvPr/>
                      </p:nvSpPr>
                      <p:spPr>
                        <a:xfrm>
                          <a:off x="6719760" y="556884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5"/>
                              </a:lnTo>
                              <a:lnTo>
                                <a:pt x="16" y="65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58" name=""/>
                        <p:cNvSpPr/>
                        <p:nvPr/>
                      </p:nvSpPr>
                      <p:spPr>
                        <a:xfrm>
                          <a:off x="6711840" y="5570640"/>
                          <a:ext cx="27000" cy="10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4"/>
                              </a:lnTo>
                              <a:lnTo>
                                <a:pt x="16" y="64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6730920" y="5587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60" name=""/>
                  <p:cNvSpPr/>
                  <p:nvPr/>
                </p:nvSpPr>
                <p:spPr>
                  <a:xfrm>
                    <a:off x="6661080" y="5645160"/>
                    <a:ext cx="1335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8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83" y="58"/>
                        </a:lnTo>
                        <a:lnTo>
                          <a:pt x="83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6761160" y="5494320"/>
                    <a:ext cx="58680" cy="174600"/>
                    <a:chOff x="6761160" y="5494320"/>
                    <a:chExt cx="58680" cy="174600"/>
                  </a:xfrm>
                </p:grpSpPr>
                <p:grpSp>
                  <p:nvGrpSpPr>
                    <p:cNvPr id="962" name=""/>
                    <p:cNvGrpSpPr/>
                    <p:nvPr/>
                  </p:nvGrpSpPr>
                  <p:grpSpPr>
                    <a:xfrm>
                      <a:off x="6761160" y="5494320"/>
                      <a:ext cx="57240" cy="65160"/>
                      <a:chOff x="6761160" y="5494320"/>
                      <a:chExt cx="57240" cy="65160"/>
                    </a:xfrm>
                  </p:grpSpPr>
                  <p:sp>
                    <p:nvSpPr>
                      <p:cNvPr id="963" name=""/>
                      <p:cNvSpPr/>
                      <p:nvPr/>
                    </p:nvSpPr>
                    <p:spPr>
                      <a:xfrm>
                        <a:off x="6762600" y="5494320"/>
                        <a:ext cx="558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26" y="18"/>
                            </a:lnTo>
                            <a:lnTo>
                              <a:pt x="34" y="26"/>
                            </a:lnTo>
                            <a:lnTo>
                              <a:pt x="0" y="26"/>
                            </a:lnTo>
                            <a:lnTo>
                              <a:pt x="8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64" name=""/>
                      <p:cNvSpPr/>
                      <p:nvPr/>
                    </p:nvSpPr>
                    <p:spPr>
                      <a:xfrm>
                        <a:off x="6762600" y="549432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16" y="0"/>
                            </a:moveTo>
                            <a:lnTo>
                              <a:pt x="7" y="18"/>
                            </a:lnTo>
                            <a:lnTo>
                              <a:pt x="0" y="26"/>
                            </a:lnTo>
                            <a:lnTo>
                              <a:pt x="5" y="26"/>
                            </a:lnTo>
                            <a:lnTo>
                              <a:pt x="10" y="19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6761160" y="5533920"/>
                        <a:ext cx="55440" cy="2556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966" name=""/>
                    <p:cNvGrpSpPr/>
                    <p:nvPr/>
                  </p:nvGrpSpPr>
                  <p:grpSpPr>
                    <a:xfrm>
                      <a:off x="6764400" y="5535720"/>
                      <a:ext cx="55440" cy="133200"/>
                      <a:chOff x="6764400" y="5535720"/>
                      <a:chExt cx="55440" cy="133200"/>
                    </a:xfrm>
                  </p:grpSpPr>
                  <p:sp>
                    <p:nvSpPr>
                      <p:cNvPr id="967" name=""/>
                      <p:cNvSpPr/>
                      <p:nvPr/>
                    </p:nvSpPr>
                    <p:spPr>
                      <a:xfrm>
                        <a:off x="6764400" y="5622840"/>
                        <a:ext cx="4608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968" name=""/>
                      <p:cNvGrpSpPr/>
                      <p:nvPr/>
                    </p:nvGrpSpPr>
                    <p:grpSpPr>
                      <a:xfrm>
                        <a:off x="6769080" y="5535720"/>
                        <a:ext cx="41400" cy="112680"/>
                        <a:chOff x="6769080" y="5535720"/>
                        <a:chExt cx="41400" cy="112680"/>
                      </a:xfrm>
                    </p:grpSpPr>
                    <p:sp>
                      <p:nvSpPr>
                        <p:cNvPr id="969" name=""/>
                        <p:cNvSpPr/>
                        <p:nvPr/>
                      </p:nvSpPr>
                      <p:spPr>
                        <a:xfrm>
                          <a:off x="6769080" y="5535720"/>
                          <a:ext cx="4140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70" name=""/>
                        <p:cNvSpPr/>
                        <p:nvPr/>
                      </p:nvSpPr>
                      <p:spPr>
                        <a:xfrm>
                          <a:off x="6769080" y="5541840"/>
                          <a:ext cx="41400" cy="10656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71" name=""/>
                      <p:cNvSpPr/>
                      <p:nvPr/>
                    </p:nvSpPr>
                    <p:spPr>
                      <a:xfrm>
                        <a:off x="6781680" y="5535720"/>
                        <a:ext cx="180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72" name=""/>
                      <p:cNvSpPr/>
                      <p:nvPr/>
                    </p:nvSpPr>
                    <p:spPr>
                      <a:xfrm>
                        <a:off x="6772320" y="553716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70"/>
                            </a:lnTo>
                            <a:lnTo>
                              <a:pt x="16" y="7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6792840" y="5560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3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74" name=""/>
                  <p:cNvSpPr/>
                  <p:nvPr/>
                </p:nvSpPr>
                <p:spPr>
                  <a:xfrm>
                    <a:off x="6783480" y="5603760"/>
                    <a:ext cx="2520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6730920" y="5649840"/>
                    <a:ext cx="2556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6724800" y="5551560"/>
                    <a:ext cx="66600" cy="68040"/>
                    <a:chOff x="6724800" y="5551560"/>
                    <a:chExt cx="66600" cy="68040"/>
                  </a:xfrm>
                </p:grpSpPr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6726240" y="5551560"/>
                      <a:ext cx="65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19" y="0"/>
                          </a:moveTo>
                          <a:lnTo>
                            <a:pt x="30" y="20"/>
                          </a:lnTo>
                          <a:lnTo>
                            <a:pt x="40" y="28"/>
                          </a:lnTo>
                          <a:lnTo>
                            <a:pt x="0" y="28"/>
                          </a:lnTo>
                          <a:lnTo>
                            <a:pt x="10" y="19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6726240" y="5551560"/>
                      <a:ext cx="316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9">
                          <a:moveTo>
                            <a:pt x="19" y="0"/>
                          </a:moveTo>
                          <a:lnTo>
                            <a:pt x="9" y="19"/>
                          </a:lnTo>
                          <a:lnTo>
                            <a:pt x="0" y="28"/>
                          </a:lnTo>
                          <a:lnTo>
                            <a:pt x="6" y="28"/>
                          </a:lnTo>
                          <a:lnTo>
                            <a:pt x="12" y="2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6724800" y="5594400"/>
                      <a:ext cx="6480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80" name=""/>
                  <p:cNvGrpSpPr/>
                  <p:nvPr/>
                </p:nvGrpSpPr>
                <p:grpSpPr>
                  <a:xfrm>
                    <a:off x="6732720" y="5595840"/>
                    <a:ext cx="56880" cy="144720"/>
                    <a:chOff x="6732720" y="5595840"/>
                    <a:chExt cx="56880" cy="144720"/>
                  </a:xfrm>
                </p:grpSpPr>
                <p:grpSp>
                  <p:nvGrpSpPr>
                    <p:cNvPr id="981" name=""/>
                    <p:cNvGrpSpPr/>
                    <p:nvPr/>
                  </p:nvGrpSpPr>
                  <p:grpSpPr>
                    <a:xfrm>
                      <a:off x="6732720" y="5595840"/>
                      <a:ext cx="56880" cy="142920"/>
                      <a:chOff x="6732720" y="5595840"/>
                      <a:chExt cx="56880" cy="142920"/>
                    </a:xfrm>
                  </p:grpSpPr>
                  <p:grpSp>
                    <p:nvGrpSpPr>
                      <p:cNvPr id="982" name=""/>
                      <p:cNvGrpSpPr/>
                      <p:nvPr/>
                    </p:nvGrpSpPr>
                    <p:grpSpPr>
                      <a:xfrm>
                        <a:off x="6732720" y="5595840"/>
                        <a:ext cx="48960" cy="142920"/>
                        <a:chOff x="6732720" y="5595840"/>
                        <a:chExt cx="48960" cy="142920"/>
                      </a:xfrm>
                    </p:grpSpPr>
                    <p:sp>
                      <p:nvSpPr>
                        <p:cNvPr id="983" name=""/>
                        <p:cNvSpPr/>
                        <p:nvPr/>
                      </p:nvSpPr>
                      <p:spPr>
                        <a:xfrm>
                          <a:off x="6732720" y="5595840"/>
                          <a:ext cx="48960" cy="2556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84" name=""/>
                        <p:cNvSpPr/>
                        <p:nvPr/>
                      </p:nvSpPr>
                      <p:spPr>
                        <a:xfrm>
                          <a:off x="6734160" y="5603760"/>
                          <a:ext cx="4752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85" name=""/>
                      <p:cNvSpPr/>
                      <p:nvPr/>
                    </p:nvSpPr>
                    <p:spPr>
                      <a:xfrm>
                        <a:off x="6762600" y="562284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2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6750000" y="5595840"/>
                      <a:ext cx="18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6738840" y="5597640"/>
                      <a:ext cx="180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0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6702480" y="5541840"/>
                    <a:ext cx="57240" cy="27000"/>
                    <a:chOff x="6702480" y="5541840"/>
                    <a:chExt cx="57240" cy="27000"/>
                  </a:xfrm>
                </p:grpSpPr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6702480" y="554184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6759720" y="554184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</p:grpSp>
        </p:grpSp>
        <p:sp>
          <p:nvSpPr>
            <p:cNvPr id="991" name=""/>
            <p:cNvSpPr/>
            <p:nvPr/>
          </p:nvSpPr>
          <p:spPr>
            <a:xfrm>
              <a:off x="5530680" y="5143680"/>
              <a:ext cx="147348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2285640" y="228600"/>
            <a:ext cx="6579000" cy="5892840"/>
            <a:chOff x="2285640" y="228600"/>
            <a:chExt cx="6579000" cy="5892840"/>
          </a:xfrm>
        </p:grpSpPr>
        <p:sp>
          <p:nvSpPr>
            <p:cNvPr id="993" name=""/>
            <p:cNvSpPr/>
            <p:nvPr/>
          </p:nvSpPr>
          <p:spPr>
            <a:xfrm>
              <a:off x="4114800" y="1974960"/>
              <a:ext cx="2995200" cy="461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aeaea"/>
                  </a:solidFill>
                  <a:latin typeface="Arial"/>
                </a:rPr>
                <a:t>US/US Government</a:t>
              </a: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3915720" y="993600"/>
              <a:ext cx="1149480" cy="767520"/>
              <a:chOff x="3915720" y="993600"/>
              <a:chExt cx="1149480" cy="767520"/>
            </a:xfrm>
          </p:grpSpPr>
          <p:sp>
            <p:nvSpPr>
              <p:cNvPr id="995" name=""/>
              <p:cNvSpPr/>
              <p:nvPr/>
            </p:nvSpPr>
            <p:spPr>
              <a:xfrm>
                <a:off x="3978360" y="993600"/>
                <a:ext cx="1022400" cy="75888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3915360" y="1023840"/>
                <a:ext cx="1149480" cy="73728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7520" bIns="475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99"/>
                    </a:solidFill>
                    <a:latin typeface="Arial"/>
                  </a:rPr>
                  <a:t>PAA</a:t>
                </a:r>
                <a:endParaRPr b="0" lang="en-US" sz="2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2285640" y="228600"/>
              <a:ext cx="45345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ff99"/>
                  </a:solidFill>
                  <a:latin typeface="Arial"/>
                </a:rPr>
                <a:t>Operational PKI </a:t>
              </a:r>
              <a:endParaRPr b="0" lang="en-US" sz="4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37520" y="2940120"/>
              <a:ext cx="625320" cy="463320"/>
            </a:xfrm>
            <a:prstGeom prst="octagon">
              <a:avLst>
                <a:gd name="adj" fmla="val 29282"/>
              </a:avLst>
            </a:prstGeom>
            <a:noFill/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08440" y="3392640"/>
              <a:ext cx="477000" cy="2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Arial"/>
                </a:rPr>
                <a:t>Intel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7367760" y="3017880"/>
              <a:ext cx="626760" cy="36900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PCA 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213760" y="3392640"/>
              <a:ext cx="9216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8418600" y="3035160"/>
              <a:ext cx="92160" cy="28584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67360" y="254628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I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5400000">
              <a:off x="7505640" y="3845520"/>
              <a:ext cx="49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eaeaea"/>
                  </a:solidFill>
                  <a:latin typeface="Arial"/>
                </a:rPr>
                <a:t>....</a:t>
              </a:r>
              <a:endParaRPr b="0" lang="en-US" sz="2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5400000">
              <a:off x="8305920" y="3845520"/>
              <a:ext cx="49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eaeaea"/>
                  </a:solidFill>
                  <a:latin typeface="Arial"/>
                </a:rPr>
                <a:t>....</a:t>
              </a:r>
              <a:endParaRPr b="0" lang="en-US" sz="2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7445520" y="5295960"/>
              <a:ext cx="406080" cy="635040"/>
              <a:chOff x="7445520" y="5295960"/>
              <a:chExt cx="406080" cy="635040"/>
            </a:xfrm>
          </p:grpSpPr>
          <p:sp>
            <p:nvSpPr>
              <p:cNvPr id="1007" name=""/>
              <p:cNvSpPr/>
              <p:nvPr/>
            </p:nvSpPr>
            <p:spPr>
              <a:xfrm>
                <a:off x="7445520" y="5295960"/>
                <a:ext cx="40608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67480" y="5321160"/>
                <a:ext cx="35856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526160" y="533412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559280" y="537840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21480" y="5740200"/>
                <a:ext cx="24264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7488000" y="5446800"/>
                <a:ext cx="309960" cy="245880"/>
                <a:chOff x="7488000" y="5446800"/>
                <a:chExt cx="309960" cy="24588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7575120" y="5521320"/>
                  <a:ext cx="6948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584480" y="552780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15" name=""/>
                <p:cNvGrpSpPr/>
                <p:nvPr/>
              </p:nvGrpSpPr>
              <p:grpSpPr>
                <a:xfrm>
                  <a:off x="7554600" y="5489640"/>
                  <a:ext cx="62280" cy="136440"/>
                  <a:chOff x="7554600" y="5489640"/>
                  <a:chExt cx="62280" cy="13644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7555680" y="5489640"/>
                    <a:ext cx="457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7579440" y="5489640"/>
                    <a:ext cx="26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7554600" y="5519520"/>
                    <a:ext cx="453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7560360" y="5521320"/>
                    <a:ext cx="56520" cy="104760"/>
                    <a:chOff x="7560360" y="5521320"/>
                    <a:chExt cx="56520" cy="104760"/>
                  </a:xfrm>
                </p:grpSpPr>
                <p:grpSp>
                  <p:nvGrpSpPr>
                    <p:cNvPr id="1020" name=""/>
                    <p:cNvGrpSpPr/>
                    <p:nvPr/>
                  </p:nvGrpSpPr>
                  <p:grpSpPr>
                    <a:xfrm>
                      <a:off x="7560360" y="5521320"/>
                      <a:ext cx="56520" cy="104760"/>
                      <a:chOff x="7560360" y="5521320"/>
                      <a:chExt cx="56520" cy="104760"/>
                    </a:xfrm>
                  </p:grpSpPr>
                  <p:grpSp>
                    <p:nvGrpSpPr>
                      <p:cNvPr id="1021" name=""/>
                      <p:cNvGrpSpPr/>
                      <p:nvPr/>
                    </p:nvGrpSpPr>
                    <p:grpSpPr>
                      <a:xfrm>
                        <a:off x="7560360" y="5521320"/>
                        <a:ext cx="34560" cy="103320"/>
                        <a:chOff x="7560360" y="5521320"/>
                        <a:chExt cx="34560" cy="103320"/>
                      </a:xfrm>
                    </p:grpSpPr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>
                          <a:off x="7560360" y="5521320"/>
                          <a:ext cx="3456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023" name=""/>
                        <p:cNvSpPr/>
                        <p:nvPr/>
                      </p:nvSpPr>
                      <p:spPr>
                        <a:xfrm>
                          <a:off x="7560360" y="5526000"/>
                          <a:ext cx="34560" cy="9864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024" name=""/>
                      <p:cNvSpPr/>
                      <p:nvPr/>
                    </p:nvSpPr>
                    <p:spPr>
                      <a:xfrm>
                        <a:off x="7582320" y="5521320"/>
                        <a:ext cx="266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25" name=""/>
                      <p:cNvSpPr/>
                      <p:nvPr/>
                    </p:nvSpPr>
                    <p:spPr>
                      <a:xfrm>
                        <a:off x="7590240" y="5522760"/>
                        <a:ext cx="2664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7569720" y="5540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27" name=""/>
                <p:cNvSpPr/>
                <p:nvPr/>
              </p:nvSpPr>
              <p:spPr>
                <a:xfrm>
                  <a:off x="7511760" y="5597640"/>
                  <a:ext cx="13284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28" name=""/>
                <p:cNvGrpSpPr/>
                <p:nvPr/>
              </p:nvGrpSpPr>
              <p:grpSpPr>
                <a:xfrm>
                  <a:off x="7488000" y="5446800"/>
                  <a:ext cx="68760" cy="174600"/>
                  <a:chOff x="7488000" y="5446800"/>
                  <a:chExt cx="68760" cy="174600"/>
                </a:xfrm>
              </p:grpSpPr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7488000" y="5446800"/>
                    <a:ext cx="56520" cy="64800"/>
                    <a:chOff x="7488000" y="5446800"/>
                    <a:chExt cx="56520" cy="64800"/>
                  </a:xfrm>
                </p:grpSpPr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7489440" y="5446800"/>
                      <a:ext cx="5508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7517880" y="5446800"/>
                      <a:ext cx="266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7488000" y="5486400"/>
                      <a:ext cx="5544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7494120" y="5487840"/>
                    <a:ext cx="62640" cy="133560"/>
                    <a:chOff x="7494120" y="5487840"/>
                    <a:chExt cx="62640" cy="133560"/>
                  </a:xfrm>
                </p:grpSpPr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7494120" y="5575320"/>
                      <a:ext cx="4716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035" name=""/>
                    <p:cNvGrpSpPr/>
                    <p:nvPr/>
                  </p:nvGrpSpPr>
                  <p:grpSpPr>
                    <a:xfrm>
                      <a:off x="7494120" y="5487840"/>
                      <a:ext cx="42120" cy="112680"/>
                      <a:chOff x="7494120" y="5487840"/>
                      <a:chExt cx="42120" cy="112680"/>
                    </a:xfrm>
                  </p:grpSpPr>
                  <p:sp>
                    <p:nvSpPr>
                      <p:cNvPr id="1036" name=""/>
                      <p:cNvSpPr/>
                      <p:nvPr/>
                    </p:nvSpPr>
                    <p:spPr>
                      <a:xfrm>
                        <a:off x="7495200" y="5487840"/>
                        <a:ext cx="4104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37" name=""/>
                      <p:cNvSpPr/>
                      <p:nvPr/>
                    </p:nvSpPr>
                    <p:spPr>
                      <a:xfrm>
                        <a:off x="7494120" y="5494320"/>
                        <a:ext cx="4104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7522200" y="5487840"/>
                      <a:ext cx="144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7530120" y="5489640"/>
                      <a:ext cx="266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7506360" y="5513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41" name=""/>
                <p:cNvSpPr/>
                <p:nvPr/>
              </p:nvSpPr>
              <p:spPr>
                <a:xfrm>
                  <a:off x="7519680" y="5556240"/>
                  <a:ext cx="2484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565400" y="560232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43" name=""/>
                <p:cNvGrpSpPr/>
                <p:nvPr/>
              </p:nvGrpSpPr>
              <p:grpSpPr>
                <a:xfrm>
                  <a:off x="7514640" y="5503680"/>
                  <a:ext cx="64800" cy="68400"/>
                  <a:chOff x="7514640" y="5503680"/>
                  <a:chExt cx="64800" cy="68400"/>
                </a:xfrm>
              </p:grpSpPr>
              <p:sp>
                <p:nvSpPr>
                  <p:cNvPr id="1044" name=""/>
                  <p:cNvSpPr/>
                  <p:nvPr/>
                </p:nvSpPr>
                <p:spPr>
                  <a:xfrm>
                    <a:off x="7514640" y="550368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7549200" y="5503680"/>
                    <a:ext cx="29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7514640" y="5546520"/>
                    <a:ext cx="6480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47" name=""/>
                <p:cNvGrpSpPr/>
                <p:nvPr/>
              </p:nvGrpSpPr>
              <p:grpSpPr>
                <a:xfrm>
                  <a:off x="7522560" y="5548320"/>
                  <a:ext cx="69120" cy="144360"/>
                  <a:chOff x="7522560" y="5548320"/>
                  <a:chExt cx="69120" cy="144360"/>
                </a:xfrm>
              </p:grpSpPr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7522560" y="5548320"/>
                    <a:ext cx="48960" cy="142920"/>
                    <a:chOff x="7522560" y="5548320"/>
                    <a:chExt cx="48960" cy="142920"/>
                  </a:xfrm>
                </p:grpSpPr>
                <p:grpSp>
                  <p:nvGrpSpPr>
                    <p:cNvPr id="1049" name=""/>
                    <p:cNvGrpSpPr/>
                    <p:nvPr/>
                  </p:nvGrpSpPr>
                  <p:grpSpPr>
                    <a:xfrm>
                      <a:off x="7522560" y="5548320"/>
                      <a:ext cx="48960" cy="142920"/>
                      <a:chOff x="7522560" y="5548320"/>
                      <a:chExt cx="48960" cy="142920"/>
                    </a:xfrm>
                  </p:grpSpPr>
                  <p:sp>
                    <p:nvSpPr>
                      <p:cNvPr id="1050" name=""/>
                      <p:cNvSpPr/>
                      <p:nvPr/>
                    </p:nvSpPr>
                    <p:spPr>
                      <a:xfrm>
                        <a:off x="7522560" y="5548320"/>
                        <a:ext cx="4896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51" name=""/>
                      <p:cNvSpPr/>
                      <p:nvPr/>
                    </p:nvSpPr>
                    <p:spPr>
                      <a:xfrm>
                        <a:off x="7522560" y="555624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7536600" y="557532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053" name=""/>
                  <p:cNvSpPr/>
                  <p:nvPr/>
                </p:nvSpPr>
                <p:spPr>
                  <a:xfrm>
                    <a:off x="7555680" y="5548320"/>
                    <a:ext cx="10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7565040" y="5549760"/>
                    <a:ext cx="266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55" name=""/>
                <p:cNvGrpSpPr/>
                <p:nvPr/>
              </p:nvGrpSpPr>
              <p:grpSpPr>
                <a:xfrm>
                  <a:off x="7492680" y="5494320"/>
                  <a:ext cx="56520" cy="27000"/>
                  <a:chOff x="7492680" y="5494320"/>
                  <a:chExt cx="56520" cy="2700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>
                    <a:off x="7492680" y="5494320"/>
                    <a:ext cx="55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7549200" y="549432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1058" name=""/>
                <p:cNvSpPr/>
                <p:nvPr/>
              </p:nvSpPr>
              <p:spPr>
                <a:xfrm>
                  <a:off x="7640280" y="5521320"/>
                  <a:ext cx="6948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684560" y="552780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60" name=""/>
                <p:cNvGrpSpPr/>
                <p:nvPr/>
              </p:nvGrpSpPr>
              <p:grpSpPr>
                <a:xfrm>
                  <a:off x="7683120" y="5489640"/>
                  <a:ext cx="52920" cy="136440"/>
                  <a:chOff x="7683120" y="5489640"/>
                  <a:chExt cx="52920" cy="13644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7683120" y="5489640"/>
                    <a:ext cx="47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7683120" y="5489640"/>
                    <a:ext cx="26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683120" y="5519520"/>
                    <a:ext cx="4572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064" name=""/>
                  <p:cNvGrpSpPr/>
                  <p:nvPr/>
                </p:nvGrpSpPr>
                <p:grpSpPr>
                  <a:xfrm>
                    <a:off x="7688880" y="5521320"/>
                    <a:ext cx="47160" cy="104760"/>
                    <a:chOff x="7688880" y="5521320"/>
                    <a:chExt cx="47160" cy="104760"/>
                  </a:xfrm>
                </p:grpSpPr>
                <p:grpSp>
                  <p:nvGrpSpPr>
                    <p:cNvPr id="1065" name=""/>
                    <p:cNvGrpSpPr/>
                    <p:nvPr/>
                  </p:nvGrpSpPr>
                  <p:grpSpPr>
                    <a:xfrm>
                      <a:off x="7688880" y="5521320"/>
                      <a:ext cx="36000" cy="104760"/>
                      <a:chOff x="7688880" y="5521320"/>
                      <a:chExt cx="36000" cy="104760"/>
                    </a:xfrm>
                  </p:grpSpPr>
                  <p:grpSp>
                    <p:nvGrpSpPr>
                      <p:cNvPr id="1066" name=""/>
                      <p:cNvGrpSpPr/>
                      <p:nvPr/>
                    </p:nvGrpSpPr>
                    <p:grpSpPr>
                      <a:xfrm>
                        <a:off x="7688880" y="5521320"/>
                        <a:ext cx="33120" cy="103320"/>
                        <a:chOff x="7688880" y="5521320"/>
                        <a:chExt cx="33120" cy="103320"/>
                      </a:xfrm>
                    </p:grpSpPr>
                    <p:sp>
                      <p:nvSpPr>
                        <p:cNvPr id="1067" name=""/>
                        <p:cNvSpPr/>
                        <p:nvPr/>
                      </p:nvSpPr>
                      <p:spPr>
                        <a:xfrm>
                          <a:off x="7688880" y="5521320"/>
                          <a:ext cx="3312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068" name=""/>
                        <p:cNvSpPr/>
                        <p:nvPr/>
                      </p:nvSpPr>
                      <p:spPr>
                        <a:xfrm>
                          <a:off x="7688880" y="5526000"/>
                          <a:ext cx="33120" cy="9864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069" name=""/>
                      <p:cNvSpPr/>
                      <p:nvPr/>
                    </p:nvSpPr>
                    <p:spPr>
                      <a:xfrm>
                        <a:off x="7698240" y="5521320"/>
                        <a:ext cx="266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70" name=""/>
                      <p:cNvSpPr/>
                      <p:nvPr/>
                    </p:nvSpPr>
                    <p:spPr>
                      <a:xfrm>
                        <a:off x="7690320" y="5522760"/>
                        <a:ext cx="2664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7709400" y="5540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72" name=""/>
                <p:cNvSpPr/>
                <p:nvPr/>
              </p:nvSpPr>
              <p:spPr>
                <a:xfrm>
                  <a:off x="7640280" y="5597640"/>
                  <a:ext cx="13284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73" name=""/>
                <p:cNvGrpSpPr/>
                <p:nvPr/>
              </p:nvGrpSpPr>
              <p:grpSpPr>
                <a:xfrm>
                  <a:off x="7740360" y="5446800"/>
                  <a:ext cx="57600" cy="174600"/>
                  <a:chOff x="7740360" y="5446800"/>
                  <a:chExt cx="57600" cy="174600"/>
                </a:xfrm>
              </p:grpSpPr>
              <p:grpSp>
                <p:nvGrpSpPr>
                  <p:cNvPr id="1074" name=""/>
                  <p:cNvGrpSpPr/>
                  <p:nvPr/>
                </p:nvGrpSpPr>
                <p:grpSpPr>
                  <a:xfrm>
                    <a:off x="7740360" y="5446800"/>
                    <a:ext cx="56160" cy="64800"/>
                    <a:chOff x="7740360" y="5446800"/>
                    <a:chExt cx="56160" cy="64800"/>
                  </a:xfrm>
                </p:grpSpPr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7741440" y="5446800"/>
                      <a:ext cx="5508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7741440" y="5446800"/>
                      <a:ext cx="266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7740360" y="5486400"/>
                      <a:ext cx="5508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078" name=""/>
                  <p:cNvGrpSpPr/>
                  <p:nvPr/>
                </p:nvGrpSpPr>
                <p:grpSpPr>
                  <a:xfrm>
                    <a:off x="7742880" y="5487840"/>
                    <a:ext cx="55080" cy="133560"/>
                    <a:chOff x="7742880" y="5487840"/>
                    <a:chExt cx="55080" cy="133560"/>
                  </a:xfrm>
                </p:grpSpPr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7742880" y="5575320"/>
                      <a:ext cx="457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080" name=""/>
                    <p:cNvGrpSpPr/>
                    <p:nvPr/>
                  </p:nvGrpSpPr>
                  <p:grpSpPr>
                    <a:xfrm>
                      <a:off x="7747560" y="5487840"/>
                      <a:ext cx="40680" cy="112680"/>
                      <a:chOff x="7747560" y="5487840"/>
                      <a:chExt cx="40680" cy="112680"/>
                    </a:xfrm>
                  </p:grpSpPr>
                  <p:sp>
                    <p:nvSpPr>
                      <p:cNvPr id="1081" name=""/>
                      <p:cNvSpPr/>
                      <p:nvPr/>
                    </p:nvSpPr>
                    <p:spPr>
                      <a:xfrm>
                        <a:off x="7747560" y="5487840"/>
                        <a:ext cx="4068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>
                        <a:off x="7747560" y="5494320"/>
                        <a:ext cx="4068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7760160" y="5487840"/>
                      <a:ext cx="108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7750440" y="5489640"/>
                      <a:ext cx="266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7771320" y="5513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86" name=""/>
                <p:cNvSpPr/>
                <p:nvPr/>
              </p:nvSpPr>
              <p:spPr>
                <a:xfrm>
                  <a:off x="7762320" y="555624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710120" y="5602320"/>
                  <a:ext cx="2484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88" name=""/>
                <p:cNvGrpSpPr/>
                <p:nvPr/>
              </p:nvGrpSpPr>
              <p:grpSpPr>
                <a:xfrm>
                  <a:off x="7703640" y="5503680"/>
                  <a:ext cx="65880" cy="68400"/>
                  <a:chOff x="7703640" y="5503680"/>
                  <a:chExt cx="65880" cy="68400"/>
                </a:xfrm>
              </p:grpSpPr>
              <p:sp>
                <p:nvSpPr>
                  <p:cNvPr id="1089" name=""/>
                  <p:cNvSpPr/>
                  <p:nvPr/>
                </p:nvSpPr>
                <p:spPr>
                  <a:xfrm>
                    <a:off x="7705080" y="5503680"/>
                    <a:ext cx="644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7705080" y="5503680"/>
                    <a:ext cx="313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7703640" y="5546520"/>
                    <a:ext cx="6480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7711560" y="5548320"/>
                  <a:ext cx="56520" cy="144360"/>
                  <a:chOff x="7711560" y="5548320"/>
                  <a:chExt cx="56520" cy="144360"/>
                </a:xfrm>
              </p:grpSpPr>
              <p:grpSp>
                <p:nvGrpSpPr>
                  <p:cNvPr id="1093" name=""/>
                  <p:cNvGrpSpPr/>
                  <p:nvPr/>
                </p:nvGrpSpPr>
                <p:grpSpPr>
                  <a:xfrm>
                    <a:off x="7711560" y="5548320"/>
                    <a:ext cx="56520" cy="142920"/>
                    <a:chOff x="7711560" y="5548320"/>
                    <a:chExt cx="56520" cy="142920"/>
                  </a:xfrm>
                </p:grpSpPr>
                <p:grpSp>
                  <p:nvGrpSpPr>
                    <p:cNvPr id="1094" name=""/>
                    <p:cNvGrpSpPr/>
                    <p:nvPr/>
                  </p:nvGrpSpPr>
                  <p:grpSpPr>
                    <a:xfrm>
                      <a:off x="7711560" y="5548320"/>
                      <a:ext cx="48960" cy="142920"/>
                      <a:chOff x="7711560" y="5548320"/>
                      <a:chExt cx="48960" cy="142920"/>
                    </a:xfrm>
                  </p:grpSpPr>
                  <p:sp>
                    <p:nvSpPr>
                      <p:cNvPr id="1095" name=""/>
                      <p:cNvSpPr/>
                      <p:nvPr/>
                    </p:nvSpPr>
                    <p:spPr>
                      <a:xfrm>
                        <a:off x="7711560" y="5548320"/>
                        <a:ext cx="4896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96" name=""/>
                      <p:cNvSpPr/>
                      <p:nvPr/>
                    </p:nvSpPr>
                    <p:spPr>
                      <a:xfrm>
                        <a:off x="7713000" y="5556240"/>
                        <a:ext cx="471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7741440" y="557532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098" name=""/>
                  <p:cNvSpPr/>
                  <p:nvPr/>
                </p:nvSpPr>
                <p:spPr>
                  <a:xfrm>
                    <a:off x="7728840" y="5548320"/>
                    <a:ext cx="10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7717680" y="5549760"/>
                    <a:ext cx="10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7681320" y="5494320"/>
                  <a:ext cx="56880" cy="27000"/>
                  <a:chOff x="7681320" y="5494320"/>
                  <a:chExt cx="56880" cy="2700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>
                    <a:off x="7681320" y="549432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7738200" y="549432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1103" name=""/>
            <p:cNvGrpSpPr/>
            <p:nvPr/>
          </p:nvGrpSpPr>
          <p:grpSpPr>
            <a:xfrm>
              <a:off x="8283600" y="5305320"/>
              <a:ext cx="406440" cy="635040"/>
              <a:chOff x="8283600" y="5305320"/>
              <a:chExt cx="406440" cy="635040"/>
            </a:xfrm>
          </p:grpSpPr>
          <p:sp>
            <p:nvSpPr>
              <p:cNvPr id="1104" name=""/>
              <p:cNvSpPr/>
              <p:nvPr/>
            </p:nvSpPr>
            <p:spPr>
              <a:xfrm>
                <a:off x="8283600" y="530532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305560" y="533088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364600" y="534348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397720" y="538776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359560" y="574992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109" name=""/>
              <p:cNvGrpSpPr/>
              <p:nvPr/>
            </p:nvGrpSpPr>
            <p:grpSpPr>
              <a:xfrm>
                <a:off x="8326440" y="5456160"/>
                <a:ext cx="311040" cy="246240"/>
                <a:chOff x="8326440" y="5456160"/>
                <a:chExt cx="311040" cy="24624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841356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8423280" y="553716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12" name=""/>
                <p:cNvGrpSpPr/>
                <p:nvPr/>
              </p:nvGrpSpPr>
              <p:grpSpPr>
                <a:xfrm>
                  <a:off x="8393040" y="5499000"/>
                  <a:ext cx="63360" cy="136440"/>
                  <a:chOff x="8393040" y="5499000"/>
                  <a:chExt cx="63360" cy="13644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>
                    <a:off x="8394480" y="549900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841824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839304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116" name=""/>
                  <p:cNvGrpSpPr/>
                  <p:nvPr/>
                </p:nvGrpSpPr>
                <p:grpSpPr>
                  <a:xfrm>
                    <a:off x="8399520" y="5530680"/>
                    <a:ext cx="56880" cy="104760"/>
                    <a:chOff x="8399520" y="5530680"/>
                    <a:chExt cx="56880" cy="104760"/>
                  </a:xfrm>
                </p:grpSpPr>
                <p:grpSp>
                  <p:nvGrpSpPr>
                    <p:cNvPr id="1117" name=""/>
                    <p:cNvGrpSpPr/>
                    <p:nvPr/>
                  </p:nvGrpSpPr>
                  <p:grpSpPr>
                    <a:xfrm>
                      <a:off x="8399520" y="5530680"/>
                      <a:ext cx="56880" cy="104760"/>
                      <a:chOff x="8399520" y="5530680"/>
                      <a:chExt cx="56880" cy="104760"/>
                    </a:xfrm>
                  </p:grpSpPr>
                  <p:grpSp>
                    <p:nvGrpSpPr>
                      <p:cNvPr id="1118" name=""/>
                      <p:cNvGrpSpPr/>
                      <p:nvPr/>
                    </p:nvGrpSpPr>
                    <p:grpSpPr>
                      <a:xfrm>
                        <a:off x="8399520" y="5530680"/>
                        <a:ext cx="34920" cy="103320"/>
                        <a:chOff x="8399520" y="5530680"/>
                        <a:chExt cx="34920" cy="103320"/>
                      </a:xfrm>
                    </p:grpSpPr>
                    <p:sp>
                      <p:nvSpPr>
                        <p:cNvPr id="1119" name=""/>
                        <p:cNvSpPr/>
                        <p:nvPr/>
                      </p:nvSpPr>
                      <p:spPr>
                        <a:xfrm>
                          <a:off x="8399520" y="553068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120" name=""/>
                        <p:cNvSpPr/>
                        <p:nvPr/>
                      </p:nvSpPr>
                      <p:spPr>
                        <a:xfrm>
                          <a:off x="8399520" y="553572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121" name=""/>
                      <p:cNvSpPr/>
                      <p:nvPr/>
                    </p:nvSpPr>
                    <p:spPr>
                      <a:xfrm>
                        <a:off x="842148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22" name=""/>
                      <p:cNvSpPr/>
                      <p:nvPr/>
                    </p:nvSpPr>
                    <p:spPr>
                      <a:xfrm>
                        <a:off x="842940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840888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24" name=""/>
                <p:cNvSpPr/>
                <p:nvPr/>
              </p:nvSpPr>
              <p:spPr>
                <a:xfrm>
                  <a:off x="8350200" y="560700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25" name=""/>
                <p:cNvGrpSpPr/>
                <p:nvPr/>
              </p:nvGrpSpPr>
              <p:grpSpPr>
                <a:xfrm>
                  <a:off x="8326440" y="5456160"/>
                  <a:ext cx="69840" cy="174600"/>
                  <a:chOff x="8326440" y="5456160"/>
                  <a:chExt cx="69840" cy="174600"/>
                </a:xfrm>
              </p:grpSpPr>
              <p:grpSp>
                <p:nvGrpSpPr>
                  <p:cNvPr id="1126" name=""/>
                  <p:cNvGrpSpPr/>
                  <p:nvPr/>
                </p:nvGrpSpPr>
                <p:grpSpPr>
                  <a:xfrm>
                    <a:off x="8326440" y="5456160"/>
                    <a:ext cx="56880" cy="65160"/>
                    <a:chOff x="8326440" y="5456160"/>
                    <a:chExt cx="56880" cy="65160"/>
                  </a:xfrm>
                </p:grpSpPr>
                <p:sp>
                  <p:nvSpPr>
                    <p:cNvPr id="1127" name=""/>
                    <p:cNvSpPr/>
                    <p:nvPr/>
                  </p:nvSpPr>
                  <p:spPr>
                    <a:xfrm>
                      <a:off x="8327880" y="545616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>
                      <a:off x="8356680" y="5456160"/>
                      <a:ext cx="266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>
                      <a:off x="8326440" y="549576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8332560" y="5497560"/>
                    <a:ext cx="63720" cy="133200"/>
                    <a:chOff x="8332560" y="5497560"/>
                    <a:chExt cx="63720" cy="13320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8332560" y="5584680"/>
                      <a:ext cx="478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132" name=""/>
                    <p:cNvGrpSpPr/>
                    <p:nvPr/>
                  </p:nvGrpSpPr>
                  <p:grpSpPr>
                    <a:xfrm>
                      <a:off x="8332560" y="5497560"/>
                      <a:ext cx="42840" cy="112680"/>
                      <a:chOff x="8332560" y="5497560"/>
                      <a:chExt cx="42840" cy="112680"/>
                    </a:xfrm>
                  </p:grpSpPr>
                  <p:sp>
                    <p:nvSpPr>
                      <p:cNvPr id="1133" name=""/>
                      <p:cNvSpPr/>
                      <p:nvPr/>
                    </p:nvSpPr>
                    <p:spPr>
                      <a:xfrm>
                        <a:off x="8334360" y="549756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34" name=""/>
                      <p:cNvSpPr/>
                      <p:nvPr/>
                    </p:nvSpPr>
                    <p:spPr>
                      <a:xfrm>
                        <a:off x="833256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8361360" y="549756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836928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834552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38" name=""/>
                <p:cNvSpPr/>
                <p:nvPr/>
              </p:nvSpPr>
              <p:spPr>
                <a:xfrm>
                  <a:off x="8358120" y="556560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8404200" y="561168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40" name=""/>
                <p:cNvGrpSpPr/>
                <p:nvPr/>
              </p:nvGrpSpPr>
              <p:grpSpPr>
                <a:xfrm>
                  <a:off x="8353440" y="5513400"/>
                  <a:ext cx="64800" cy="68040"/>
                  <a:chOff x="8353440" y="5513400"/>
                  <a:chExt cx="64800" cy="68040"/>
                </a:xfrm>
              </p:grpSpPr>
              <p:sp>
                <p:nvSpPr>
                  <p:cNvPr id="1141" name=""/>
                  <p:cNvSpPr/>
                  <p:nvPr/>
                </p:nvSpPr>
                <p:spPr>
                  <a:xfrm>
                    <a:off x="8353440" y="551340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8388360" y="5513400"/>
                    <a:ext cx="29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8353440" y="5556240"/>
                    <a:ext cx="6480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8361360" y="5557680"/>
                  <a:ext cx="69840" cy="144720"/>
                  <a:chOff x="8361360" y="5557680"/>
                  <a:chExt cx="69840" cy="144720"/>
                </a:xfrm>
              </p:grpSpPr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8361360" y="5557680"/>
                    <a:ext cx="48960" cy="142920"/>
                    <a:chOff x="8361360" y="5557680"/>
                    <a:chExt cx="48960" cy="142920"/>
                  </a:xfrm>
                </p:grpSpPr>
                <p:grpSp>
                  <p:nvGrpSpPr>
                    <p:cNvPr id="1146" name=""/>
                    <p:cNvGrpSpPr/>
                    <p:nvPr/>
                  </p:nvGrpSpPr>
                  <p:grpSpPr>
                    <a:xfrm>
                      <a:off x="8361360" y="5557680"/>
                      <a:ext cx="48960" cy="142920"/>
                      <a:chOff x="8361360" y="5557680"/>
                      <a:chExt cx="48960" cy="142920"/>
                    </a:xfrm>
                  </p:grpSpPr>
                  <p:sp>
                    <p:nvSpPr>
                      <p:cNvPr id="1147" name=""/>
                      <p:cNvSpPr/>
                      <p:nvPr/>
                    </p:nvSpPr>
                    <p:spPr>
                      <a:xfrm>
                        <a:off x="8361360" y="5557680"/>
                        <a:ext cx="4896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48" name=""/>
                      <p:cNvSpPr/>
                      <p:nvPr/>
                    </p:nvSpPr>
                    <p:spPr>
                      <a:xfrm>
                        <a:off x="8361360" y="556560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837540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150" name=""/>
                  <p:cNvSpPr/>
                  <p:nvPr/>
                </p:nvSpPr>
                <p:spPr>
                  <a:xfrm>
                    <a:off x="8394480" y="5557680"/>
                    <a:ext cx="1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8404200" y="555948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52" name=""/>
                <p:cNvGrpSpPr/>
                <p:nvPr/>
              </p:nvGrpSpPr>
              <p:grpSpPr>
                <a:xfrm>
                  <a:off x="8331120" y="5503680"/>
                  <a:ext cx="57240" cy="27000"/>
                  <a:chOff x="8331120" y="5503680"/>
                  <a:chExt cx="57240" cy="2700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>
                    <a:off x="8331120" y="55036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838836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1155" name=""/>
                <p:cNvSpPr/>
                <p:nvPr/>
              </p:nvSpPr>
              <p:spPr>
                <a:xfrm>
                  <a:off x="847872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523360" y="553716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57" name=""/>
                <p:cNvGrpSpPr/>
                <p:nvPr/>
              </p:nvGrpSpPr>
              <p:grpSpPr>
                <a:xfrm>
                  <a:off x="8521560" y="5499000"/>
                  <a:ext cx="54000" cy="136440"/>
                  <a:chOff x="8521560" y="5499000"/>
                  <a:chExt cx="54000" cy="13644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>
                    <a:off x="8521560" y="549900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852156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852156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161" name=""/>
                  <p:cNvGrpSpPr/>
                  <p:nvPr/>
                </p:nvGrpSpPr>
                <p:grpSpPr>
                  <a:xfrm>
                    <a:off x="8528040" y="5530680"/>
                    <a:ext cx="47520" cy="104760"/>
                    <a:chOff x="8528040" y="5530680"/>
                    <a:chExt cx="47520" cy="104760"/>
                  </a:xfrm>
                </p:grpSpPr>
                <p:grpSp>
                  <p:nvGrpSpPr>
                    <p:cNvPr id="1162" name=""/>
                    <p:cNvGrpSpPr/>
                    <p:nvPr/>
                  </p:nvGrpSpPr>
                  <p:grpSpPr>
                    <a:xfrm>
                      <a:off x="8528040" y="5530680"/>
                      <a:ext cx="36360" cy="104760"/>
                      <a:chOff x="8528040" y="5530680"/>
                      <a:chExt cx="36360" cy="104760"/>
                    </a:xfrm>
                  </p:grpSpPr>
                  <p:grpSp>
                    <p:nvGrpSpPr>
                      <p:cNvPr id="1163" name=""/>
                      <p:cNvGrpSpPr/>
                      <p:nvPr/>
                    </p:nvGrpSpPr>
                    <p:grpSpPr>
                      <a:xfrm>
                        <a:off x="8528040" y="5530680"/>
                        <a:ext cx="33120" cy="103320"/>
                        <a:chOff x="8528040" y="5530680"/>
                        <a:chExt cx="33120" cy="103320"/>
                      </a:xfrm>
                    </p:grpSpPr>
                    <p:sp>
                      <p:nvSpPr>
                        <p:cNvPr id="1164" name=""/>
                        <p:cNvSpPr/>
                        <p:nvPr/>
                      </p:nvSpPr>
                      <p:spPr>
                        <a:xfrm>
                          <a:off x="8528040" y="5530680"/>
                          <a:ext cx="331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165" name=""/>
                        <p:cNvSpPr/>
                        <p:nvPr/>
                      </p:nvSpPr>
                      <p:spPr>
                        <a:xfrm>
                          <a:off x="8528040" y="5535720"/>
                          <a:ext cx="331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166" name=""/>
                      <p:cNvSpPr/>
                      <p:nvPr/>
                    </p:nvSpPr>
                    <p:spPr>
                      <a:xfrm>
                        <a:off x="853740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67" name=""/>
                      <p:cNvSpPr/>
                      <p:nvPr/>
                    </p:nvSpPr>
                    <p:spPr>
                      <a:xfrm>
                        <a:off x="852948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854856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69" name=""/>
                <p:cNvSpPr/>
                <p:nvPr/>
              </p:nvSpPr>
              <p:spPr>
                <a:xfrm>
                  <a:off x="8478720" y="560700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70" name=""/>
                <p:cNvGrpSpPr/>
                <p:nvPr/>
              </p:nvGrpSpPr>
              <p:grpSpPr>
                <a:xfrm>
                  <a:off x="8578800" y="5456160"/>
                  <a:ext cx="58680" cy="174600"/>
                  <a:chOff x="8578800" y="5456160"/>
                  <a:chExt cx="58680" cy="17460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8578800" y="5456160"/>
                    <a:ext cx="57240" cy="65160"/>
                    <a:chOff x="8578800" y="5456160"/>
                    <a:chExt cx="57240" cy="6516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8580240" y="545616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8580240" y="54561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>
                      <a:off x="8578800" y="549576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8582040" y="5497560"/>
                    <a:ext cx="55440" cy="133200"/>
                    <a:chOff x="8582040" y="5497560"/>
                    <a:chExt cx="55440" cy="13320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8582040" y="558468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177" name=""/>
                    <p:cNvGrpSpPr/>
                    <p:nvPr/>
                  </p:nvGrpSpPr>
                  <p:grpSpPr>
                    <a:xfrm>
                      <a:off x="8586720" y="5497560"/>
                      <a:ext cx="41400" cy="112680"/>
                      <a:chOff x="8586720" y="5497560"/>
                      <a:chExt cx="41400" cy="112680"/>
                    </a:xfrm>
                  </p:grpSpPr>
                  <p:sp>
                    <p:nvSpPr>
                      <p:cNvPr id="1178" name=""/>
                      <p:cNvSpPr/>
                      <p:nvPr/>
                    </p:nvSpPr>
                    <p:spPr>
                      <a:xfrm>
                        <a:off x="8586720" y="549756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79" name=""/>
                      <p:cNvSpPr/>
                      <p:nvPr/>
                    </p:nvSpPr>
                    <p:spPr>
                      <a:xfrm>
                        <a:off x="858672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8599320" y="5497560"/>
                      <a:ext cx="180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>
                      <a:off x="858996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861048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83" name=""/>
                <p:cNvSpPr/>
                <p:nvPr/>
              </p:nvSpPr>
              <p:spPr>
                <a:xfrm>
                  <a:off x="8601120" y="556560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8548560" y="56116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8542080" y="5513400"/>
                  <a:ext cx="66960" cy="68040"/>
                  <a:chOff x="8542080" y="5513400"/>
                  <a:chExt cx="66960" cy="6804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>
                    <a:off x="8543880" y="55134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8543880" y="551340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8542080" y="555624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8550000" y="5557680"/>
                  <a:ext cx="57240" cy="144720"/>
                  <a:chOff x="8550000" y="5557680"/>
                  <a:chExt cx="57240" cy="144720"/>
                </a:xfrm>
              </p:grpSpPr>
              <p:grpSp>
                <p:nvGrpSpPr>
                  <p:cNvPr id="1190" name=""/>
                  <p:cNvGrpSpPr/>
                  <p:nvPr/>
                </p:nvGrpSpPr>
                <p:grpSpPr>
                  <a:xfrm>
                    <a:off x="8550000" y="5557680"/>
                    <a:ext cx="57240" cy="142920"/>
                    <a:chOff x="8550000" y="5557680"/>
                    <a:chExt cx="57240" cy="142920"/>
                  </a:xfrm>
                </p:grpSpPr>
                <p:grpSp>
                  <p:nvGrpSpPr>
                    <p:cNvPr id="1191" name=""/>
                    <p:cNvGrpSpPr/>
                    <p:nvPr/>
                  </p:nvGrpSpPr>
                  <p:grpSpPr>
                    <a:xfrm>
                      <a:off x="8550000" y="5557680"/>
                      <a:ext cx="49320" cy="142920"/>
                      <a:chOff x="8550000" y="5557680"/>
                      <a:chExt cx="49320" cy="142920"/>
                    </a:xfrm>
                  </p:grpSpPr>
                  <p:sp>
                    <p:nvSpPr>
                      <p:cNvPr id="1192" name=""/>
                      <p:cNvSpPr/>
                      <p:nvPr/>
                    </p:nvSpPr>
                    <p:spPr>
                      <a:xfrm>
                        <a:off x="8550000" y="555768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93" name=""/>
                      <p:cNvSpPr/>
                      <p:nvPr/>
                    </p:nvSpPr>
                    <p:spPr>
                      <a:xfrm>
                        <a:off x="8551800" y="556560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858024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195" name=""/>
                  <p:cNvSpPr/>
                  <p:nvPr/>
                </p:nvSpPr>
                <p:spPr>
                  <a:xfrm>
                    <a:off x="8567640" y="555768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8556480" y="5559480"/>
                    <a:ext cx="1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97" name=""/>
                <p:cNvGrpSpPr/>
                <p:nvPr/>
              </p:nvGrpSpPr>
              <p:grpSpPr>
                <a:xfrm>
                  <a:off x="8520120" y="5503680"/>
                  <a:ext cx="56880" cy="27000"/>
                  <a:chOff x="8520120" y="5503680"/>
                  <a:chExt cx="56880" cy="2700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>
                    <a:off x="8520120" y="55036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857700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sp>
          <p:nvSpPr>
            <p:cNvPr id="1200" name=""/>
            <p:cNvSpPr/>
            <p:nvPr/>
          </p:nvSpPr>
          <p:spPr>
            <a:xfrm>
              <a:off x="7315200" y="3809880"/>
              <a:ext cx="1473120" cy="122580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15200" y="5124600"/>
              <a:ext cx="147312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238880" y="2457360"/>
              <a:ext cx="1625760" cy="366408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48400" y="4148280"/>
              <a:ext cx="46368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10600" y="4224240"/>
              <a:ext cx="463320" cy="62568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372440" y="4319640"/>
              <a:ext cx="46332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7388280" y="4502160"/>
              <a:ext cx="456840" cy="36900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267760" y="4148280"/>
              <a:ext cx="46332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229600" y="4224240"/>
              <a:ext cx="463680" cy="62568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191440" y="4319640"/>
              <a:ext cx="46368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8206920" y="4505400"/>
              <a:ext cx="456840" cy="36900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at security should a PKI provide?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The primary purpose is to establish TRUST</a:t>
            </a:r>
            <a:br>
              <a:rPr sz="3000"/>
            </a:b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I am who I say I am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I hold the private key that corresponds to the public key in my certificate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I am allowed to be a part of the community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Public Key Infrastructure Oper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Key and Certificate Generation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6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7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8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9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0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1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2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Public Key Infrastructure Oper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ccounting/Trac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ompromise Management &amp;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voca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ud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rch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ata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aster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ustomer Support/Technical Assista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boar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84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82440" rIns="82440" tIns="41400" bIns="414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Operational Challenge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623000" cy="44193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6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8280" rIns="98280" tIns="49320" bIns="49320" anchor="t">
            <a:normAutofit/>
          </a:bodyPr>
          <a:p>
            <a:pPr marL="369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istributed Operation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rusted Registration &amp; Establishmen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801720" indent="-308160">
              <a:lnSpc>
                <a:spcPct val="11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A establishment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801720" indent="-308160">
              <a:lnSpc>
                <a:spcPct val="11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r registration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rivilege Managemen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ompromise Management &amp; Certificate Revocation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992880" y="1295280"/>
            <a:ext cx="7137720" cy="5814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6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cc"/>
                </a:solidFill>
                <a:latin typeface="Arial"/>
              </a:rPr>
              <a:t>PKI Operations must be trustworth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2T17:51:26Z</dcterms:created>
  <dc:creator>User</dc:creator>
  <dc:description/>
  <dc:language>en-US</dc:language>
  <cp:lastModifiedBy>User</cp:lastModifiedBy>
  <cp:lastPrinted>1998-09-21T16:21:02Z</cp:lastPrinted>
  <dcterms:modified xsi:type="dcterms:W3CDTF">2000-01-18T00:52:17Z</dcterms:modified>
  <cp:revision>123</cp:revision>
  <dc:subject/>
  <dc:title>FORTEZZA  Security Management       Infrastructure Operations</dc:title>
</cp:coreProperties>
</file>