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1.jpeg" ContentType="image/jpeg"/>
  <Override PartName="/ppt/media/image2.wmf" ContentType="image/x-wmf"/>
  <Override PartName="/ppt/media/image32.wmf" ContentType="image/x-wmf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4.wmf" ContentType="image/x-wmf"/>
  <Override PartName="/ppt/media/image22.jpeg" ContentType="image/jpeg"/>
  <Override PartName="/ppt/media/image11.wmf" ContentType="image/x-wmf"/>
  <Override PartName="/ppt/media/image20.jpeg" ContentType="image/jpeg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31.wmf" ContentType="image/x-wmf"/>
  <Override PartName="/ppt/media/image19.jpeg" ContentType="image/jpeg"/>
  <Override PartName="/ppt/media/image29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25.jpeg" ContentType="image/jpeg"/>
  <Override PartName="/ppt/media/image5.wmf" ContentType="image/x-wmf"/>
  <Override PartName="/ppt/media/image35.wmf" ContentType="image/x-wmf"/>
  <Override PartName="/ppt/media/image27.jpeg" ContentType="image/jpeg"/>
  <Override PartName="/ppt/media/image13.wmf" ContentType="image/x-wmf"/>
  <Override PartName="/ppt/media/image33.wmf" ContentType="image/x-wmf"/>
  <Override PartName="/ppt/media/image3.wmf" ContentType="image/x-wmf"/>
  <Override PartName="/ppt/media/image23.jpeg" ContentType="image/jpeg"/>
  <Override PartName="/ppt/media/image34.wmf" ContentType="image/x-wmf"/>
  <Override PartName="/ppt/media/image4.wmf" ContentType="image/x-wmf"/>
  <Override PartName="/ppt/media/image1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C083-3EDA-4B40-98E2-C54AE90DC21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70000" y="693720"/>
            <a:ext cx="4518000" cy="3387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447560" y="5327640"/>
            <a:ext cx="3917880" cy="296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47560" y="5354640"/>
            <a:ext cx="3917880" cy="29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A5AF-801D-4B36-91E5-16005017ADF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150-A931-492D-8379-230D8F89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DAAD-9445-456A-B3DA-6593D702F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6897-ED38-4627-BCD9-DE15F3E5C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3958-3E89-4607-9F39-98F5C7F8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8DF3F-8F34-473D-93E3-233AD1E3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4953-82E0-454C-B13F-F6CD142DB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9F6C-E7E3-43D8-A2C9-92AFAC6E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7AE3-485A-484B-9773-9AC54DB3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8F1C-8116-422C-9788-85FA7DD49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3BBD-B2F7-4893-874B-AF84663C5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25F7-48F6-4C81-9AB0-BFAAC811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A619-1BF7-4FBE-B4AF-22239FAE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0C5F-DA43-47F3-9581-8B0F043A6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F5E27-2804-4766-998F-E8215586C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1B7E-9887-4796-A2C9-7BE9C1052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E727-2410-4BBC-A308-8F7BD1E08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6FD2B-8527-4FE7-9CAA-EA3928B2F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E58FE-8A48-4F96-BDF2-B600FE9D1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653-E962-40C6-8389-5A2D015E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B295-C35C-4EE0-90B4-F9DAA94F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9394-0717-4F4F-BC1E-DEFEBE0C4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B176-E67C-404F-8EE7-BABA48C0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E194-5EC5-40B7-919D-E71B39A43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9711-FFEB-4B41-859C-F9926CDA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30B4-48F4-4E81-99F4-D19763D4CB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45C4-75C1-4777-B57C-DE3951B465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7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8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9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40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41.wmf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10.bin"/><Relationship Id="rId21" Type="http://schemas.openxmlformats.org/officeDocument/2006/relationships/image" Target="../media/image10.wm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8960" y="1371240"/>
            <a:ext cx="746748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1st Century Internet Trend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99840" y="3276360"/>
            <a:ext cx="75438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Vint Cerf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MCI World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6fc06"/>
                </a:solidFill>
                <a:latin typeface="Arial"/>
              </a:rPr>
              <a:t>January 200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8080" y="990360"/>
            <a:ext cx="7765920" cy="50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nternet - Recent Statistic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72360" y="3170160"/>
            <a:ext cx="1523880" cy="534960"/>
          </a:xfrm>
          <a:prstGeom prst="roundRect">
            <a:avLst>
              <a:gd name="adj" fmla="val 12495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2840" bIns="42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3320" y="2292480"/>
            <a:ext cx="8597880" cy="3797280"/>
          </a:xfrm>
          <a:prstGeom prst="rect">
            <a:avLst/>
          </a:prstGeom>
          <a:gradFill rotWithShape="0">
            <a:gsLst>
              <a:gs pos="0">
                <a:srgbClr val="e10023"/>
              </a:gs>
              <a:gs pos="50000">
                <a:srgbClr val="fc0128"/>
              </a:gs>
              <a:gs pos="100000">
                <a:srgbClr val="e10023"/>
              </a:gs>
            </a:gsLst>
            <a:lin ang="8100000"/>
          </a:gradFill>
          <a:ln w="12600">
            <a:solidFill>
              <a:srgbClr val="ffffff"/>
            </a:solidFill>
            <a:miter/>
          </a:ln>
        </p:spPr>
        <p:txBody>
          <a:bodyPr lIns="87480" rIns="87480" tIns="87480" bIns="87480" anchor="t">
            <a:normAutofit/>
          </a:bodyPr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6 M Level 2 Domains (NSI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75 Million Hosts (VC est. Jan 2000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12/246 IP countries (NW June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201 Million Users (NUA Nov 1999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Arial"/>
              </a:rPr>
              <a:t>(950 Million Telephone Terminations)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Users on the Internet - Nov 1999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/US - 112.4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urope - 47.1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ia/Pac - 33.61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tin Am - 5.29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 - 1.72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d-east - 0.88 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--------------------------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- 201.05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48320" y="1981080"/>
          <a:ext cx="3808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981080"/>
                    <a:ext cx="3808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4400" y="0"/>
            <a:ext cx="9129600" cy="6394320"/>
          </a:xfrm>
          <a:prstGeom prst="rect">
            <a:avLst/>
          </a:prstGeom>
          <a:solidFill>
            <a:srgbClr val="000066">
              <a:alpha val="50000"/>
            </a:srgbClr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914400" y="1023840"/>
          <a:ext cx="7332840" cy="522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023840"/>
                    <a:ext cx="7332840" cy="5224680"/>
                  </a:xfrm>
                  <a:prstGeom prst="rect">
                    <a:avLst/>
                  </a:prstGeom>
                  <a:ln w="50760">
                    <a:solidFill>
                      <a:srgbClr val="2a004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2362320" y="2743200"/>
            <a:ext cx="2971800" cy="1219320"/>
          </a:xfrm>
          <a:prstGeom prst="wedgeRoundRectCallout">
            <a:avLst>
              <a:gd name="adj1" fmla="val 31037"/>
              <a:gd name="adj2" fmla="val 139842"/>
              <a:gd name="adj3" fmla="val 16667"/>
            </a:avLst>
          </a:prstGeom>
          <a:solidFill>
            <a:srgbClr val="0000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95280" y="75960"/>
            <a:ext cx="74678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Arial"/>
              </a:rPr>
              <a:t>Internet Hosts (000s) 1989-2006</a:t>
            </a:r>
            <a:endParaRPr b="0" lang="en-US" sz="3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730920" y="782640"/>
            <a:ext cx="19368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26280" y="3089160"/>
            <a:ext cx="23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us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ranet/Internet Mark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463760" y="1685880"/>
          <a:ext cx="74214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3760" y="1685880"/>
                    <a:ext cx="74214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1198080" y="5989680"/>
            <a:ext cx="28062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Zona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Transactions ($Billions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7000" cy="3124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ods and services traded between companies from $8 billion this year to $327 billion in 2002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4818240" y="1036800"/>
          <a:ext cx="4122720" cy="57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18240" y="1036800"/>
                    <a:ext cx="4122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1219320" y="5562720"/>
            <a:ext cx="350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urce: Forrester Resea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Commerce in 200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erce sales will be between $1.8 trillion and $3.2 trillion in 2003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imates include business-to-business and business-to-consumer sales and EDI orders placed on the Internet, but exclude the value of financial transactions.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71240" y="606240"/>
            <a:ext cx="708660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and MultiMedia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447560" y="1828800"/>
            <a:ext cx="7391160" cy="4191120"/>
          </a:xfrm>
          <a:prstGeom prst="rect">
            <a:avLst/>
          </a:prstGeom>
          <a:solidFill>
            <a:srgbClr val="500093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multicast “video”, telephony and “radio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of Internet traffic on cable, direct broadcast satellite, radio and broadcast T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l-time quality of service support, VOIP e.g. MCI WorldCom’s “Click ‘n Connec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 Performance Networking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WDM Backbone - Electro-optical or all-optical switching (lamdas now, packets mayb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e BFRs (Juniper M160, Cisco 12000, Avici, Lucent, …)  w/MPLS traffic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dge-derived Q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nternet Backbone Architectures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uter (IP lay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TM/Frame Relay (traffic enginee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SONE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DM (DWDM, Solitons), Radio,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M/FR and SONET may be elimi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Newer Service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ultica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ry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asses of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aming, Dynamic DN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Friends may come and go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a004e"/>
                </a:solidFill>
                <a:latin typeface="Arial"/>
              </a:rPr>
              <a:t>but enemies accumulat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ife Lesson #11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Higher Performance Last Hop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gital Subscriber Loops: 0.5 -25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ble Modems: 0.5 -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xed Radio links (blimps?, ground lin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R or Radio LANs: 0.2 - 10 Mb/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Wireless Internet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Internet cell phones, camer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ways on” network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ing demand for IP address 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luetooth”, Wireless LANs, LMDS and MMDS, Digital Broadcast Satell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bile Radio 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cochet (128 kb/s), 3G cellular (2 Mb/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-enabled Devic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applia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7 - 3 M, 1998 - 6 M, 2002 - 56 M (I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TV, Palm-Pilot, Nokia 9000,Sony, Nintendo, Sega games (video conf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rigerator (and the bathroom scal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mobiles, household appliances (turning a box of soap into a servic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ding” glasses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b-server on a chip (see next slid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UMASS Web server on a chip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born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AM, 14 July 1999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CP/IP code itself fits in about 256 bytes (12-bi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 12C509A, running at 4MH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4LC256 i2c EEPRO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 1.0 and RFC 1122 complian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ernity.cs.umass.edu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080/index0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724280" y="2514600"/>
            <a:ext cx="381024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the_fridge" descr=""/>
          <p:cNvPicPr/>
          <p:nvPr/>
        </p:nvPicPr>
        <p:blipFill>
          <a:blip r:embed="rId1"/>
          <a:stretch/>
        </p:blipFill>
        <p:spPr>
          <a:xfrm>
            <a:off x="4876920" y="685800"/>
            <a:ext cx="3504960" cy="52578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98520" y="2209680"/>
            <a:ext cx="239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ternet-enab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frige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46960" y="3733920"/>
            <a:ext cx="253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ews, Ra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ma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ideo Messag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cip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hopping Lis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electrolux%20logo" descr=""/>
          <p:cNvPicPr/>
          <p:nvPr/>
        </p:nvPicPr>
        <p:blipFill>
          <a:blip r:embed="rId2"/>
          <a:stretch/>
        </p:blipFill>
        <p:spPr>
          <a:xfrm>
            <a:off x="228600" y="380880"/>
            <a:ext cx="44956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ecurity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blic Network infrastructu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porate network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ptop to remote VPN 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rvers (public, corporate)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wnloadable sof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 Monitoring (patterns of attack, rule-based traffic analysi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ong authentication for command and control infrastructure, network management, information integ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noid applet hotels (“just because I am paranoid doesn’t mean they aren’t out to get me…”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2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ignatures on control traff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pplication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ewalls are not suffic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enemy within: inside attacks 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C registration w/DHC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user to server: encrypted tunnels allow users on foreign LANS to gain safe access (Guest Por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tective Measures (3)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RPA-sponsored R&amp;D at Lincoln Labs (Communications Department)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lse alarm filter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Operating System state transition analysis - not just pattern recogni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ant probing of internal systems for known weaknes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ewall configuration consistency check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cenes in 5+ yea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Pv6 well established w/IPS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T boxes still a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re flexible firewalls (they are not enoug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/end security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SL/IPSE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lication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work level secu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The wireless music box has no imaginable commercial value.  Who would pay for a message sent to nobody in particular?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1520" y="4419720"/>
            <a:ext cx="7157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David Sarnoff's associates i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ponse to his urgings for investm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radio in the 1920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Security and Authentication Scenario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mart Card Scenario starting with ATM smart c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appliance 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reless scenario (home, mobile, international roaming…satellite?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olicy Issu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ryptography and expor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Digital Signatures/Certificate issuanc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axa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rademarks and Copyrigh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iability and Dispute Resolutio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onvergence (TV, Radio, Telephony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gulatory Framework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ensorship/Voluntary Filter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" name=""/>
          <p:cNvGrpSpPr/>
          <p:nvPr/>
        </p:nvGrpSpPr>
        <p:grpSpPr>
          <a:xfrm>
            <a:off x="1905120" y="1752480"/>
            <a:ext cx="6553080" cy="3477240"/>
            <a:chOff x="1905120" y="1752480"/>
            <a:chExt cx="6553080" cy="3477240"/>
          </a:xfrm>
        </p:grpSpPr>
        <p:sp>
          <p:nvSpPr>
            <p:cNvPr id="246" name=""/>
            <p:cNvSpPr/>
            <p:nvPr/>
          </p:nvSpPr>
          <p:spPr>
            <a:xfrm>
              <a:off x="1905120" y="1752480"/>
              <a:ext cx="6553080" cy="2438640"/>
            </a:xfrm>
            <a:prstGeom prst="rightArrow">
              <a:avLst>
                <a:gd name="adj1" fmla="val 50000"/>
                <a:gd name="adj2" fmla="val 67180"/>
              </a:avLst>
            </a:prstGeom>
            <a:solidFill>
              <a:srgbClr val="d60093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4600" y="2209680"/>
              <a:ext cx="48546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Mistral"/>
                </a:rPr>
                <a:t>Future look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867280" y="1981080"/>
              <a:ext cx="3049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22953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84080" y="1981080"/>
              <a:ext cx="5068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2a004e"/>
                  </a:solidFill>
                  <a:latin typeface="Juice ITC"/>
                </a:rPr>
                <a:t>.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463680" y="1301760"/>
            <a:ext cx="8292960" cy="5168880"/>
          </a:xfrm>
          <a:prstGeom prst="ellipse">
            <a:avLst/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Our 25 year mission: to go whe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a004e"/>
                </a:solidFill>
                <a:latin typeface="Arial"/>
              </a:rPr>
              <a:t>no network has gone befor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016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pace: the final frontier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240" y="2020680"/>
            <a:ext cx="69944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a004e"/>
                </a:solidFill>
                <a:latin typeface="Arial"/>
              </a:rPr>
              <a:t>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229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762012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0"/>
            <a:ext cx="1752480" cy="723888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5" name="earth" descr=""/>
          <p:cNvPicPr/>
          <p:nvPr/>
        </p:nvPicPr>
        <p:blipFill>
          <a:blip r:embed="rId1"/>
          <a:stretch/>
        </p:blipFill>
        <p:spPr>
          <a:xfrm>
            <a:off x="990720" y="0"/>
            <a:ext cx="769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goldsto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mars%20orbit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7848720" y="0"/>
            <a:ext cx="167616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228600" y="0"/>
            <a:ext cx="1676520" cy="739152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mars" descr="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sojourn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mars%20land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"640K ought to be enough for anybody."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000" y="3749760"/>
            <a:ext cx="343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Bill Gates, 198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mars%20r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mars%20on%20foo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mars%20habitat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habitat%20interio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interplanet%20overview" descr=""/>
          <p:cNvPicPr/>
          <p:nvPr/>
        </p:nvPicPr>
        <p:blipFill>
          <a:blip r:embed="rId1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0" y="1143000"/>
            <a:ext cx="388620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End-to-end information flow across the solar sys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Layered architecture for evolvability and interoperabil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P-like protocol suite tailored to operate over long round trip light tim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eaec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eaec5e"/>
                </a:solidFill>
                <a:latin typeface="Arial"/>
              </a:rPr>
              <a:t>Integrated communications and navigation  servic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228600" y="2971800"/>
            <a:ext cx="2895480" cy="28954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86400" y="1752480"/>
            <a:ext cx="2895480" cy="28958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880" y="0"/>
            <a:ext cx="876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Components of the Interplanetary Intern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685800" y="3429000"/>
            <a:ext cx="2235240" cy="2235240"/>
            <a:chOff x="685800" y="3429000"/>
            <a:chExt cx="2235240" cy="2235240"/>
          </a:xfrm>
        </p:grpSpPr>
        <p:graphicFrame>
          <p:nvGraphicFramePr>
            <p:cNvPr id="273" name=""/>
            <p:cNvGraphicFramePr/>
            <p:nvPr/>
          </p:nvGraphicFramePr>
          <p:xfrm>
            <a:off x="685800" y="3429000"/>
            <a:ext cx="2235240" cy="2235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3429000"/>
                      <a:ext cx="2235240" cy="223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275" name=""/>
            <p:cNvGraphicFramePr/>
            <p:nvPr/>
          </p:nvGraphicFramePr>
          <p:xfrm>
            <a:off x="1295280" y="3962520"/>
            <a:ext cx="954360" cy="8794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7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95280" y="3962520"/>
                      <a:ext cx="954360" cy="87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7" name=""/>
          <p:cNvSpPr/>
          <p:nvPr/>
        </p:nvSpPr>
        <p:spPr>
          <a:xfrm rot="19920000">
            <a:off x="3124080" y="3048120"/>
            <a:ext cx="243864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Long-haul Interplaneta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communicatio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242040" y="984240"/>
            <a:ext cx="229860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Eurostile"/>
              </a:rPr>
              <a:t>Proximity communications via in-situ relay and positioning networ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2820960" y="2058840"/>
            <a:ext cx="2968560" cy="1773360"/>
          </a:xfrm>
          <a:prstGeom prst="line">
            <a:avLst/>
          </a:prstGeom>
          <a:ln w="7632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600200" y="2057400"/>
            <a:ext cx="2970360" cy="2362320"/>
            <a:chOff x="1600200" y="2057400"/>
            <a:chExt cx="2970360" cy="2362320"/>
          </a:xfrm>
        </p:grpSpPr>
        <p:sp>
          <p:nvSpPr>
            <p:cNvPr id="281" name=""/>
            <p:cNvSpPr/>
            <p:nvPr/>
          </p:nvSpPr>
          <p:spPr>
            <a:xfrm>
              <a:off x="1600200" y="2057400"/>
              <a:ext cx="2970360" cy="2362320"/>
            </a:xfrm>
            <a:custGeom>
              <a:avLst/>
              <a:gdLst/>
              <a:ahLst/>
              <a:rect l="l" t="t" r="r" b="b"/>
              <a:pathLst>
                <a:path w="1871" h="1488">
                  <a:moveTo>
                    <a:pt x="919" y="0"/>
                  </a:moveTo>
                  <a:lnTo>
                    <a:pt x="845" y="4"/>
                  </a:lnTo>
                  <a:lnTo>
                    <a:pt x="788" y="17"/>
                  </a:lnTo>
                  <a:lnTo>
                    <a:pt x="764" y="23"/>
                  </a:lnTo>
                  <a:lnTo>
                    <a:pt x="746" y="34"/>
                  </a:lnTo>
                  <a:lnTo>
                    <a:pt x="739" y="43"/>
                  </a:lnTo>
                  <a:lnTo>
                    <a:pt x="734" y="53"/>
                  </a:lnTo>
                  <a:lnTo>
                    <a:pt x="734" y="182"/>
                  </a:lnTo>
                  <a:lnTo>
                    <a:pt x="734" y="258"/>
                  </a:lnTo>
                  <a:lnTo>
                    <a:pt x="739" y="268"/>
                  </a:lnTo>
                  <a:lnTo>
                    <a:pt x="746" y="278"/>
                  </a:lnTo>
                  <a:lnTo>
                    <a:pt x="764" y="288"/>
                  </a:lnTo>
                  <a:lnTo>
                    <a:pt x="788" y="295"/>
                  </a:lnTo>
                  <a:lnTo>
                    <a:pt x="845" y="307"/>
                  </a:lnTo>
                  <a:lnTo>
                    <a:pt x="919" y="311"/>
                  </a:lnTo>
                  <a:lnTo>
                    <a:pt x="0" y="1487"/>
                  </a:lnTo>
                  <a:lnTo>
                    <a:pt x="1206" y="311"/>
                  </a:lnTo>
                  <a:lnTo>
                    <a:pt x="1678" y="311"/>
                  </a:lnTo>
                  <a:lnTo>
                    <a:pt x="1752" y="307"/>
                  </a:lnTo>
                  <a:lnTo>
                    <a:pt x="1814" y="295"/>
                  </a:lnTo>
                  <a:lnTo>
                    <a:pt x="1838" y="288"/>
                  </a:lnTo>
                  <a:lnTo>
                    <a:pt x="1858" y="278"/>
                  </a:lnTo>
                  <a:lnTo>
                    <a:pt x="1863" y="268"/>
                  </a:lnTo>
                  <a:lnTo>
                    <a:pt x="1870" y="258"/>
                  </a:lnTo>
                  <a:lnTo>
                    <a:pt x="1870" y="182"/>
                  </a:lnTo>
                  <a:lnTo>
                    <a:pt x="1870" y="53"/>
                  </a:lnTo>
                  <a:lnTo>
                    <a:pt x="1863" y="43"/>
                  </a:lnTo>
                  <a:lnTo>
                    <a:pt x="1858" y="34"/>
                  </a:lnTo>
                  <a:lnTo>
                    <a:pt x="1838" y="23"/>
                  </a:lnTo>
                  <a:lnTo>
                    <a:pt x="1814" y="17"/>
                  </a:lnTo>
                  <a:lnTo>
                    <a:pt x="1752" y="4"/>
                  </a:lnTo>
                  <a:lnTo>
                    <a:pt x="1678" y="0"/>
                  </a:lnTo>
                  <a:lnTo>
                    <a:pt x="1206" y="0"/>
                  </a:lnTo>
                  <a:lnTo>
                    <a:pt x="919" y="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989440" y="2117880"/>
              <a:ext cx="1347480" cy="37440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283" name=""/>
          <p:cNvGraphicFramePr/>
          <p:nvPr/>
        </p:nvGraphicFramePr>
        <p:xfrm>
          <a:off x="8077320" y="2666880"/>
          <a:ext cx="623880" cy="604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77320" y="26668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5" name=""/>
          <p:cNvSpPr/>
          <p:nvPr/>
        </p:nvSpPr>
        <p:spPr>
          <a:xfrm>
            <a:off x="2813040" y="2127240"/>
            <a:ext cx="1711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Earth’s 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1447920" y="2743200"/>
          <a:ext cx="623880" cy="60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27432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609480" y="5334120"/>
          <a:ext cx="623880" cy="604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09480" y="53341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2590920" y="5105520"/>
          <a:ext cx="623880" cy="60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90920" y="510552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152280" y="3352680"/>
          <a:ext cx="623880" cy="604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52280" y="335268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6172200" y="2362320"/>
          <a:ext cx="1650960" cy="1574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172200" y="2362320"/>
                    <a:ext cx="1650960" cy="15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6" name=""/>
          <p:cNvGrpSpPr/>
          <p:nvPr/>
        </p:nvGrpSpPr>
        <p:grpSpPr>
          <a:xfrm>
            <a:off x="6114960" y="2496960"/>
            <a:ext cx="308160" cy="570240"/>
            <a:chOff x="6114960" y="2496960"/>
            <a:chExt cx="308160" cy="570240"/>
          </a:xfrm>
        </p:grpSpPr>
        <p:sp>
          <p:nvSpPr>
            <p:cNvPr id="297" name=""/>
            <p:cNvSpPr/>
            <p:nvPr/>
          </p:nvSpPr>
          <p:spPr>
            <a:xfrm>
              <a:off x="6114960" y="2543040"/>
              <a:ext cx="277920" cy="341280"/>
            </a:xfrm>
            <a:custGeom>
              <a:avLst/>
              <a:gdLst/>
              <a:ahLst/>
              <a:rect l="l" t="t" r="r" b="b"/>
              <a:pathLst>
                <a:path w="175" h="215">
                  <a:moveTo>
                    <a:pt x="173" y="0"/>
                  </a:moveTo>
                  <a:lnTo>
                    <a:pt x="174" y="12"/>
                  </a:lnTo>
                  <a:lnTo>
                    <a:pt x="174" y="36"/>
                  </a:lnTo>
                  <a:lnTo>
                    <a:pt x="172" y="59"/>
                  </a:lnTo>
                  <a:lnTo>
                    <a:pt x="165" y="83"/>
                  </a:lnTo>
                  <a:lnTo>
                    <a:pt x="162" y="103"/>
                  </a:lnTo>
                  <a:lnTo>
                    <a:pt x="152" y="124"/>
                  </a:lnTo>
                  <a:lnTo>
                    <a:pt x="146" y="136"/>
                  </a:lnTo>
                  <a:lnTo>
                    <a:pt x="136" y="153"/>
                  </a:lnTo>
                  <a:lnTo>
                    <a:pt x="129" y="161"/>
                  </a:lnTo>
                  <a:lnTo>
                    <a:pt x="123" y="168"/>
                  </a:lnTo>
                  <a:lnTo>
                    <a:pt x="114" y="176"/>
                  </a:lnTo>
                  <a:lnTo>
                    <a:pt x="97" y="189"/>
                  </a:lnTo>
                  <a:lnTo>
                    <a:pt x="83" y="198"/>
                  </a:lnTo>
                  <a:lnTo>
                    <a:pt x="67" y="206"/>
                  </a:lnTo>
                  <a:lnTo>
                    <a:pt x="50" y="211"/>
                  </a:lnTo>
                  <a:lnTo>
                    <a:pt x="31" y="214"/>
                  </a:lnTo>
                  <a:lnTo>
                    <a:pt x="11" y="214"/>
                  </a:lnTo>
                  <a:lnTo>
                    <a:pt x="0" y="214"/>
                  </a:lnTo>
                  <a:lnTo>
                    <a:pt x="173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114960" y="2543040"/>
              <a:ext cx="285840" cy="352440"/>
            </a:xfrm>
            <a:custGeom>
              <a:avLst/>
              <a:gdLst/>
              <a:ahLst/>
              <a:rect l="l" t="t" r="r" b="b"/>
              <a:pathLst>
                <a:path w="180" h="222">
                  <a:moveTo>
                    <a:pt x="177" y="0"/>
                  </a:moveTo>
                  <a:lnTo>
                    <a:pt x="179" y="111"/>
                  </a:lnTo>
                  <a:lnTo>
                    <a:pt x="89" y="219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4960" y="2543040"/>
              <a:ext cx="284400" cy="352440"/>
            </a:xfrm>
            <a:custGeom>
              <a:avLst/>
              <a:gdLst/>
              <a:ahLst/>
              <a:rect l="l" t="t" r="r" b="b"/>
              <a:pathLst>
                <a:path w="179" h="222">
                  <a:moveTo>
                    <a:pt x="177" y="0"/>
                  </a:moveTo>
                  <a:lnTo>
                    <a:pt x="178" y="12"/>
                  </a:lnTo>
                  <a:lnTo>
                    <a:pt x="178" y="37"/>
                  </a:lnTo>
                  <a:lnTo>
                    <a:pt x="176" y="62"/>
                  </a:lnTo>
                  <a:lnTo>
                    <a:pt x="169" y="86"/>
                  </a:lnTo>
                  <a:lnTo>
                    <a:pt x="165" y="107"/>
                  </a:lnTo>
                  <a:lnTo>
                    <a:pt x="155" y="129"/>
                  </a:lnTo>
                  <a:lnTo>
                    <a:pt x="149" y="141"/>
                  </a:lnTo>
                  <a:lnTo>
                    <a:pt x="139" y="156"/>
                  </a:lnTo>
                  <a:lnTo>
                    <a:pt x="132" y="165"/>
                  </a:lnTo>
                  <a:lnTo>
                    <a:pt x="125" y="173"/>
                  </a:lnTo>
                  <a:lnTo>
                    <a:pt x="116" y="182"/>
                  </a:lnTo>
                  <a:lnTo>
                    <a:pt x="99" y="194"/>
                  </a:lnTo>
                  <a:lnTo>
                    <a:pt x="85" y="203"/>
                  </a:lnTo>
                  <a:lnTo>
                    <a:pt x="68" y="211"/>
                  </a:lnTo>
                  <a:lnTo>
                    <a:pt x="51" y="216"/>
                  </a:lnTo>
                  <a:lnTo>
                    <a:pt x="31" y="220"/>
                  </a:lnTo>
                  <a:lnTo>
                    <a:pt x="11" y="220"/>
                  </a:lnTo>
                  <a:lnTo>
                    <a:pt x="0" y="22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99280" y="2863800"/>
              <a:ext cx="74520" cy="44640"/>
            </a:xfrm>
            <a:custGeom>
              <a:avLst/>
              <a:gdLst/>
              <a:ahLst/>
              <a:rect l="l" t="t" r="r" b="b"/>
              <a:pathLst>
                <a:path w="47" h="28">
                  <a:moveTo>
                    <a:pt x="0" y="0"/>
                  </a:moveTo>
                  <a:lnTo>
                    <a:pt x="46" y="0"/>
                  </a:lnTo>
                  <a:lnTo>
                    <a:pt x="46" y="26"/>
                  </a:lnTo>
                  <a:lnTo>
                    <a:pt x="1" y="27"/>
                  </a:lnTo>
                  <a:lnTo>
                    <a:pt x="0" y="0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299280" y="2865600"/>
              <a:ext cx="81000" cy="53640"/>
            </a:xfrm>
            <a:custGeom>
              <a:avLst/>
              <a:gdLst/>
              <a:ahLst/>
              <a:rect l="l" t="t" r="r" b="b"/>
              <a:pathLst>
                <a:path w="51" h="34">
                  <a:moveTo>
                    <a:pt x="0" y="1"/>
                  </a:move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  <a:lnTo>
                    <a:pt x="50" y="0"/>
                  </a:lnTo>
                  <a:lnTo>
                    <a:pt x="50" y="32"/>
                  </a:lnTo>
                  <a:lnTo>
                    <a:pt x="0" y="33"/>
                  </a:lnTo>
                  <a:lnTo>
                    <a:pt x="0" y="1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21540000">
              <a:off x="6316200" y="2795760"/>
              <a:ext cx="33480" cy="4104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 flipV="1">
              <a:off x="6229080" y="2629080"/>
              <a:ext cx="83880" cy="21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261120" y="2916360"/>
              <a:ext cx="155520" cy="141120"/>
            </a:xfrm>
            <a:custGeom>
              <a:avLst/>
              <a:gdLst/>
              <a:ahLst/>
              <a:rect l="l" t="t" r="r" b="b"/>
              <a:pathLst>
                <a:path w="98" h="89">
                  <a:moveTo>
                    <a:pt x="97" y="86"/>
                  </a:moveTo>
                  <a:lnTo>
                    <a:pt x="46" y="0"/>
                  </a:lnTo>
                  <a:lnTo>
                    <a:pt x="0" y="88"/>
                  </a:lnTo>
                  <a:lnTo>
                    <a:pt x="97" y="86"/>
                  </a:lnTo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59680" y="2916360"/>
              <a:ext cx="163440" cy="150840"/>
            </a:xfrm>
            <a:custGeom>
              <a:avLst/>
              <a:gdLst/>
              <a:ahLst/>
              <a:rect l="l" t="t" r="r" b="b"/>
              <a:pathLst>
                <a:path w="103" h="95">
                  <a:moveTo>
                    <a:pt x="102" y="92"/>
                  </a:move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  <a:lnTo>
                    <a:pt x="49" y="0"/>
                  </a:lnTo>
                  <a:lnTo>
                    <a:pt x="0" y="94"/>
                  </a:lnTo>
                  <a:lnTo>
                    <a:pt x="102" y="92"/>
                  </a:lnTo>
                </a:path>
              </a:pathLst>
            </a:custGeom>
            <a:solidFill>
              <a:srgbClr val="ff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6116760" y="2496960"/>
              <a:ext cx="282600" cy="43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07" name=""/>
          <p:cNvGraphicFramePr/>
          <p:nvPr/>
        </p:nvGraphicFramePr>
        <p:xfrm>
          <a:off x="6629400" y="2971800"/>
          <a:ext cx="660240" cy="6602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629400" y="297180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"/>
          <p:cNvGraphicFramePr/>
          <p:nvPr/>
        </p:nvGraphicFramePr>
        <p:xfrm>
          <a:off x="6553080" y="2666880"/>
          <a:ext cx="952560" cy="515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31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553080" y="2666880"/>
                    <a:ext cx="952560" cy="51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1" name=""/>
          <p:cNvGraphicFramePr/>
          <p:nvPr/>
        </p:nvGraphicFramePr>
        <p:xfrm>
          <a:off x="6324480" y="2971800"/>
          <a:ext cx="432000" cy="4316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324480" y="2971800"/>
                    <a:ext cx="43200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7238880" y="3048120"/>
          <a:ext cx="355680" cy="355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238880" y="3048120"/>
                    <a:ext cx="355680" cy="35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15" name=""/>
          <p:cNvGrpSpPr/>
          <p:nvPr/>
        </p:nvGrpSpPr>
        <p:grpSpPr>
          <a:xfrm>
            <a:off x="6554880" y="3352680"/>
            <a:ext cx="1904760" cy="1905120"/>
            <a:chOff x="6554880" y="3352680"/>
            <a:chExt cx="1904760" cy="1905120"/>
          </a:xfrm>
        </p:grpSpPr>
        <p:sp>
          <p:nvSpPr>
            <p:cNvPr id="316" name=""/>
            <p:cNvSpPr/>
            <p:nvPr/>
          </p:nvSpPr>
          <p:spPr>
            <a:xfrm>
              <a:off x="6554880" y="3352680"/>
              <a:ext cx="1904760" cy="1905120"/>
            </a:xfrm>
            <a:custGeom>
              <a:avLst/>
              <a:gdLst/>
              <a:ahLst/>
              <a:rect l="l" t="t" r="r" b="b"/>
              <a:pathLst>
                <a:path w="1200" h="1200">
                  <a:moveTo>
                    <a:pt x="1096" y="1199"/>
                  </a:moveTo>
                  <a:lnTo>
                    <a:pt x="1134" y="1195"/>
                  </a:lnTo>
                  <a:lnTo>
                    <a:pt x="1166" y="1182"/>
                  </a:lnTo>
                  <a:lnTo>
                    <a:pt x="1189" y="1159"/>
                  </a:lnTo>
                  <a:lnTo>
                    <a:pt x="1199" y="1133"/>
                  </a:lnTo>
                  <a:lnTo>
                    <a:pt x="1199" y="965"/>
                  </a:lnTo>
                  <a:lnTo>
                    <a:pt x="1199" y="863"/>
                  </a:lnTo>
                  <a:lnTo>
                    <a:pt x="1189" y="837"/>
                  </a:lnTo>
                  <a:lnTo>
                    <a:pt x="1166" y="814"/>
                  </a:lnTo>
                  <a:lnTo>
                    <a:pt x="1134" y="797"/>
                  </a:lnTo>
                  <a:lnTo>
                    <a:pt x="1096" y="792"/>
                  </a:lnTo>
                  <a:lnTo>
                    <a:pt x="834" y="792"/>
                  </a:lnTo>
                  <a:lnTo>
                    <a:pt x="0" y="0"/>
                  </a:lnTo>
                  <a:lnTo>
                    <a:pt x="676" y="792"/>
                  </a:lnTo>
                  <a:lnTo>
                    <a:pt x="632" y="797"/>
                  </a:lnTo>
                  <a:lnTo>
                    <a:pt x="600" y="814"/>
                  </a:lnTo>
                  <a:lnTo>
                    <a:pt x="578" y="837"/>
                  </a:lnTo>
                  <a:lnTo>
                    <a:pt x="572" y="863"/>
                  </a:lnTo>
                  <a:lnTo>
                    <a:pt x="572" y="965"/>
                  </a:lnTo>
                  <a:lnTo>
                    <a:pt x="572" y="1133"/>
                  </a:lnTo>
                  <a:lnTo>
                    <a:pt x="578" y="1159"/>
                  </a:lnTo>
                  <a:lnTo>
                    <a:pt x="600" y="1182"/>
                  </a:lnTo>
                  <a:lnTo>
                    <a:pt x="632" y="1195"/>
                  </a:lnTo>
                  <a:lnTo>
                    <a:pt x="676" y="1199"/>
                  </a:lnTo>
                  <a:lnTo>
                    <a:pt x="834" y="1199"/>
                  </a:lnTo>
                  <a:lnTo>
                    <a:pt x="1096" y="1199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70800" y="4672080"/>
              <a:ext cx="779400" cy="527040"/>
            </a:xfrm>
            <a:prstGeom prst="rect">
              <a:avLst/>
            </a:prstGeom>
            <a:solidFill>
              <a:srgbClr val="50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7232760" y="4565520"/>
            <a:ext cx="1536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Rem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H="1" flipV="1">
            <a:off x="5908320" y="2174760"/>
            <a:ext cx="376200" cy="6048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5908320" y="2098440"/>
            <a:ext cx="2281320" cy="7570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7432560" y="3012840"/>
            <a:ext cx="757440" cy="29988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2397240" y="3274560"/>
            <a:ext cx="593280" cy="840240"/>
            <a:chOff x="2397240" y="3274560"/>
            <a:chExt cx="593280" cy="840240"/>
          </a:xfrm>
        </p:grpSpPr>
        <p:sp>
          <p:nvSpPr>
            <p:cNvPr id="323" name=""/>
            <p:cNvSpPr/>
            <p:nvPr/>
          </p:nvSpPr>
          <p:spPr>
            <a:xfrm>
              <a:off x="2643120" y="3325680"/>
              <a:ext cx="339840" cy="622440"/>
            </a:xfrm>
            <a:custGeom>
              <a:avLst/>
              <a:gdLst/>
              <a:ahLst/>
              <a:rect l="l" t="t" r="r" b="b"/>
              <a:pathLst>
                <a:path w="214" h="392">
                  <a:moveTo>
                    <a:pt x="30" y="0"/>
                  </a:moveTo>
                  <a:lnTo>
                    <a:pt x="23" y="17"/>
                  </a:lnTo>
                  <a:lnTo>
                    <a:pt x="12" y="49"/>
                  </a:lnTo>
                  <a:lnTo>
                    <a:pt x="5" y="84"/>
                  </a:lnTo>
                  <a:lnTo>
                    <a:pt x="5" y="120"/>
                  </a:lnTo>
                  <a:lnTo>
                    <a:pt x="0" y="148"/>
                  </a:lnTo>
                  <a:lnTo>
                    <a:pt x="7" y="182"/>
                  </a:lnTo>
                  <a:lnTo>
                    <a:pt x="11" y="203"/>
                  </a:lnTo>
                  <a:lnTo>
                    <a:pt x="20" y="229"/>
                  </a:lnTo>
                  <a:lnTo>
                    <a:pt x="27" y="245"/>
                  </a:lnTo>
                  <a:lnTo>
                    <a:pt x="34" y="260"/>
                  </a:lnTo>
                  <a:lnTo>
                    <a:pt x="45" y="275"/>
                  </a:lnTo>
                  <a:lnTo>
                    <a:pt x="67" y="302"/>
                  </a:lnTo>
                  <a:lnTo>
                    <a:pt x="85" y="321"/>
                  </a:lnTo>
                  <a:lnTo>
                    <a:pt x="109" y="341"/>
                  </a:lnTo>
                  <a:lnTo>
                    <a:pt x="133" y="357"/>
                  </a:lnTo>
                  <a:lnTo>
                    <a:pt x="164" y="373"/>
                  </a:lnTo>
                  <a:lnTo>
                    <a:pt x="196" y="385"/>
                  </a:lnTo>
                  <a:lnTo>
                    <a:pt x="213" y="391"/>
                  </a:lnTo>
                  <a:lnTo>
                    <a:pt x="30" y="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90920" y="3322800"/>
              <a:ext cx="387360" cy="637920"/>
            </a:xfrm>
            <a:custGeom>
              <a:avLst/>
              <a:gdLst/>
              <a:ahLst/>
              <a:rect l="l" t="t" r="r" b="b"/>
              <a:pathLst>
                <a:path w="244" h="402">
                  <a:moveTo>
                    <a:pt x="55" y="0"/>
                  </a:moveTo>
                  <a:lnTo>
                    <a:pt x="0" y="150"/>
                  </a:lnTo>
                  <a:lnTo>
                    <a:pt x="99" y="348"/>
                  </a:lnTo>
                  <a:lnTo>
                    <a:pt x="243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0520" y="3322800"/>
              <a:ext cx="347760" cy="637920"/>
            </a:xfrm>
            <a:custGeom>
              <a:avLst/>
              <a:gdLst/>
              <a:ahLst/>
              <a:rect l="l" t="t" r="r" b="b"/>
              <a:pathLst>
                <a:path w="219" h="402">
                  <a:moveTo>
                    <a:pt x="30" y="0"/>
                  </a:moveTo>
                  <a:lnTo>
                    <a:pt x="24" y="17"/>
                  </a:lnTo>
                  <a:lnTo>
                    <a:pt x="12" y="49"/>
                  </a:lnTo>
                  <a:lnTo>
                    <a:pt x="5" y="85"/>
                  </a:lnTo>
                  <a:lnTo>
                    <a:pt x="5" y="122"/>
                  </a:lnTo>
                  <a:lnTo>
                    <a:pt x="0" y="152"/>
                  </a:lnTo>
                  <a:lnTo>
                    <a:pt x="7" y="187"/>
                  </a:lnTo>
                  <a:lnTo>
                    <a:pt x="11" y="208"/>
                  </a:lnTo>
                  <a:lnTo>
                    <a:pt x="20" y="235"/>
                  </a:lnTo>
                  <a:lnTo>
                    <a:pt x="27" y="251"/>
                  </a:lnTo>
                  <a:lnTo>
                    <a:pt x="34" y="266"/>
                  </a:lnTo>
                  <a:lnTo>
                    <a:pt x="47" y="282"/>
                  </a:lnTo>
                  <a:lnTo>
                    <a:pt x="69" y="309"/>
                  </a:lnTo>
                  <a:lnTo>
                    <a:pt x="87" y="329"/>
                  </a:lnTo>
                  <a:lnTo>
                    <a:pt x="111" y="350"/>
                  </a:lnTo>
                  <a:lnTo>
                    <a:pt x="136" y="366"/>
                  </a:lnTo>
                  <a:lnTo>
                    <a:pt x="168" y="383"/>
                  </a:lnTo>
                  <a:lnTo>
                    <a:pt x="201" y="395"/>
                  </a:lnTo>
                  <a:lnTo>
                    <a:pt x="218" y="401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548080" y="3772080"/>
              <a:ext cx="141120" cy="10296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88" y="28"/>
                  </a:moveTo>
                  <a:lnTo>
                    <a:pt x="13" y="0"/>
                  </a:lnTo>
                  <a:lnTo>
                    <a:pt x="0" y="37"/>
                  </a:lnTo>
                  <a:lnTo>
                    <a:pt x="75" y="64"/>
                  </a:lnTo>
                  <a:lnTo>
                    <a:pt x="88" y="28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532240" y="3767040"/>
              <a:ext cx="158400" cy="119160"/>
            </a:xfrm>
            <a:custGeom>
              <a:avLst/>
              <a:gdLst/>
              <a:ahLst/>
              <a:rect l="l" t="t" r="r" b="b"/>
              <a:pathLst>
                <a:path w="100" h="75">
                  <a:moveTo>
                    <a:pt x="99" y="30"/>
                  </a:move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  <a:lnTo>
                    <a:pt x="16" y="0"/>
                  </a:lnTo>
                  <a:lnTo>
                    <a:pt x="0" y="44"/>
                  </a:lnTo>
                  <a:lnTo>
                    <a:pt x="83" y="74"/>
                  </a:lnTo>
                  <a:lnTo>
                    <a:pt x="99" y="30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140000">
              <a:off x="2623680" y="3698640"/>
              <a:ext cx="58680" cy="60120"/>
            </a:xfrm>
            <a:prstGeom prst="ellipse">
              <a:avLst/>
            </a:prstGeom>
            <a:solidFill>
              <a:srgbClr val="d6009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2711520" y="3546360"/>
              <a:ext cx="18576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14520" y="3865680"/>
              <a:ext cx="252360" cy="236520"/>
            </a:xfrm>
            <a:custGeom>
              <a:avLst/>
              <a:gdLst/>
              <a:ahLst/>
              <a:rect l="l" t="t" r="r" b="b"/>
              <a:pathLst>
                <a:path w="159" h="149">
                  <a:moveTo>
                    <a:pt x="0" y="90"/>
                  </a:moveTo>
                  <a:lnTo>
                    <a:pt x="123" y="0"/>
                  </a:lnTo>
                  <a:lnTo>
                    <a:pt x="158" y="148"/>
                  </a:lnTo>
                  <a:lnTo>
                    <a:pt x="0" y="90"/>
                  </a:lnTo>
                </a:path>
              </a:pathLst>
            </a:custGeom>
            <a:solidFill>
              <a:srgbClr val="d60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397240" y="3863880"/>
              <a:ext cx="266760" cy="250920"/>
            </a:xfrm>
            <a:custGeom>
              <a:avLst/>
              <a:gdLst/>
              <a:ahLst/>
              <a:rect l="l" t="t" r="r" b="b"/>
              <a:pathLst>
                <a:path w="168" h="158">
                  <a:moveTo>
                    <a:pt x="0" y="97"/>
                  </a:move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  <a:lnTo>
                    <a:pt x="130" y="0"/>
                  </a:lnTo>
                  <a:lnTo>
                    <a:pt x="167" y="157"/>
                  </a:lnTo>
                  <a:lnTo>
                    <a:pt x="0" y="97"/>
                  </a:lnTo>
                </a:path>
              </a:pathLst>
            </a:custGeom>
            <a:solidFill>
              <a:srgbClr val="d60093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 flipV="1">
              <a:off x="2653920" y="3274560"/>
              <a:ext cx="336600" cy="731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333" name=""/>
          <p:cNvGraphicFramePr/>
          <p:nvPr/>
        </p:nvGraphicFramePr>
        <p:xfrm>
          <a:off x="5638680" y="1828800"/>
          <a:ext cx="623880" cy="60480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638680" y="1828800"/>
                    <a:ext cx="623880" cy="6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3556080" y="5070600"/>
            <a:ext cx="20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6124680" y="1628640"/>
            <a:ext cx="628560" cy="400320"/>
          </a:xfrm>
          <a:prstGeom prst="line">
            <a:avLst/>
          </a:prstGeom>
          <a:ln w="255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960720" y="3170160"/>
            <a:ext cx="2230560" cy="2319480"/>
            <a:chOff x="3960720" y="3170160"/>
            <a:chExt cx="2230560" cy="2319480"/>
          </a:xfrm>
        </p:grpSpPr>
        <p:sp>
          <p:nvSpPr>
            <p:cNvPr id="338" name=""/>
            <p:cNvSpPr/>
            <p:nvPr/>
          </p:nvSpPr>
          <p:spPr>
            <a:xfrm>
              <a:off x="3960720" y="3170160"/>
              <a:ext cx="2230560" cy="2319480"/>
            </a:xfrm>
            <a:custGeom>
              <a:avLst/>
              <a:gdLst/>
              <a:ahLst/>
              <a:rect l="l" t="t" r="r" b="b"/>
              <a:pathLst>
                <a:path w="1405" h="1461">
                  <a:moveTo>
                    <a:pt x="175" y="1460"/>
                  </a:moveTo>
                  <a:lnTo>
                    <a:pt x="106" y="1454"/>
                  </a:lnTo>
                  <a:lnTo>
                    <a:pt x="50" y="1432"/>
                  </a:lnTo>
                  <a:lnTo>
                    <a:pt x="13" y="1405"/>
                  </a:lnTo>
                  <a:lnTo>
                    <a:pt x="7" y="1388"/>
                  </a:lnTo>
                  <a:lnTo>
                    <a:pt x="0" y="1372"/>
                  </a:lnTo>
                  <a:lnTo>
                    <a:pt x="0" y="1150"/>
                  </a:lnTo>
                  <a:lnTo>
                    <a:pt x="0" y="1018"/>
                  </a:lnTo>
                  <a:lnTo>
                    <a:pt x="7" y="1001"/>
                  </a:lnTo>
                  <a:lnTo>
                    <a:pt x="13" y="984"/>
                  </a:lnTo>
                  <a:lnTo>
                    <a:pt x="50" y="957"/>
                  </a:lnTo>
                  <a:lnTo>
                    <a:pt x="106" y="935"/>
                  </a:lnTo>
                  <a:lnTo>
                    <a:pt x="175" y="929"/>
                  </a:lnTo>
                  <a:lnTo>
                    <a:pt x="618" y="929"/>
                  </a:lnTo>
                  <a:lnTo>
                    <a:pt x="1404" y="0"/>
                  </a:lnTo>
                  <a:lnTo>
                    <a:pt x="880" y="929"/>
                  </a:lnTo>
                  <a:lnTo>
                    <a:pt x="949" y="935"/>
                  </a:lnTo>
                  <a:lnTo>
                    <a:pt x="1005" y="957"/>
                  </a:lnTo>
                  <a:lnTo>
                    <a:pt x="1042" y="984"/>
                  </a:lnTo>
                  <a:lnTo>
                    <a:pt x="1048" y="1001"/>
                  </a:lnTo>
                  <a:lnTo>
                    <a:pt x="1055" y="1018"/>
                  </a:lnTo>
                  <a:lnTo>
                    <a:pt x="1055" y="1150"/>
                  </a:lnTo>
                  <a:lnTo>
                    <a:pt x="1055" y="1372"/>
                  </a:lnTo>
                  <a:lnTo>
                    <a:pt x="1048" y="1388"/>
                  </a:lnTo>
                  <a:lnTo>
                    <a:pt x="1042" y="1405"/>
                  </a:lnTo>
                  <a:lnTo>
                    <a:pt x="1005" y="1432"/>
                  </a:lnTo>
                  <a:lnTo>
                    <a:pt x="949" y="1454"/>
                  </a:lnTo>
                  <a:lnTo>
                    <a:pt x="880" y="1460"/>
                  </a:lnTo>
                  <a:lnTo>
                    <a:pt x="618" y="1460"/>
                  </a:lnTo>
                  <a:lnTo>
                    <a:pt x="175" y="1460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116240" y="4727520"/>
              <a:ext cx="136872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2679840" y="4048200"/>
            <a:ext cx="2885760" cy="1441440"/>
            <a:chOff x="2679840" y="4048200"/>
            <a:chExt cx="2885760" cy="1441440"/>
          </a:xfrm>
        </p:grpSpPr>
        <p:sp>
          <p:nvSpPr>
            <p:cNvPr id="341" name=""/>
            <p:cNvSpPr/>
            <p:nvPr/>
          </p:nvSpPr>
          <p:spPr>
            <a:xfrm>
              <a:off x="2679840" y="4048200"/>
              <a:ext cx="2885760" cy="1441440"/>
            </a:xfrm>
            <a:custGeom>
              <a:avLst/>
              <a:gdLst/>
              <a:ahLst/>
              <a:rect l="l" t="t" r="r" b="b"/>
              <a:pathLst>
                <a:path w="1818" h="908">
                  <a:moveTo>
                    <a:pt x="937" y="907"/>
                  </a:moveTo>
                  <a:lnTo>
                    <a:pt x="869" y="901"/>
                  </a:lnTo>
                  <a:lnTo>
                    <a:pt x="813" y="879"/>
                  </a:lnTo>
                  <a:lnTo>
                    <a:pt x="791" y="868"/>
                  </a:lnTo>
                  <a:lnTo>
                    <a:pt x="774" y="852"/>
                  </a:lnTo>
                  <a:lnTo>
                    <a:pt x="768" y="835"/>
                  </a:lnTo>
                  <a:lnTo>
                    <a:pt x="763" y="819"/>
                  </a:lnTo>
                  <a:lnTo>
                    <a:pt x="763" y="597"/>
                  </a:lnTo>
                  <a:lnTo>
                    <a:pt x="0" y="0"/>
                  </a:lnTo>
                  <a:lnTo>
                    <a:pt x="763" y="465"/>
                  </a:lnTo>
                  <a:lnTo>
                    <a:pt x="768" y="448"/>
                  </a:lnTo>
                  <a:lnTo>
                    <a:pt x="774" y="431"/>
                  </a:lnTo>
                  <a:lnTo>
                    <a:pt x="791" y="415"/>
                  </a:lnTo>
                  <a:lnTo>
                    <a:pt x="813" y="404"/>
                  </a:lnTo>
                  <a:lnTo>
                    <a:pt x="869" y="382"/>
                  </a:lnTo>
                  <a:lnTo>
                    <a:pt x="937" y="376"/>
                  </a:lnTo>
                  <a:lnTo>
                    <a:pt x="1200" y="376"/>
                  </a:lnTo>
                  <a:lnTo>
                    <a:pt x="1638" y="376"/>
                  </a:lnTo>
                  <a:lnTo>
                    <a:pt x="1710" y="382"/>
                  </a:lnTo>
                  <a:lnTo>
                    <a:pt x="1767" y="404"/>
                  </a:lnTo>
                  <a:lnTo>
                    <a:pt x="1789" y="415"/>
                  </a:lnTo>
                  <a:lnTo>
                    <a:pt x="1806" y="431"/>
                  </a:lnTo>
                  <a:lnTo>
                    <a:pt x="1811" y="448"/>
                  </a:lnTo>
                  <a:lnTo>
                    <a:pt x="1817" y="465"/>
                  </a:lnTo>
                  <a:lnTo>
                    <a:pt x="1817" y="597"/>
                  </a:lnTo>
                  <a:lnTo>
                    <a:pt x="1817" y="819"/>
                  </a:lnTo>
                  <a:lnTo>
                    <a:pt x="1811" y="835"/>
                  </a:lnTo>
                  <a:lnTo>
                    <a:pt x="1806" y="852"/>
                  </a:lnTo>
                  <a:lnTo>
                    <a:pt x="1789" y="868"/>
                  </a:lnTo>
                  <a:lnTo>
                    <a:pt x="1767" y="879"/>
                  </a:lnTo>
                  <a:lnTo>
                    <a:pt x="1710" y="901"/>
                  </a:lnTo>
                  <a:lnTo>
                    <a:pt x="1638" y="907"/>
                  </a:lnTo>
                  <a:lnTo>
                    <a:pt x="1200" y="907"/>
                  </a:lnTo>
                  <a:lnTo>
                    <a:pt x="937" y="907"/>
                  </a:lnTo>
                </a:path>
              </a:pathLst>
            </a:custGeom>
            <a:solidFill>
              <a:srgbClr val="500093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040280" y="4727520"/>
              <a:ext cx="1368360" cy="6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887640" y="4718160"/>
            <a:ext cx="17100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planetar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Times New Roman"/>
              </a:rPr>
              <a:t>Internet Gateway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planetary Internet Statu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 of the Mars Mission Pl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w Mars Orbit and Areosynchronous satellites by 200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ss control &amp; confidentialit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s Outposts by 20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ssible Manned Mars station 2030?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ble Interplanetary backbone 2040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erf’s Slides and other information are found at: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068480" y="2057400"/>
            <a:ext cx="757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wcom.com/cerfsup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ffffff"/>
                </a:solidFill>
                <a:latin typeface="Arial"/>
              </a:rPr>
              <a:t>www.isoc.org/internet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14880" y="3962520"/>
            <a:ext cx="7968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Also see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gip.or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nua.or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www.idc.com/telb/projectatlas.htm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Famous Last Word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2 bits should be enough address space for Internet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360" y="3581280"/>
            <a:ext cx="327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Vint Cerf, 197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e08000"/>
              </a:gs>
              <a:gs pos="100000">
                <a:srgbClr val="4226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80" y="692280"/>
            <a:ext cx="9055080" cy="6157800"/>
          </a:xfrm>
          <a:custGeom>
            <a:avLst/>
            <a:gdLst>
              <a:gd name="textAreaLeft" fmla="*/ 2067120 w 9055080"/>
              <a:gd name="textAreaRight" fmla="*/ 6987960 w 9055080"/>
              <a:gd name="textAreaTop" fmla="*/ 1405800 h 6157800"/>
              <a:gd name="textAreaBottom" fmla="*/ 4752000 h 6157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3e140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96560" y="1864800"/>
            <a:ext cx="7162920" cy="354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largest network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networks in the world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s TCP/IP protocols and packet switching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uns on any communi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tions substr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2208240" y="-360"/>
            <a:ext cx="510696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hat is the Internet?</a:t>
            </a:r>
            <a:endParaRPr b="0" lang="en-US" sz="3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aug96%20-%20IP%20on%20everything" descr=""/>
          <p:cNvPicPr/>
          <p:nvPr/>
        </p:nvPicPr>
        <p:blipFill>
          <a:blip r:embed="rId1"/>
          <a:stretch/>
        </p:blipFill>
        <p:spPr>
          <a:xfrm>
            <a:off x="25909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Some philosophical analogi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al Power and fractional horsepower motors - doing work for us 24 hours/da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et and computers (processing power) doing work for us - distributing and processing information, performing logical tasks 24 hours/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INTERNET “GOLDRUSH”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812960" y="5224320"/>
          <a:ext cx="785880" cy="6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2960" y="5224320"/>
                    <a:ext cx="78588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7029360" y="4610160"/>
          <a:ext cx="1532160" cy="146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9360" y="4610160"/>
                    <a:ext cx="1532160" cy="14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7" name=""/>
          <p:cNvGrpSpPr/>
          <p:nvPr/>
        </p:nvGrpSpPr>
        <p:grpSpPr>
          <a:xfrm>
            <a:off x="4114800" y="4514760"/>
            <a:ext cx="1235160" cy="1279440"/>
            <a:chOff x="4114800" y="4514760"/>
            <a:chExt cx="1235160" cy="1279440"/>
          </a:xfrm>
        </p:grpSpPr>
        <p:graphicFrame>
          <p:nvGraphicFramePr>
            <p:cNvPr id="148" name=""/>
            <p:cNvGraphicFramePr/>
            <p:nvPr/>
          </p:nvGraphicFramePr>
          <p:xfrm>
            <a:off x="4114800" y="4514760"/>
            <a:ext cx="1055520" cy="1047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114800" y="4514760"/>
                      <a:ext cx="10555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4203720" y="4630680"/>
            <a:ext cx="1057320" cy="1047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203720" y="4630680"/>
                      <a:ext cx="1057320" cy="1047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4294080" y="4746600"/>
            <a:ext cx="1055880" cy="10476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4294080" y="4746600"/>
                      <a:ext cx="1055880" cy="104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" name=""/>
          <p:cNvGrpSpPr/>
          <p:nvPr/>
        </p:nvGrpSpPr>
        <p:grpSpPr>
          <a:xfrm>
            <a:off x="4300560" y="1852560"/>
            <a:ext cx="2044800" cy="835200"/>
            <a:chOff x="4300560" y="1852560"/>
            <a:chExt cx="2044800" cy="835200"/>
          </a:xfrm>
        </p:grpSpPr>
        <p:graphicFrame>
          <p:nvGraphicFramePr>
            <p:cNvPr id="155" name=""/>
            <p:cNvGraphicFramePr/>
            <p:nvPr/>
          </p:nvGraphicFramePr>
          <p:xfrm>
            <a:off x="4300560" y="1865160"/>
            <a:ext cx="2044800" cy="8226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300560" y="1865160"/>
                      <a:ext cx="2044800" cy="822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57" name=""/>
            <p:cNvGrpSpPr/>
            <p:nvPr/>
          </p:nvGrpSpPr>
          <p:grpSpPr>
            <a:xfrm>
              <a:off x="4667400" y="1852560"/>
              <a:ext cx="1335960" cy="303840"/>
              <a:chOff x="4667400" y="1852560"/>
              <a:chExt cx="1335960" cy="303840"/>
            </a:xfrm>
          </p:grpSpPr>
          <p:sp>
            <p:nvSpPr>
              <p:cNvPr id="158" name=""/>
              <p:cNvSpPr/>
              <p:nvPr/>
            </p:nvSpPr>
            <p:spPr>
              <a:xfrm>
                <a:off x="4667400" y="1852560"/>
                <a:ext cx="132696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69200" y="1881360"/>
                <a:ext cx="13341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SUPPLY STORE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0" name=""/>
          <p:cNvGraphicFramePr/>
          <p:nvPr/>
        </p:nvGraphicFramePr>
        <p:xfrm>
          <a:off x="3398760" y="2800440"/>
          <a:ext cx="3046320" cy="1859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398760" y="2800440"/>
                    <a:ext cx="304632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426960" y="1614600"/>
            <a:ext cx="3606840" cy="34416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6400800" y="2728800"/>
            <a:ext cx="2043000" cy="1719360"/>
            <a:chOff x="6400800" y="2728800"/>
            <a:chExt cx="2043000" cy="1719360"/>
          </a:xfrm>
        </p:grpSpPr>
        <p:graphicFrame>
          <p:nvGraphicFramePr>
            <p:cNvPr id="164" name=""/>
            <p:cNvGraphicFramePr/>
            <p:nvPr/>
          </p:nvGraphicFramePr>
          <p:xfrm>
            <a:off x="6400800" y="2728800"/>
            <a:ext cx="2043000" cy="171936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6400800" y="2728800"/>
                      <a:ext cx="2043000" cy="1719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66" name=""/>
            <p:cNvGrpSpPr/>
            <p:nvPr/>
          </p:nvGrpSpPr>
          <p:grpSpPr>
            <a:xfrm>
              <a:off x="6777000" y="3605040"/>
              <a:ext cx="1327320" cy="300600"/>
              <a:chOff x="6777000" y="3605040"/>
              <a:chExt cx="1327320" cy="300600"/>
            </a:xfrm>
          </p:grpSpPr>
          <p:sp>
            <p:nvSpPr>
              <p:cNvPr id="167" name=""/>
              <p:cNvSpPr/>
              <p:nvPr/>
            </p:nvSpPr>
            <p:spPr>
              <a:xfrm>
                <a:off x="6777000" y="3605040"/>
                <a:ext cx="1327320" cy="277920"/>
              </a:xfrm>
              <a:prstGeom prst="rect">
                <a:avLst/>
              </a:prstGeom>
              <a:solidFill>
                <a:srgbClr val="7500d7"/>
              </a:solidFill>
              <a:ln w="475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13000" y="3630600"/>
                <a:ext cx="12654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Times New Roman"/>
                  </a:rPr>
                  <a:t>WESTERN INN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69" name=""/>
          <p:cNvGraphicFramePr/>
          <p:nvPr/>
        </p:nvGraphicFramePr>
        <p:xfrm>
          <a:off x="4871880" y="4751280"/>
          <a:ext cx="1177920" cy="121788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4871880" y="4751280"/>
                    <a:ext cx="1177920" cy="12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5521320" y="5029200"/>
          <a:ext cx="826920" cy="8301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5521320" y="5029200"/>
                    <a:ext cx="826920" cy="83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1735920" y="725400"/>
            <a:ext cx="699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California: 1848. It was gol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 years later…it’s Internet and the stock market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4T00:59:17Z</dcterms:created>
  <dc:creator>Vint Cerf</dc:creator>
  <dc:description/>
  <dc:language>en-US</dc:language>
  <cp:lastModifiedBy>Vint Cerf</cp:lastModifiedBy>
  <cp:lastPrinted>1997-08-29T17:39:48Z</cp:lastPrinted>
  <dcterms:modified xsi:type="dcterms:W3CDTF">2000-01-18T02:59:18Z</dcterms:modified>
  <cp:revision>90</cp:revision>
  <dc:subject>Telecom Italia</dc:subject>
  <dc:title>Sweden is special</dc:title>
</cp:coreProperties>
</file>