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E63-E759-45DE-B8D3-550011A3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F309-8E04-4A87-8152-E9E8ABFF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F18-FC80-4547-93DB-EDF3FFEA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176-0920-4DEB-899F-4381C8A4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CD2-7C6D-4920-8C6B-8CF7B74C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928A-FD69-4AED-AAA9-2800A200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B95-7225-4F59-9B68-45DB1F1E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580-C188-4233-81C2-2EDDCC98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2C3-88D8-4504-B47E-A8A42E68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E437-0C42-4CA9-8AC9-7CBD29B2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6D9-F8BE-4AFC-9C15-0D0E7C0C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B0F1-5AD4-439C-A41A-FA2AD726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ECFA-5339-436B-BF02-7FC6741EF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KCS Workshop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KCS #12 / PFX Comment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ke Ramsd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ef (Applied) Cryptogra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talk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/7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42900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m I yapping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ing PKCS #12 compl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y 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patible implementations (mostly resolv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ways to do the same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word-derived symmetric keys lumpe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ingle source f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 I doing this right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it the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private keys se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existing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rec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mpatible implem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he spec said, what Vendor M did and what Vendor N d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I put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edPrivateKey vs. Encrypted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ck, do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metric key 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ongs in PKCS #5, not lumped in with PKCS #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y within ASN.1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there are no shortcuts for dictionary or other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ish th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a completed PKCS #12, not PKCS #12 plus email th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v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h, we need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3840" y="2133720"/>
            <a:ext cx="456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ke C. Ramsdel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blaker@deming.co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ttp://www.worldtalk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6T02:00:29Z</dcterms:created>
  <dc:creator>Blake C. Ramsdell</dc:creator>
  <dc:description/>
  <dc:language>en-US</dc:language>
  <cp:lastModifiedBy>Shari Oto</cp:lastModifiedBy>
  <cp:lastPrinted>1998-10-07T16:02:56Z</cp:lastPrinted>
  <dcterms:modified xsi:type="dcterms:W3CDTF">1998-10-07T17:19:46Z</dcterms:modified>
  <cp:revision>7</cp:revision>
  <dc:subject/>
  <dc:title>PKCS #12 / PFX Commentary</dc:title>
</cp:coreProperties>
</file>