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C85-CCD5-4691-AA07-828591E2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DF1-013A-47B4-8E94-7F39F521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F63-B91F-4327-9526-5323710B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EA8-B4AF-4046-AD58-2F4BFAED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1563-0968-4069-A8EF-E86C4594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D95-DFAC-4A17-8B40-7C702FDB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972-DA43-42E1-A97C-E32EBA3A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509-186E-448F-B23E-7A5000B7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0764-0387-479B-9EB0-ED2D2971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E47-D840-4B12-B214-93D86D57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8BD-E322-40D7-A4A7-7CBD202D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C79-D817-4647-88A3-B2B64120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6A31-0C2B-40CD-83BD-55F36EE71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3: Elliptic Curve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7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P Consider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C in general is not patented, but specific choices may be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QV key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compression (ap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validation (ap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profile is intended to be unencumbered, though some implementation techniques may be pat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choices appropri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file too gener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would fewer choice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necess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EEE P1363 Profile for PKCS 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be a better tit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 and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iptic curve cryptography is emerging as a new public-key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tandardization underw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X9.62,.63, IEEE P1363, IS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13: a profile of exist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: in preparation, this is a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CC: Primary Choic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finit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ic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inite Fiel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d characteristic: GF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GF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e.g.,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characteristic: GF(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field represent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generally faster (esp. in hardware), odd leverages existing modular arithmetic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Agreement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e-Hel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ied” Diffie-Hel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Q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H basic, “unified” more flexible, MQV more efficient for joint static/ephem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, X9.63 draft have all 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ignature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berg-Ruep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no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A “standard,” NR allows message recovery, Schnorr more “provab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 has first two, X9.62 has D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ncryption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gamal (= DH + multipl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/MIM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heng-Seberry, Bellare-Rogaway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gamal basic, S/MIME enhanced, ZS and BR “provable”,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S, BR submitted to P1363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 in X9.63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int Represen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mpressed: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mpressed: only one bi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mpacted: one less bi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ly (with algorithm chan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, processing tradeo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 supports uncompresse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Pro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F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GF(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ith 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DH, ECDSA, P1363a 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mpressed, with P1363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parameter and key generation, validation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Burt Kaliski</dc:creator>
  <dc:description/>
  <dc:language>en-US</dc:language>
  <cp:lastModifiedBy>Burt Kaliski</cp:lastModifiedBy>
  <cp:lastPrinted>1998-08-07T15:04:05Z</cp:lastPrinted>
  <dcterms:modified xsi:type="dcterms:W3CDTF">1998-10-05T17:10:35Z</dcterms:modified>
  <cp:revision>178</cp:revision>
  <dc:subject/>
  <dc:title>PKCS #13: Elliptic Curve Cryptography Standard</dc:title>
</cp:coreProperties>
</file>