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CF218-1A5D-4B20-8008-4DD3C2214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599840" y="3673440"/>
            <a:ext cx="7086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3BFB4-F9E1-4578-AC8A-FD02EE1D7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231160" y="152388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599840" y="367344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231160" y="367344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1984C-9491-49CC-AB28-EAA663917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228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996000" y="1523880"/>
            <a:ext cx="228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392160" y="1523880"/>
            <a:ext cx="228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599840" y="3673440"/>
            <a:ext cx="228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996000" y="3673440"/>
            <a:ext cx="228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392160" y="3673440"/>
            <a:ext cx="228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ED596-AE30-4C72-967A-CF4FA2EA2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3458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231160" y="1523880"/>
            <a:ext cx="3458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599840" y="228240"/>
            <a:ext cx="7086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31160" y="1523880"/>
            <a:ext cx="3458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599840" y="367344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D7EEB-151F-4A4D-A3C6-602A05D58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3458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231160" y="152388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231160" y="367344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231160" y="152388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599840" y="3673440"/>
            <a:ext cx="7086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599840" y="3673440"/>
            <a:ext cx="7086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31160" y="152388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599840" y="367344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231160" y="367344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228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996000" y="1523880"/>
            <a:ext cx="228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392160" y="1523880"/>
            <a:ext cx="228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599840" y="3673440"/>
            <a:ext cx="228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996000" y="3673440"/>
            <a:ext cx="228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392160" y="3673440"/>
            <a:ext cx="228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3FF80-DC1A-4124-88AF-E10C8A4B1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3458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231160" y="1523880"/>
            <a:ext cx="3458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58D2A-23A2-4349-8EAA-1A9ABDE38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7D646-A5A2-4A14-B883-6F5C0B2EC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599840" y="228240"/>
            <a:ext cx="7086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153B2-A7FF-40D5-8A8B-07199E88C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31160" y="1523880"/>
            <a:ext cx="3458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599840" y="367344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9B158-64DB-484D-B4AE-9034B73C0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3458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231160" y="152388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231160" y="367344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A23E4-2089-4EF0-B884-564531289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31160" y="152388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599840" y="3673440"/>
            <a:ext cx="7086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99C3E-B465-41AD-AF81-384F77EE3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371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© RSA Data Security 199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733560" y="640080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fld id="{1A339697-D8F0-4296-81E0-2D06B7E3B4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A7365-5D3A-4F0D-82B3-29FFCC010D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796160" y="6111720"/>
            <a:ext cx="1284480" cy="682920"/>
          </a:xfrm>
          <a:prstGeom prst="rect">
            <a:avLst/>
          </a:prstGeom>
          <a:ln w="0">
            <a:noFill/>
          </a:ln>
        </p:spPr>
      </p:pic>
      <p:pic>
        <p:nvPicPr>
          <p:cNvPr id="6" name="keys" descr=""/>
          <p:cNvPicPr/>
          <p:nvPr/>
        </p:nvPicPr>
        <p:blipFill>
          <a:blip r:embed="rId3"/>
          <a:stretch/>
        </p:blipFill>
        <p:spPr>
          <a:xfrm>
            <a:off x="0" y="0"/>
            <a:ext cx="137628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14400" y="1828800"/>
            <a:ext cx="8229600" cy="304920"/>
          </a:xfrm>
          <a:prstGeom prst="rect">
            <a:avLst/>
          </a:prstGeom>
          <a:solidFill>
            <a:srgbClr val="e48800"/>
          </a:solidFill>
          <a:ln w="0">
            <a:noFill/>
          </a:ln>
          <a:effectLst>
            <a:outerShdw dist="17819" dir="2700000" blurRad="0" rotWithShape="0">
              <a:srgbClr val="8851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3716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14475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SA Data Secur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keys" descr=""/>
          <p:cNvPicPr/>
          <p:nvPr/>
        </p:nvPicPr>
        <p:blipFill>
          <a:blip r:embed="rId2"/>
          <a:stretch/>
        </p:blipFill>
        <p:spPr>
          <a:xfrm>
            <a:off x="0" y="0"/>
            <a:ext cx="137628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3716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PKCS #14: Pseudo-Random Number Generation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1237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bert W. Baldwin - RSA Enginee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ldwin@rsa.c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mes W. Gray, III - RSA Laborat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gray@rsa.c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KCS Workshop ’98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October 7-9, 199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tivation, Purpose and 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ZapfDingbats BT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ZapfDingbats BT"/>
                <a:ea typeface="ZapfDingbats BT"/>
              </a:rPr>
              <a:t>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iteria and Requir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gorithm Famil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gest, Block-Cipher, Bo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eam-Cipher, Modular-Expone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cussion of Criteria &amp; Famil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Meta-Criteria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y New Algorithm Must Be Better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an Existing Algorith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To Measure Better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haps Multiple Sets of Criter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Criteria - Conflicting Sets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formanc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ipher-Based PR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port Regul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gest-Based PR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able Secur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onentiation-Based PR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rdware Primiti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Full Digest, Not Hash-Compres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Criteria - Security Checklist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utput Passes Randomness Tes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rge Minimum Cycle Leng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void Brute Force State Guess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rge Output Ran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3DES Ke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256-Bit AES Ke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ll Use of Seed Materi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Criteria - Security Checklist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void Known Cryptanalytic Attac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fferential Against Cipher or Digest Inp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ming Att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mit Forward and Backward Attac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tacker Control of Some Seed Does Not Help Mu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Criteria - Conservative Security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en Security Proper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ll-Studied Algorith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ll-Known Primiti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epted Properties of Primiti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Criteria - Intellectual Property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Well-Defined Ownershi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nge Of Ownership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Patents On Any P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tents On Primitives Not Constru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tents On Constru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tents On Whole PR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ll-Understood Licensing Ter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n-Discriminatory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Criteria - API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are the Full Set of Operations for a PRNG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 Initial Se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te “Random” By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 New Se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ve and Restore State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lf Test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st for Needs-More-Seed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7000" indent="-203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Many Bytes Output Since Last Se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tivation, Purpose and 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iteria and Requir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ZapfDingbats BT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ZapfDingbats BT"/>
                <a:ea typeface="ZapfDingbats BT"/>
              </a:rPr>
              <a:t>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gorithm Famil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gest, Block-Cipher, Bo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eam-Cipher, Modular-Expone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cussion of Criteria &amp; Famil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Structure of PRNG Algorithms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duce Seed Material to St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op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te One Block of Output From St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vance State Without New Se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date State With New Seed (Mayb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ve &amp; Restore State (Mayb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tivation, Purpose and 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iteria and Requir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gorithm Famil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gest, Block-Cipher, Bo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eam-Cipher, Modular-Expone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cussion of Criteria &amp; Famil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Comparing PRNG &amp; KDFs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1755720" y="1571760"/>
          <a:ext cx="6519960" cy="3859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5720" y="1571760"/>
                    <a:ext cx="6519960" cy="385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Notation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|| = Concaten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| x | = Bit Size of “x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+ = Unsigned Integer Addi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* = Unsigned Integer Multipl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^ = Exponenti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or = Exclusive-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Notation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 = St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 = X1 .. Xn = Seed bloc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= Y1 .. Ym = Output bloc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(z) = Digest of value 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c(k, m) = Encrypt block m with 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bcRes(k, M) = CBC Residue of message M with key 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Possible Algorithm Families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ZapfDingbats BT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ZapfDingbats BT"/>
                <a:ea typeface="ZapfDingbats BT"/>
              </a:rPr>
              <a:t>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g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lock-Ciph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gest and Block-Ciph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eam-Ciph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ular Exponenti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Digest (PRF) Family of PRNG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SAFE Algorith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arr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utman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SL KD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Digest Family PRNG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ed Reduction via MD5, SHA1, RIPEMD-16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28 or 160 Bit Bottlene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DES needs 168-Bit Ke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erate Output by Digest of St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Digest Family PRNG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vance State 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ng Constant (BSAF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FSR or LC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erative Digest (Gutmann, Yarr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date State with New Se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ger Addition of Digested Seed (BSAFE 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gest (State || Seed) (BSAFE 3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Proposed Digest-PRNG Algorithm #1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ed Reduc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 = Initial Se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 = S1 || S2 = Internal St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 S | = 256 Bits,  | S1 | = | S2 | = 128 B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 = D(Pad1 || X) truncated to 128 b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2 = D(Pad2 || X) truncated to 128 b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 Pad1 | = | Pad2 | = 512 b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ract Up To 256 Bits of Entrop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Proposed Digest-PRNG Algorithm #1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utput Gene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j = HMAC (S, S || j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ternative: Yj = HMAC (S, j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j = D (S xor Pad1 || D (S xor Pad2 || S|| j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j = D (S xor Pad1 || D (S xor Pad2 || j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 Pad1 | = | Pad2 | = 512 B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 j | = 192 Bits (Room for End Paddin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vance State is just:  j = j +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Output Diagram for Digest-PRNG Algorithm #1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507320" y="1515960"/>
            <a:ext cx="501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Shows Alternative: Yj = HMAC (S, j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3649680"/>
            <a:ext cx="816120" cy="4078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044880" y="3100320"/>
            <a:ext cx="504720" cy="2970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044880" y="3122640"/>
            <a:ext cx="50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876680" y="22827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041560" y="2739960"/>
            <a:ext cx="0" cy="2246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054160" y="3270240"/>
            <a:ext cx="990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78160" y="3402000"/>
            <a:ext cx="0" cy="247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195640" y="3665520"/>
            <a:ext cx="4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85880" y="3859200"/>
            <a:ext cx="309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895480" y="5369040"/>
            <a:ext cx="816120" cy="4078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044880" y="4819680"/>
            <a:ext cx="504720" cy="2970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044880" y="4842000"/>
            <a:ext cx="50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054160" y="4989600"/>
            <a:ext cx="990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278160" y="5121360"/>
            <a:ext cx="0" cy="247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197080" y="5373720"/>
            <a:ext cx="49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585880" y="5578560"/>
            <a:ext cx="309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038400" y="4176720"/>
            <a:ext cx="72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d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90760" y="4503600"/>
            <a:ext cx="0" cy="309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025800" y="2455920"/>
            <a:ext cx="72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d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278160" y="2782800"/>
            <a:ext cx="0" cy="309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087720" y="3705120"/>
            <a:ext cx="72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051000" y="5425920"/>
            <a:ext cx="72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724200" y="3835440"/>
            <a:ext cx="5446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724200" y="5567400"/>
            <a:ext cx="19670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255920" y="3649680"/>
            <a:ext cx="816120" cy="4078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448160" y="3705120"/>
            <a:ext cx="72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691240" y="5381640"/>
            <a:ext cx="815760" cy="4078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883120" y="5437080"/>
            <a:ext cx="72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412880" y="230652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514760" y="2819520"/>
            <a:ext cx="0" cy="82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025720" y="2976480"/>
            <a:ext cx="82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56 Bi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498920" y="2787480"/>
            <a:ext cx="82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56 Bi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300480" y="2727360"/>
            <a:ext cx="82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12 Bi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11640" y="4460760"/>
            <a:ext cx="82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12 Bi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025720" y="4683240"/>
            <a:ext cx="82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56 Bi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94120" y="3062160"/>
            <a:ext cx="13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dPad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911840" y="3378240"/>
            <a:ext cx="0" cy="258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906800" y="3344760"/>
            <a:ext cx="82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56 Bi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084640" y="3848040"/>
            <a:ext cx="8161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900760" y="3859200"/>
            <a:ext cx="0" cy="1522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054760" y="3840120"/>
            <a:ext cx="82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60 Bi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83280" y="4432320"/>
            <a:ext cx="13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dPad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237360" y="4775040"/>
            <a:ext cx="0" cy="581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232680" y="4743360"/>
            <a:ext cx="82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52 Bi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531120" y="5603760"/>
            <a:ext cx="977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159680" y="50292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505560" y="5610240"/>
            <a:ext cx="82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60 Bi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718080" y="5572080"/>
            <a:ext cx="82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60 Bi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091560" y="2147760"/>
            <a:ext cx="265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 S | = | j | = 256 B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097320" y="2631960"/>
            <a:ext cx="233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F = SHA1-H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276720" y="3346560"/>
            <a:ext cx="82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12 Bi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289320" y="5054760"/>
            <a:ext cx="82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12 Bi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962000" y="5659560"/>
            <a:ext cx="82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60 Bi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Goals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ugh Consensus on Criteria and Requir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rt Discussion of Algorith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gnup Interested Participants For Further Develop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Proposed Digest-PRNG Algorithm #1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date State With New Seed, X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 = D(S xor Pad1 || Xk) truncated to 12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2 = D(S xor Pad2 || Xk) truncated to 12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 Pad1 | = | Pad2 | = 512 b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me as Initial Seeding With S = 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Benefits of Digest-PRNG </a:t>
            </a:r>
            <a:br>
              <a:rPr sz="3700"/>
            </a:b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Algorithm #1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rge State Avoids 3DES Key Probl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te Cycle Length of 2^192 Block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Output Cycle Length May Be S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nefits From Literature on H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 Literature (Krawczyk, Bellare, Rogawa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Drawbacks of Digest-PRNG</a:t>
            </a:r>
            <a:br>
              <a:rPr sz="3700"/>
            </a:b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Algorithm #1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Algorithm, No Litera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es Not Avoid Back-Tracking Attack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Proofs of Security fo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ed Redu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e Upd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lower Than BSAFE’s Algorith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X for Output Gen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Proposed New Digest-PRNG Algorithm #2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ing developed by Jim Gr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able” Security Proper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sed on Hash Compression Function Rather than Full Digest Fun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ill Under develop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Possible Algorithm Families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g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ZapfDingbats BT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ZapfDingbats BT"/>
                <a:ea typeface="ZapfDingbats BT"/>
              </a:rPr>
              <a:t>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lock-Ciph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gest and Block-Ciph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eam-Ciph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ular Exponenti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Block-Cipher Family PRNG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9.1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llare, Rogaway, and oth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lated to MAC Litera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rawczyk, Davis, Meyer, and oth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Block-Cipher Family PRNG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ed Reduction Often Unspecifi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ipher-Based Digest (MDC2, Davies-Meyer, etc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te = Key and Message-Blo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utput by Encrypting Part of St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rypt Single Block Coun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BC-Residue of Large Counter (Micro-BSAF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Block-Cipher Family PRNG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vance Message-Block and/or Key b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ng Constant (Rogawa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FSR or LC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erative Encryption (X9.17, Rogawa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end Counter (Rogawa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Proposed Block-Cipher-PRNG Algorithm #1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sed on Rogaway and oth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s 64-bit block ciph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th Keys Of At Least 128 bi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DEA, RC5, 3D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Generalize to AES Ciph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Proposed Block-Cipher-PRNG Algorithm #1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ed Reduc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() = Davies-Meyer One-Way Has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 = H(Prefix1 || X)  -- 128 B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 = S = S1 || S2  =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(Prefix2 || X)  -- 128 B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 Prefix1 | = | Prefix2 | = 64 B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Motivation for PKCS #14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nda-san:  Ask why 3 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: Increase System Secur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: Users and Developers Feel Saf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: Lawyers Are Happier  :-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lly Accepted Good Business Pract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r Intellectual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Proposed Block-Cipher-PRNG Algorithm #1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599840" y="1523520"/>
            <a:ext cx="7110360" cy="447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utput Gene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j = CbcRes (GK, 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K = H(K || j &gt;&gt; d) = Generation K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” sets key change rate. 0 &lt; d &lt; 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bcRes = 64-bit CBC Resid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bcRes (K, S1 || S2)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Enc (K, S2 xor Enc (K, S1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 S1 | = | S2 | = 64 B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 j &gt;&gt; d | = 64 B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Proposed Block-Cipher-PRNG Algorithm #1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vance S State (LC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 = S + C modulo 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 is 128-Bit Pr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ke Care to Avoid Timing Attac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vanced CbcRes Key St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fter 2^d Output Bloc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K = H(K || j &gt;&gt; 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 j &gt;&gt; d | = 64 B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Proposed Block-Cipher-PRNG Algorithm #1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date State With New Seed, X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() = Davies-Meyer Has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 = H(Prefix1 || K || Xk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 = H(Prefix2 || M || Xk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Benefits of Block-Cipher-PRNG Algorithm #1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rge State Avoids 3DES Key Probl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te Cycle Length of P (~2^128) Bloc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put Cycle May Be Sa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Bit Faster Than Digest Algorith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 Literature (Rogaway, Bellare, Davi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Drawbacks of Block-Cipher-PRNG Algorithm #1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Protection Against Back Track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Algorithm, No Direct Litera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Possible Algorithm Families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g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lock-Ciph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ZapfDingbats BT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ZapfDingbats BT"/>
                <a:ea typeface="ZapfDingbats BT"/>
              </a:rPr>
              <a:t>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gest and Block-Ciph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verview On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eam-Ciph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ular Exponenti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Digest and Block-Cipher PRNG Family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ed Reduction Using Dig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utput by Encrypting Part of St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rypt Single Block Coun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BC-Residue of Large Counter (Micro-BSAF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Digest and Block Cipher PRNG Family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vance State and/or Key b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ng Constant (Rogawa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FSR or LC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erative Encryption (X9.17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erative Hash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Possible Algorithm Families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g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lock Ciph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gest and Blo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ZapfDingbats BT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ZapfDingbats BT"/>
                <a:ea typeface="ZapfDingbats BT"/>
              </a:rPr>
              <a:t>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eam Ciph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verview On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ular Exponenti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Stream Cipher PRNG Family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ed Reduction Using ??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utput Key Stream Ciph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C4, PIKE, SEAL, VESTA, A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vance St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ning Stream Cip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Possible Non-Purposes for </a:t>
            </a:r>
            <a:br>
              <a:rPr sz="3700"/>
            </a:b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PKCS #14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Not: “Entropy” Gathering Recommend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Not: Ensure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ybe: state save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Possible Algorithm Families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g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lock Ciph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gest and Blo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eam Ciph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ZapfDingbats BT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ZapfDingbats BT"/>
                <a:ea typeface="ZapfDingbats BT"/>
              </a:rPr>
              <a:t>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ular Exponenti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verview On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Modular Exponentiation PRNG Family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ed Reduction Using ??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utput b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put Function of Valu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Parity, LSB, O(log log n) Bits, etc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vance St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erate Expone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terature for BBS, ACGS, and B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tivation, Purpose and 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iteria and Requir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gorithm Famil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gest, Block Cipher, Bo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eam Cipher, Modular-Expone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ZapfDingbats BT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ZapfDingbats BT"/>
                <a:ea typeface="ZapfDingbats BT"/>
              </a:rPr>
              <a:t>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cussion of Criteria &amp; Famil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Discussion of Criteria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Documenting BSAFE Enough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e Cipher-Based PRNGs Neede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Patent-Free Require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NG Construct and/or Primitiv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Re-Seeding Neede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Digest Function Internals Be Use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Possible Purposes For PKCS #14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: Establish Accepted Pract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: Ensure Correctn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st Vec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: Ensure Streng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ite Literature (Provable Properti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vide Focus for Resear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Possible Purposes For PKCS #14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ybe: Document Evaluation Criter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ybe: Evaluate Different Algorith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Not: Repeat RIPE proj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: Input to Other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Possible Scope For PKCS #14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ust Document the BSAFE Algorith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talog All Known Algorith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broken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 the One Ideal PRNG Algorith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lect a Few Good Algorith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for Each Major Environ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ed Criteria for Goodn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Current Scope For PKCS #14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cument a Few Good Algorith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cluding BSAFE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May 199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sed on Existing Litera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w Construct OK With Proof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ite Preliminary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terature &amp; RSA Bulleti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30T18:28:10Z</dcterms:created>
  <dc:creator> </dc:creator>
  <dc:description/>
  <dc:language>en-US</dc:language>
  <cp:lastModifiedBy>Bob Baldwin</cp:lastModifiedBy>
  <cp:lastPrinted>1998-10-01T16:58:14Z</cp:lastPrinted>
  <dcterms:modified xsi:type="dcterms:W3CDTF">1998-10-09T21:22:50Z</dcterms:modified>
  <cp:revision>274</cp:revision>
  <dc:subject/>
  <dc:title>Emerging Standards for Public-Key Cryptography</dc:title>
</cp:coreProperties>
</file>