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4A1-986E-46F3-93DE-3CFC3BB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5C5-1794-4C05-9959-5902847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446-5D78-436C-830F-9FECC120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4F0-2E6C-4333-BB15-0FECA06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3E4-14F8-4B81-9E31-C2214FEA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EC3-6AD4-4E51-80FA-38A4AD2E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442-C498-4C26-932C-260D9D96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18B-5F80-4A93-93FD-BE9B7E6A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EFD-39F4-4E14-BA8F-30C232B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2C4-1588-4305-8E56-1B15BE4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946-13DF-430C-84B9-B9DD4FB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139-F9FB-4E40-86C1-41DAF71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F2F8-6CF3-48CF-8CB0-3E9C7AA5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: Password-Based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9, 1998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minor 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Cryptography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ublished 10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v1.5 and new modular encryp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odular message authentic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Key Derivation Fun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KDF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mpute block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H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Output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MAC widely implemented, “provably secure” under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viewed as a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increases cost, preserves P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length through vary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w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encryp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 such as IV selec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ssage Authentica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elect salt S, iteration cou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ey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pply KDF to derive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KDF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kL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pply underlying message authentic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ddressing the Limit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(iterated)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ry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model /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still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support wider hash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ractical problem for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pporting Techniqu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, DES-EDE3, RC2, R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CBC mode with PKCS #5 v1.5 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-EDE2, DESX, RC4 to be ad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deriv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BKDF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KDF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kdf2 ::= pkcs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KDF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 (1..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eyLength [0] INTEGER DEFAULT 16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hFunc [1] AlgID {{pbkdf2Hashs}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DEFAULT sha1Identifier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OIDs as in v1.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2AndDES-CBC ::= pkcs-5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MD5AndDES-CBC ::= pkcs-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WithSHA1AndRC2-CBC ::= pkcs-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Parameter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lt OCTET STRING SIZE (8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terationCount INTEGER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5 v2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ES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es2 ::= pkcs-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ES2-params ::=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es2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nc AlgID {{pbes2En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BMAC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O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-pbmac1 ::= pkcs-5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MAC1-params ::=  SEQUENCE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df AlgID {{pbmac1KDFs}}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c AlgID {{pbmac1Macs}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pper” and usag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ssword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with a passwor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,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peculiar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s are not convention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are they very “rando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eneral Mod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-based key der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PBKD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s dictionary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licates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conventional crypto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ssword-Based Encryptio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ed 11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5 with DES-C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5 v1.5 Encryption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Generate sal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sh with password to derive key, IV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as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ad message and encry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-CBC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nt to recip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imitations of v1.5 Sche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wo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underlying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adding, assumes CB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tical deficienc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ormal model or security proof for K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has “entropy bottlene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length for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hanc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Data Security ext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2-CBC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2 password-based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Workshop ’97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PKCS #5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New key derivation function to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Modular encryption, message authentic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for underlying scheme (e.g., IV)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urt Kaliski</cp:lastModifiedBy>
  <cp:lastPrinted>1998-08-07T15:04:05Z</cp:lastPrinted>
  <dcterms:modified xsi:type="dcterms:W3CDTF">1998-10-13T15:25:00Z</dcterms:modified>
  <cp:revision>185</cp:revision>
  <dc:subject/>
  <dc:title>Emerging Standards for Public-Key Cryptography</dc:title>
</cp:coreProperties>
</file>