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B162-2FE0-4ACF-A78F-433722270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4FBB-5DC4-4510-AD99-9F86C20E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3C23-F673-42F3-A8C0-F233C8528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E041-229A-4162-9F3E-6617145C6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2726-D19B-4455-9669-C7F8C77D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CFDC-F565-4588-96F5-C29D84A4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C68F-ECEC-4288-A087-FEACC1D3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4C8D-21DC-41EB-B7E9-D9DD1236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C6CC-E9D6-4133-882C-68D2434B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1EB0-E79D-4948-A130-208BD8CF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2A80-FCF4-46D5-B53D-1BAC1421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D6C4-F10C-4825-95B8-829EA11B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3822-E923-426D-A2F3-8861EDBE8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84320" y="90360"/>
            <a:ext cx="1455480" cy="51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image" Target="../media/image7.wmf"/><Relationship Id="rId11" Type="http://schemas.openxmlformats.org/officeDocument/2006/relationships/image" Target="../media/image8.wmf"/><Relationship Id="rId12" Type="http://schemas.openxmlformats.org/officeDocument/2006/relationships/image" Target="../media/image9.wmf"/><Relationship Id="rId13" Type="http://schemas.openxmlformats.org/officeDocument/2006/relationships/image" Target="../media/image10.wmf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12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13.wmf"/><Relationship Id="rId1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ne EID card, many applica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r Authent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gital signatures, e.g. for non-repudi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fidentiality through encryp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753000" y="3981600"/>
            <a:ext cx="1563480" cy="103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7086600" y="4079880"/>
          <a:ext cx="62244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86600" y="4079880"/>
                    <a:ext cx="6224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7010280" y="4249800"/>
          <a:ext cx="622440" cy="639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10280" y="4249800"/>
                    <a:ext cx="6224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6858000" y="4402080"/>
          <a:ext cx="622440" cy="63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58000" y="4402080"/>
                    <a:ext cx="6224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"/>
          <p:cNvGrpSpPr/>
          <p:nvPr/>
        </p:nvGrpSpPr>
        <p:grpSpPr>
          <a:xfrm>
            <a:off x="6262560" y="4002120"/>
            <a:ext cx="443160" cy="722520"/>
            <a:chOff x="6262560" y="4002120"/>
            <a:chExt cx="443160" cy="722520"/>
          </a:xfrm>
        </p:grpSpPr>
        <p:graphicFrame>
          <p:nvGraphicFramePr>
            <p:cNvPr id="52" name=""/>
            <p:cNvGraphicFramePr/>
            <p:nvPr/>
          </p:nvGraphicFramePr>
          <p:xfrm>
            <a:off x="6292800" y="4002120"/>
            <a:ext cx="366840" cy="6937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292800" y="4002120"/>
                      <a:ext cx="366840" cy="69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" name=""/>
            <p:cNvSpPr/>
            <p:nvPr/>
          </p:nvSpPr>
          <p:spPr>
            <a:xfrm>
              <a:off x="6262560" y="4084560"/>
              <a:ext cx="44316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Times New Roman"/>
                </a:rPr>
                <a:t>priv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4038480" y="2286000"/>
            <a:ext cx="614520" cy="851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2438280" y="2446200"/>
            <a:ext cx="809640" cy="538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762120" y="2405160"/>
            <a:ext cx="927000" cy="655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5648400" y="2286000"/>
            <a:ext cx="668160" cy="774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7238880" y="2362320"/>
            <a:ext cx="567000" cy="69840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5791320" y="4383000"/>
            <a:ext cx="442800" cy="722880"/>
            <a:chOff x="5791320" y="4383000"/>
            <a:chExt cx="442800" cy="722880"/>
          </a:xfrm>
        </p:grpSpPr>
        <p:graphicFrame>
          <p:nvGraphicFramePr>
            <p:cNvPr id="61" name=""/>
            <p:cNvGraphicFramePr/>
            <p:nvPr/>
          </p:nvGraphicFramePr>
          <p:xfrm>
            <a:off x="5821200" y="4383000"/>
            <a:ext cx="366840" cy="6937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821200" y="4383000"/>
                      <a:ext cx="366840" cy="69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3" name=""/>
            <p:cNvSpPr/>
            <p:nvPr/>
          </p:nvSpPr>
          <p:spPr>
            <a:xfrm>
              <a:off x="5791320" y="4465800"/>
              <a:ext cx="44280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Times New Roman"/>
                </a:rPr>
                <a:t>priv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6005520" y="4154400"/>
            <a:ext cx="442800" cy="722880"/>
            <a:chOff x="6005520" y="4154400"/>
            <a:chExt cx="442800" cy="722880"/>
          </a:xfrm>
        </p:grpSpPr>
        <p:graphicFrame>
          <p:nvGraphicFramePr>
            <p:cNvPr id="65" name=""/>
            <p:cNvGraphicFramePr/>
            <p:nvPr/>
          </p:nvGraphicFramePr>
          <p:xfrm>
            <a:off x="6035760" y="4154400"/>
            <a:ext cx="366480" cy="6937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6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035760" y="4154400"/>
                      <a:ext cx="366480" cy="69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" name=""/>
            <p:cNvSpPr/>
            <p:nvPr/>
          </p:nvSpPr>
          <p:spPr>
            <a:xfrm>
              <a:off x="6005520" y="4237200"/>
              <a:ext cx="44280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Times New Roman"/>
                </a:rPr>
                <a:t>priv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663480" y="1793880"/>
            <a:ext cx="7391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banking   e-commerce   at work       health care     be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7080" y="3125880"/>
            <a:ext cx="2055600" cy="760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973240" y="3125880"/>
            <a:ext cx="989280" cy="684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3278160"/>
            <a:ext cx="0" cy="531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030280" y="3125880"/>
            <a:ext cx="760680" cy="608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564160" y="3278160"/>
            <a:ext cx="1751040" cy="531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y smart cards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fe storage for private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duplication of private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s ”know” and ”possess” cri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bil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y to carry complex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derstandable for the us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568840" y="2673360"/>
            <a:ext cx="2121120" cy="2044800"/>
          </a:xfrm>
          <a:prstGeom prst="rect">
            <a:avLst/>
          </a:prstGeom>
          <a:solidFill>
            <a:srgbClr val="beff9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292640" y="4952880"/>
          <a:ext cx="1073160" cy="116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92640" y="4952880"/>
                    <a:ext cx="107316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2673360" y="5645160"/>
            <a:ext cx="2120760" cy="8254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431120" y="5114880"/>
          <a:ext cx="1255680" cy="75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31120" y="5114880"/>
                    <a:ext cx="125568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568840" y="5645160"/>
            <a:ext cx="2121120" cy="825480"/>
          </a:xfrm>
          <a:prstGeom prst="rect">
            <a:avLst/>
          </a:prstGeom>
          <a:solidFill>
            <a:srgbClr val="8efb9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9080" y="2719440"/>
            <a:ext cx="2759040" cy="31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ing the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su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ality assu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que properti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enticati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u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74000" y="2117880"/>
            <a:ext cx="1108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 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94480" y="2193840"/>
            <a:ext cx="1476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rtif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73360" y="2673360"/>
            <a:ext cx="2120760" cy="2044800"/>
          </a:xfrm>
          <a:prstGeom prst="rect">
            <a:avLst/>
          </a:prstGeom>
          <a:solidFill>
            <a:srgbClr val="c9e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51040" y="2719440"/>
            <a:ext cx="2301840" cy="37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e prin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, SSN, (Count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d issu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 or nat.stand.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oto, sign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ace + ability to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rite correct sign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46880" y="2719440"/>
            <a:ext cx="2301840" cy="37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gital sign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, SSN, (Count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rtificate 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cess to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rrect private key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71480" y="5005440"/>
            <a:ext cx="2331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sical character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67320" y="5005440"/>
            <a:ext cx="1879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ectronic ID c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726240" y="1638360"/>
          <a:ext cx="1503360" cy="102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26240" y="1638360"/>
                    <a:ext cx="150336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3621240" y="1828800"/>
          <a:ext cx="1255680" cy="75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21240" y="1828800"/>
                    <a:ext cx="125568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304920" y="4876920"/>
            <a:ext cx="84582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76320" y="914400"/>
            <a:ext cx="164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sual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28960" y="914400"/>
            <a:ext cx="222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n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57600" y="4572000"/>
            <a:ext cx="0" cy="762120"/>
          </a:xfrm>
          <a:prstGeom prst="line">
            <a:avLst/>
          </a:prstGeom>
          <a:ln w="76320">
            <a:solidFill>
              <a:srgbClr val="ff0033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00800" y="4572000"/>
            <a:ext cx="0" cy="762120"/>
          </a:xfrm>
          <a:prstGeom prst="line">
            <a:avLst/>
          </a:prstGeom>
          <a:ln w="76320">
            <a:solidFill>
              <a:srgbClr val="ff0033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SEIS Specifica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1: The Electronic ID Ca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d file structure and cont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3: EID Certificate Cont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to PKIX-1 and S/MIME certificate specific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4: EID Implementation profi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es number of keys, key lengths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1T17:16:21Z</dcterms:created>
  <dc:creator>Hans Nilsson</dc:creator>
  <dc:description/>
  <dc:language>en-US</dc:language>
  <cp:lastModifiedBy>Hans Nilsson</cp:lastModifiedBy>
  <dcterms:modified xsi:type="dcterms:W3CDTF">1998-06-23T06:01:23Z</dcterms:modified>
  <cp:revision>10</cp:revision>
  <dc:subject/>
  <dc:title>One EID card, many applications</dc:title>
</cp:coreProperties>
</file>