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F69BA-3D19-456D-AD76-1CD9951F2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B5763-1203-49E0-8B7D-53138F09E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C718E-2133-4368-9273-1E80C6BA4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468DF-4AAB-47F1-A6C1-18D6B1DAC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4DFAD-7695-487C-BC52-6F59753B5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B891F-1EEB-4B00-9541-066FBF845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372C8-9575-4F8F-95F6-D0EFD9E7D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5476D-9670-4460-9122-449FAFD4E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FF876-454C-42B6-882F-70484F9B0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74086-493B-4EBB-BBDC-0BDC93C11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C4025-5265-49CC-9136-38CAA840E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A7FA2-B279-40EB-86A7-C160EDB9B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0D1F9-473D-46A1-8125-B6F7CFC76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57ADF-2983-4588-8184-34558CB15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0984E-57FA-4685-985B-A36D33ABB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166D6-CC47-49CB-966E-8552CEC45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5064B-D85A-4AC8-8A67-754BAD78D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7C632-2A0E-4F3A-BD8F-37A14FFF7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58E9E-0C02-42DA-8F64-88E79DA0A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1AEF7-6772-4417-B5A3-CC9C3CE19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CC82D-0226-4D55-81A9-1E8B319ED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22716-5E23-4C8B-A00F-8AC5C110C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60619-A960-42E2-B39B-729A4D510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CD906-A2EE-4D79-A92B-F5D78D6EA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2" name="minispir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17EAA-BA6D-4FB6-AAE3-29D883ABEDB1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6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47" name="minispir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A9B26-D140-475B-A79C-E7E8C492C430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08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lternate Representations of th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ublic Key Cryptography Standard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PKCS) Using S-Expressions,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S-PKCS</a:t>
            </a:r>
            <a:endParaRPr b="0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647720" y="46530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08366"/>
                </a:solidFill>
                <a:latin typeface="Times New Roman"/>
              </a:rPr>
              <a:t>Matthew Wood</a:t>
            </a:r>
            <a:r>
              <a:rPr b="0" lang="en-US" sz="2400" spc="-1" strike="noStrike">
                <a:solidFill>
                  <a:srgbClr val="a083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a083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a083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a08366"/>
                </a:solidFill>
                <a:latin typeface="Times New Roman"/>
              </a:rPr>
              <a:t>Carl Ellison</a:t>
            </a:r>
            <a:endParaRPr b="0" lang="en-US" sz="2400" spc="-1" strike="noStrike">
              <a:solidFill>
                <a:srgbClr val="a08366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08366"/>
                </a:solidFill>
                <a:latin typeface="Times New Roman"/>
              </a:rPr>
              <a:t>Intel Corporation</a:t>
            </a:r>
            <a:endParaRPr b="0" lang="en-US" sz="2400" spc="-1" strike="noStrike">
              <a:solidFill>
                <a:srgbClr val="a08366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08366"/>
                </a:solidFill>
                <a:latin typeface="Times New Roman"/>
              </a:rPr>
              <a:t>1999 PKCS Workshop, Stockholm, Sweden</a:t>
            </a:r>
            <a:endParaRPr b="0" lang="en-US" sz="2400" spc="-1" strike="noStrike">
              <a:solidFill>
                <a:srgbClr val="a08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Why Define Data Encodings?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ross-platform data exchange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Persistent storage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Interoperability of independently implemented module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Drawbacks of ASN.1 and BER/DER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BER often includes several different, but equally valid encodings of the same data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Identity of data structures is assumed based on the context where it is found..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within other data structure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position within a higher level structure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Parsing engine is large and complicated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Benefits of S-expression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ngle encoding for any value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Identity of all data structures is explici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mall, simple parsing engine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Encoded structures are often shorter than their DER encoded version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Examples: PKCS #1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&lt;digest-info&gt;</a:t>
            </a:r>
            <a:br>
              <a:rPr sz="3200"/>
            </a:b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(sha1 #F47D…#)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&lt;rsa-public-key&gt;</a:t>
            </a:r>
            <a:br>
              <a:rPr sz="3200"/>
            </a:b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(public-key</a:t>
            </a:r>
            <a:br>
              <a:rPr sz="2800"/>
            </a:b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(rsa</a:t>
            </a:r>
            <a:br>
              <a:rPr sz="2800"/>
            </a:b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(n #…#)</a:t>
            </a:r>
            <a:br>
              <a:rPr sz="2800"/>
            </a:b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(e #010001#)</a:t>
            </a:r>
            <a:br>
              <a:rPr sz="2800"/>
            </a:b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Examples: PKCS #5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4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&lt;pbes2-params&gt;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pbes2-param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pkcs5-pbkdf2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pbkdf2-param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specified #...#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03E8#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hmac-sha1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des-cbc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iv #0123456789ABCDEF#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Questions?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6T11:45:48Z</dcterms:created>
  <dc:creator>Matthew Wood</dc:creator>
  <dc:description/>
  <dc:language>en-US</dc:language>
  <cp:lastModifiedBy>Matthew Wood</cp:lastModifiedBy>
  <dcterms:modified xsi:type="dcterms:W3CDTF">1999-09-26T12:13:52Z</dcterms:modified>
  <cp:revision>7</cp:revision>
  <dc:subject/>
  <dc:title>Alternate Representations of the Public Key Cryptography Standards (PKCS) Using S-Expressions,  S-PKCS</dc:title>
</cp:coreProperties>
</file>