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4E6C-7316-4668-874B-9D8B121CE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A75A9-A971-44FB-AEF5-EF7A8E672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3BA5-4DE7-4ABD-A0BD-8D068E989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5712-E2BA-4E4C-B08A-89982D8B14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D2E82-7AB3-4442-AF9E-3A0F80BF9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550A-77C6-4C21-A4D7-A60A7D54B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DE71-2191-4D14-BFEB-5C5858054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457AE-8CA4-46F8-A6B3-58E935EA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3D6CA-4556-40E7-8CFD-749AA979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C7C69-0C8E-4925-80D5-4B57010D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08EE0-DC0C-4D0B-BD4D-CA6E0076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FA8C-2F70-4A0D-B936-87AB8A24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D469E-6C1B-401B-99B3-B2D0321DE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E7347-B660-4817-86C9-6143B259A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9BB43-4BD8-4238-AFC2-D04DF374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BD0CE-FFE6-4FA3-AC63-F29817E0F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F094A-C5F1-4CCA-B717-ACD9652761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DE698-F69C-4FA5-9A06-E4FC6CBF1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C3CC-7F29-4758-A70F-15DA6841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F8D2A-55B1-457E-88CB-8B392DC0A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ABE5-3B00-4A18-9333-B22F384EF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688-CCCA-4AB3-AFAE-A4EACABD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EACF-C244-4A6F-95D2-E927F13ED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4A97-1F6F-43B6-8FA3-3DE609D31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51D2C-AF26-4821-9DE6-612FB722867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96029-3295-4EDF-B2BF-CC2A7A0B5465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lternate Representations of th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blic Key Cryptography Standard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PKCS) Using S-Expressions,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-PKCS</a:t>
            </a:r>
            <a:endParaRPr b="0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47720" y="46530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Matthew Wood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Carl Ellis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Intel Corporatio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08366"/>
                </a:solidFill>
                <a:latin typeface="Times New Roman"/>
              </a:rPr>
              <a:t>1999 PKCS Workshop, Stockholm, Sweden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Why Define Data Encoding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ross-platform data exchan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ersistent storag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teroperability of independently implemented module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Drawbacks of ASN.1 and BER/DER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BER often includes several different, but equally valid encodings of the same dat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data structures is assumed based on the context where it is found..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within other data structure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position within a higher level structur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arsing engine is large and complicated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Benefits of S-expression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ngle encoding for any valu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dentity of all data structures is explici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mall, simple parsing engin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ncoded structures are often shorter than their DER encoded versio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digest-info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sha1 #F47D…#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rsa-public-key&gt;</a:t>
            </a:r>
            <a:br>
              <a:rPr sz="32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public-key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rsa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n #…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(e #010001#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Examples: PKCS #5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4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&lt;pbes2-params&gt;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es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kcs5-pbkdf2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pbkdf2-param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specified #...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03E8#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hmac-sha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des-cbc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iv #0123456789ABCDEF#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Questions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6T11:45:48Z</dcterms:created>
  <dc:creator>Matthew Wood</dc:creator>
  <dc:description/>
  <dc:language>en-US</dc:language>
  <cp:lastModifiedBy>Matthew Wood</cp:lastModifiedBy>
  <dcterms:modified xsi:type="dcterms:W3CDTF">1999-09-26T12:13:52Z</dcterms:modified>
  <cp:revision>7</cp:revision>
  <dc:subject/>
  <dc:title>Alternate Representations of the Public Key Cryptography Standards (PKCS) Using S-Expressions,  S-PKCS</dc:title>
</cp:coreProperties>
</file>