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866772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905120" y="1697040"/>
            <a:ext cx="7162920" cy="41576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2270160" y="669960"/>
            <a:ext cx="262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VeriSig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00400" y="619200"/>
            <a:ext cx="4686120" cy="3324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71600" y="4110120"/>
            <a:ext cx="63104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4120" y="1824120"/>
            <a:ext cx="6710400" cy="450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19280" y="385920"/>
            <a:ext cx="5896080" cy="1657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95360" y="2762280"/>
            <a:ext cx="1133640" cy="10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95360" y="3828960"/>
            <a:ext cx="11336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95360" y="4971960"/>
            <a:ext cx="11336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866772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866772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8520" y="152280"/>
            <a:ext cx="866772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o Slide Title</dc:title>
</cp:coreProperties>
</file>