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452-74CE-4F57-81F3-27664D2C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062-4ECF-4FCC-88E1-234895EB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F62-D58E-453E-9184-501185DB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943-62A8-467C-9012-7E9D4945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EEC-AA94-49A1-B16E-B1B6AC38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FCD4-5AD0-443B-9713-8AFC8C9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807-7A83-48CE-BC3C-1008B31A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264-D53E-4727-ADE6-27866414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5CFA-A81C-4AD5-8919-13373141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D2D-CF2F-47DE-A9E1-3512F8F3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51A9-48AF-44DB-8267-A648855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EF7-BD90-44F3-ABCF-AE08E7E2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0CCC-E3C9-48E7-A541-C3FDAD4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8A8D-6F27-4366-B6A3-01CF9FE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9E9-179E-47D2-8BEA-F2FE41E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DE7C-0DD8-4E1B-95E6-1D46C91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0CC-FD37-46EF-8DA5-A39A0573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691-9113-4B65-9580-1104C45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006-6879-4AFD-AA75-11F96C0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B3E-6435-41D2-BCC6-109F634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8C0-0FEB-45B9-BB0B-068945D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E03-9D85-400B-B8E3-3D746AD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868-51CB-4929-8BEB-E038036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136-EFE6-47D5-85B9-6C21F6E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712D-C295-48B3-AE8D-3F2F3649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9AFE-F270-470E-84C2-6ABB293B5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—The elegan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n Rivest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st@mit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 Robsha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obshaw@supane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iqun Lisa Y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qun@nttmcl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 on 64-bit C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good 64-bit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A64-performance only fair but anomalou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er than Pentiu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3x improvement with IA64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chips will optimize 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RC6 gains dramatically with multi-block processing compared to other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jor Trends: Java and DS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-commerce and embedded ap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provides excellent spe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de size and memory u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SP c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ly to be more significant than IA64 or 8-bit proce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gives excellen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fully paramete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size, number of rounds, and block length can be readily chang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-suited for hash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only AES finalist that naturally gives DES and triple-DES compatible variants (64-bit bloc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we grade candidat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(corroborat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(speed+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3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2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4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/25/15/10/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43828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48769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3341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7913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2485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0384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65760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8195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523880"/>
            <a:ext cx="60984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a simple yet remarkably strong cip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erformance on most important plat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to code for good perform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flex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udie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understoo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the secure and “elegant” choice for the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the righ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simple: only 12 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c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s and encourages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rapid understanding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direct analysis straightforward (contrast with Mars and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s easy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ompilers to produce high-qualit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ates complicate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good performance with minimal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is well-analyz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probably most studied AES fina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based on RC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analysis builds directly on RC5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RC6 analysis is very detai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simplified variants studied extensiv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-scale versions allowed experi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key schedule is rock-sol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d for more than six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rough mix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way fun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ey separation (cf.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lated-key attacks (cf. Rijnda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iginal analysis still accu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eets original design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estimates from 1998 still good today; independent analyses suppor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even in theory, even with analysis improvements far beyond those seen for DES during it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provides a solid, well-tuned margin for 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2-bit 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len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-bit CPUs 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reference plat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gnificant fraction of installed computers throughout the AE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ing more prevalent in cheaper devices (e.g. AR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 Card Sui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C6 fits in the cheapest smart cards, and well-suited for many (e.g. ARM process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ndwidth, not CPU, likely to be most significant bottlene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-bit CPUs will become far less important over the AES life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Ron Rivest</cp:lastModifiedBy>
  <cp:lastPrinted>1998-04-19T17:05:34Z</cp:lastPrinted>
  <dcterms:modified xsi:type="dcterms:W3CDTF">2000-04-14T04:01:03Z</dcterms:modified>
  <cp:revision>113</cp:revision>
  <dc:subject/>
  <dc:title>RSA: 1977--1997 and beyond</dc:title>
</cp:coreProperties>
</file>