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1E6-1D0F-4919-B60A-0E1059DD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A9F-AAEA-4D2C-B294-A263BCA7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A5C-AE4E-4ECB-BB81-06F4D1E4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F2C-E243-4131-8DA8-6C1D652C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594-B012-4112-B010-422D8F70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DBBD-A958-4C40-94D2-03856F59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7C62-1015-4721-8B07-2E505830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1EA6-927D-4214-934A-6B4C81F8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11E8-CD26-44B6-8849-A6CF8DDA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4F17-EFCE-4101-B90F-F97BC50D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CD3B-A3BC-4A50-9313-65EE836B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CB4-CB47-490C-A0EE-0B75EF21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959F-4DAE-4331-941F-6939A90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790A-FED3-4DFE-968D-5DFAEBFC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53F-68BC-4FFF-8A7F-BB8783C8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63D5-6E6A-4AD3-BAE2-94BDCD05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1529-B7CC-473C-8B20-6371ECAD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9E0-BB31-4508-92DF-FE9B97B3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A31-222D-4524-8765-D418EBEC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E2C-6811-4863-AA32-62A0A816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381-0753-429E-9EE6-38ED13E9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071-BCAD-4B7F-B302-0ABED10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BD5-FCB9-4332-BBC9-D7EF2D8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55D-1775-406A-A1CC-9B7FD56E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011F-6132-452E-B430-DB76C0FCFA0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BD85-2437-4D17-B995-16644A266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2000" y="1104840"/>
            <a:ext cx="1447560" cy="7621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 RC6  Block Cipher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A simple fast secu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AES proposa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7240" y="3809520"/>
            <a:ext cx="7770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nald L. Rivest    M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 Robshaw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y Sidney     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qun Lisa Yin       RSA La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August 21, 1998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Expansion (Same as RC5’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put:     array  L[ 0 … c-1 ] of input ke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put:   array S[ 0 … 43 ]  of round key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dur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[ 0 ] = 0xB7E1516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 =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43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[i] = S[i-1] + 0x9E3779B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B = i = j = 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 =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32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A = S[ i ] = ( S[ i ] + A + B ) &lt;&lt;&lt;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B = L[ j ] = ( L[ j ] + A + B ) &lt;&lt;&lt; ( A + B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i = ( i + 1 )   mod 4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j = ( j + 1 )  mod c      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RC5 to RC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in seven easy ste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) Start with RC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5 encryption inner loop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{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)  &lt;&lt;&lt; B )  + S[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C5 be strengthened by having rotation amounts depend o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its of 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5181480"/>
            <a:ext cx="7147080" cy="5335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35000" y="1523880"/>
            <a:ext cx="795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odul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ow-order bits of  ( B  mod d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o sl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high-order bits of  ( c x B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 to pick  c  well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Quadrat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high-order bits of ( B x (2B+1) 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st right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tter rotation amount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 x (2B+1) i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one-to-o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mod 2</a:t>
            </a:r>
            <a:r>
              <a:rPr b="0" lang="en-US" sz="44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By contradiction.  If  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  but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x (2B + 1) = C x (2C + 1) (mod 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(B - C) x (2B+2C+1) = 0      (mod 2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(B-C) is nonzero and (2B+2C+1) is odd; their product can’t be zero!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rolla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unifo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 x (2B+1) unifor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nd high-order bits are uniform too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gh-order bits of  B x (2B+1)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34640" y="156204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high-order bits of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B) = B x ( 2B + 1 )  =  2B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epend on all the bits of  B 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  B  = 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…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bin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pping bit  i  of input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ves bits  0 … i-1  of  f(B)  unchanged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ips bit  i  of  f(B)  with probability on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ips bit  j  of  f(B) ,  for j &gt; i , with probability approximately 1/2  (1/4…1)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likely to change some high-order b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25520" y="2552760"/>
            <a:ext cx="417996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2320" y="3043080"/>
            <a:ext cx="284400" cy="3463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B x ( 2B + 1 ) ) &lt;&lt;&lt; 5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)  &lt;&lt;&lt; t )  + S[ 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now much of the output of this nice multiplication is being wasted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0520" y="266400"/>
            <a:ext cx="8610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2) Quadratic Rotation Amount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140360" y="3022560"/>
            <a:ext cx="30456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=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B x ( 2B + 1 ) ) &lt;&lt;&lt;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=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t )  + S[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AES requires 128-bit blocks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ould use two 64-bit registers, bu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4-bit operations are poorly supported with typical C compilers..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3760" y="255240"/>
            <a:ext cx="8045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3) Use  t, not B, as xor inp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086600" y="4000680"/>
            <a:ext cx="45720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1480" y="4813200"/>
            <a:ext cx="6170400" cy="1398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4) Do two RC5’s in parall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our 32-bit regs (A,B,C,D), and d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C5 on (C,D) in parallel with RC5 on (A,B):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t )  +  S[ 2i ]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 A, B ) = ( B, A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u )  +  S[ 2i + 1 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C, D ) = ( D, C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47840" y="5562720"/>
            <a:ext cx="45720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5) Mix up data between cop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800600"/>
            <a:ext cx="380880" cy="3049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7920" y="5207040"/>
            <a:ext cx="381240" cy="30492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witch rotation amounts between copies, and cyclically permute registers instead of swapping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Philoso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ation Res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Round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986440" y="29145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2720" y="2957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14480" y="41814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448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33433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43080" y="21240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3080" y="29624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8400" y="3797280"/>
            <a:ext cx="144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42720" y="4653000"/>
            <a:ext cx="1800" cy="36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4308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820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047840" y="501984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43080" y="5019840"/>
            <a:ext cx="1905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1680" y="273384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0"/>
            <a:endCxn id="142" idx="1"/>
          </p:cNvCxnSpPr>
          <p:nvPr/>
        </p:nvCxnSpPr>
        <p:spPr>
          <a:xfrm>
            <a:off x="2142720" y="2114280"/>
            <a:ext cx="108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H="1">
            <a:off x="4047840" y="2124000"/>
            <a:ext cx="2160" cy="289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0"/>
            <a:endCxn id="146" idx="0"/>
          </p:cNvCxnSpPr>
          <p:nvPr/>
        </p:nvCxnSpPr>
        <p:spPr>
          <a:xfrm>
            <a:off x="2142720" y="548640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0"/>
            <a:endCxn id="147" idx="0"/>
          </p:cNvCxnSpPr>
          <p:nvPr/>
        </p:nvCxnSpPr>
        <p:spPr>
          <a:xfrm>
            <a:off x="4047840" y="5484960"/>
            <a:ext cx="1080" cy="383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2" idx="1"/>
            <a:endCxn id="143" idx="0"/>
          </p:cNvCxnSpPr>
          <p:nvPr/>
        </p:nvCxnSpPr>
        <p:spPr>
          <a:xfrm>
            <a:off x="2142720" y="251424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endCxn id="140" idx="2"/>
          </p:cNvCxnSpPr>
          <p:nvPr/>
        </p:nvCxnSpPr>
        <p:spPr>
          <a:xfrm flipH="1">
            <a:off x="1904760" y="2730240"/>
            <a:ext cx="4672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39" idx="0"/>
            <a:endCxn id="139" idx="2"/>
          </p:cNvCxnSpPr>
          <p:nvPr/>
        </p:nvCxnSpPr>
        <p:spPr>
          <a:xfrm>
            <a:off x="2142720" y="4171680"/>
            <a:ext cx="1080" cy="477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39" idx="1"/>
            <a:endCxn id="139" idx="3"/>
          </p:cNvCxnSpPr>
          <p:nvPr/>
        </p:nvCxnSpPr>
        <p:spPr>
          <a:xfrm>
            <a:off x="1904760" y="4409640"/>
            <a:ext cx="477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4886280" y="4181400"/>
            <a:ext cx="45720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628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124000"/>
            <a:ext cx="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6280" y="334332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4880" y="21240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29624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14880" y="3800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14880" y="46386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1488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54770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5019840"/>
            <a:ext cx="48769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114880" y="5019840"/>
            <a:ext cx="19051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43480" y="273384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/>
          <p:nvPr/>
        </p:nvCxnSpPr>
        <p:spPr>
          <a:xfrm flipH="1">
            <a:off x="5342760" y="2733480"/>
            <a:ext cx="1677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3" idx="0"/>
            <a:endCxn id="163" idx="1"/>
          </p:cNvCxnSpPr>
          <p:nvPr/>
        </p:nvCxnSpPr>
        <p:spPr>
          <a:xfrm>
            <a:off x="5114520" y="2114280"/>
            <a:ext cx="1080" cy="40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1" idx="0"/>
            <a:endCxn id="170" idx="0"/>
          </p:cNvCxnSpPr>
          <p:nvPr/>
        </p:nvCxnSpPr>
        <p:spPr>
          <a:xfrm flipH="1">
            <a:off x="7017480" y="2114280"/>
            <a:ext cx="2520" cy="289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0" idx="0"/>
            <a:endCxn id="167" idx="0"/>
          </p:cNvCxnSpPr>
          <p:nvPr/>
        </p:nvCxnSpPr>
        <p:spPr>
          <a:xfrm>
            <a:off x="5114520" y="548640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8" idx="0"/>
          </p:cNvCxnSpPr>
          <p:nvPr/>
        </p:nvCxnSpPr>
        <p:spPr>
          <a:xfrm>
            <a:off x="7019640" y="5467320"/>
            <a:ext cx="108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3" idx="1"/>
            <a:endCxn id="164" idx="0"/>
          </p:cNvCxnSpPr>
          <p:nvPr/>
        </p:nvCxnSpPr>
        <p:spPr>
          <a:xfrm>
            <a:off x="5114520" y="251424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 flipH="1">
            <a:off x="4876560" y="2733480"/>
            <a:ext cx="4672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5" idx="0"/>
            <a:endCxn id="166" idx="0"/>
          </p:cNvCxnSpPr>
          <p:nvPr/>
        </p:nvCxnSpPr>
        <p:spPr>
          <a:xfrm>
            <a:off x="5114520" y="4190760"/>
            <a:ext cx="1080" cy="438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59" idx="1"/>
            <a:endCxn id="159" idx="3"/>
          </p:cNvCxnSpPr>
          <p:nvPr/>
        </p:nvCxnSpPr>
        <p:spPr>
          <a:xfrm>
            <a:off x="4876560" y="4409640"/>
            <a:ext cx="477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24360" y="2743200"/>
            <a:ext cx="1800" cy="82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>
            <a:off x="2657160" y="2733840"/>
            <a:ext cx="108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3" name=""/>
          <p:cNvCxnSpPr/>
          <p:nvPr/>
        </p:nvCxnSpPr>
        <p:spPr>
          <a:xfrm flipV="1">
            <a:off x="2668320" y="3553560"/>
            <a:ext cx="219132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5888160" y="2505240"/>
            <a:ext cx="457200" cy="4572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54440" y="2486160"/>
            <a:ext cx="471240" cy="495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02320" y="2510280"/>
            <a:ext cx="3430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8200" y="2500560"/>
            <a:ext cx="3337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96200" y="1676520"/>
            <a:ext cx="5265720" cy="459720"/>
            <a:chOff x="1996200" y="1676520"/>
            <a:chExt cx="5265720" cy="459720"/>
          </a:xfrm>
        </p:grpSpPr>
        <p:sp>
          <p:nvSpPr>
            <p:cNvPr id="189" name=""/>
            <p:cNvSpPr/>
            <p:nvPr/>
          </p:nvSpPr>
          <p:spPr>
            <a:xfrm>
              <a:off x="1996200" y="16765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02400" y="16765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8000" y="1676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720" y="167652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741200" y="3327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82000" y="3327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7160" y="25020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63240" y="24890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>
            <a:off x="5727600" y="3565080"/>
            <a:ext cx="1982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9" idx="6"/>
          </p:cNvCxnSpPr>
          <p:nvPr/>
        </p:nvCxnSpPr>
        <p:spPr>
          <a:xfrm>
            <a:off x="1343160" y="3568320"/>
            <a:ext cx="559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5683320" y="269244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19360" y="2695680"/>
            <a:ext cx="7452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9400" y="2698920"/>
            <a:ext cx="74880" cy="74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135160" y="490500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114880" y="49118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39840" y="40604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114880" y="406728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2752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0984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5200" y="273996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37440" y="2735280"/>
            <a:ext cx="11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32440" y="27352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14880" y="323028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143080" y="32270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88320" y="2695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44760" y="4406760"/>
            <a:ext cx="260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33520" y="441000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7880" y="4208400"/>
            <a:ext cx="7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2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27640" y="4416480"/>
            <a:ext cx="1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35640" y="4409640"/>
            <a:ext cx="2649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7160" y="42274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[2i+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32840" y="5867280"/>
            <a:ext cx="5265720" cy="459720"/>
            <a:chOff x="1932840" y="5867280"/>
            <a:chExt cx="5265720" cy="459720"/>
          </a:xfrm>
        </p:grpSpPr>
        <p:sp>
          <p:nvSpPr>
            <p:cNvPr id="222" name=""/>
            <p:cNvSpPr/>
            <p:nvPr/>
          </p:nvSpPr>
          <p:spPr>
            <a:xfrm>
              <a:off x="1932840" y="5867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9040" y="5867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04640" y="5867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95360" y="58672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709040" y="3467160"/>
            <a:ext cx="215640" cy="203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3560" y="3533760"/>
            <a:ext cx="74520" cy="7452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27160" y="3467160"/>
            <a:ext cx="216000" cy="203040"/>
            <a:chOff x="1127160" y="3467160"/>
            <a:chExt cx="216000" cy="203040"/>
          </a:xfrm>
        </p:grpSpPr>
        <p:sp>
          <p:nvSpPr>
            <p:cNvPr id="199" name=""/>
            <p:cNvSpPr/>
            <p:nvPr/>
          </p:nvSpPr>
          <p:spPr>
            <a:xfrm>
              <a:off x="1127160" y="3467160"/>
              <a:ext cx="21600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1680" y="3533400"/>
              <a:ext cx="74520" cy="74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498760" y="2249640"/>
            <a:ext cx="2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32480" y="2243160"/>
            <a:ext cx="2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5740560"/>
            <a:ext cx="3200400" cy="9144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1523880"/>
            <a:ext cx="2438280" cy="838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120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6) Add Pre- and Post-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984400" y="6197760"/>
            <a:ext cx="60984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5715000"/>
            <a:ext cx="60948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362320"/>
            <a:ext cx="533520" cy="380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 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5638680"/>
            <a:ext cx="3200400" cy="838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228600" y="291960"/>
            <a:ext cx="87631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7) Set r = 20 for high securit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912920" y="5602320"/>
            <a:ext cx="312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al RC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3480" y="13604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ased on analy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Implementation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7086600" y="3733920"/>
            <a:ext cx="990720" cy="1676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3800" y="5727600"/>
            <a:ext cx="7138800" cy="4827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28880" y="5691240"/>
            <a:ext cx="72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s than two clocks per bit of plaintext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36640" y="1913040"/>
          <a:ext cx="7858080" cy="40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913040"/>
                    <a:ext cx="785808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PU Cycles / Ope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32440" y="4025880"/>
            <a:ext cx="1981440" cy="1752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89000" y="2301840"/>
          <a:ext cx="7854840" cy="40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2301840"/>
                    <a:ext cx="785484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rations/Second (200MHz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315200" y="4038480"/>
            <a:ext cx="121932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029200"/>
            <a:ext cx="1219320" cy="4572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143000" y="2666880"/>
          <a:ext cx="77058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77058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cryption Rate (200MHz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6765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gaBytes / second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egaBits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715000"/>
            <a:ext cx="52578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 100 Megabits / second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594360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001000" y="5486400"/>
            <a:ext cx="0" cy="45720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73040" y="5479920"/>
            <a:ext cx="3686400" cy="5698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86000" y="3859200"/>
            <a:ext cx="5529240" cy="4953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9760" y="2313000"/>
            <a:ext cx="7262640" cy="4827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n 8-bit process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8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an Intel MCS51  ( 1 Mhz clock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/decrypt at 9.2 Kbits/seco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3535 cycles/block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ctual implementa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setup 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7 milliseco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 176  bytes needed for table of round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ts on smart card (&lt; 256 bytes RAM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71600" y="4648320"/>
            <a:ext cx="7315200" cy="53316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stom RC6 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25 micron CMOS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round/clock at 200 MH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ntional multiplier desig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.05 mm</a:t>
            </a:r>
            <a:r>
              <a:rPr b="0" lang="en-US" sz="32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silic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1 milliwatts of po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/decrypt at 1.3 Gbits/seco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ipelining, can go faster, at cost of more area and po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Security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Philoso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8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verage our experience with RC5: us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ata-dependent rot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achieve a high level of secur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 RC5 to meet AES requiremen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dvantage of a new primitive for increased security and efficiency: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32x32 multipl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ich executes quickly on modern processors, to compute rotation amou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nsive analysis, based on most effective known attacks (e.g. linear and differential cryptanalys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ze not only RC6, but also several “simplified” forms (e.g. with no quadratic function, no fixed rotation by 5 bits, etc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ear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pproximations for  r-2  rou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ways to approximate  A = B &lt;&lt;&lt;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one bit each of A, B, C       (type 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one bit each of A, B only    (type I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have bias  1/64; type I more use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n-zero bias across f(B) only when input bit = output bit.  (Best for lsb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include effects of multiple linear approximations and linear hu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495680" y="5562720"/>
            <a:ext cx="2438640" cy="8380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1905120"/>
            <a:ext cx="79246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of number of plaintext/ciphertext pairs required to mount a linear attac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Only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ch pairs are availabl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         RC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against linear atta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372280" y="5572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361960" y="574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57405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l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31880" y="165096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s use of (iterative and non-iterative) (r-2)-rou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differential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well as (r-2)-rou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haracteristi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s two notions of “difference”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lusive-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(better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ation of quadratic function and fixed rotation by 5 bits very good at thwarting differential attack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88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iterative RC6 differenti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89120" y="167652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             B               C              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6       1&lt;&lt;11          0    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1        0               0    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0             0               0               1&lt;&lt;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0             1&lt;&lt;26         1&lt;&lt;s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26       1&lt;&lt;21         0               1&lt;&lt;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21       1&lt;&lt;16          1&lt;&lt;v           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1&lt;&lt;16       1&lt;&lt;11          0              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ty  =  2</a:t>
            </a:r>
            <a:r>
              <a:rPr b="0" lang="en-US" sz="3200" spc="-1" strike="noStrike" baseline="46000">
                <a:solidFill>
                  <a:srgbClr val="000000"/>
                </a:solidFill>
                <a:latin typeface="Comic Sans MS"/>
              </a:rPr>
              <a:t>-9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495680" y="5029200"/>
            <a:ext cx="2438640" cy="1371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05120"/>
            <a:ext cx="792468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of number of plaintext pairs required to mount a differential attac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Only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Comic Sans MS"/>
              </a:rPr>
              <a:t>1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ch pairs are availabl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         RC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2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2</a:t>
            </a:r>
            <a:r>
              <a:rPr b="0" lang="en-US" sz="2000" spc="-1" strike="noStrike" baseline="46000">
                <a:solidFill>
                  <a:srgbClr val="000000"/>
                </a:solidFill>
                <a:latin typeface="Comic Sans MS"/>
              </a:rPr>
              <a:t>2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again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differential atta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508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a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361960" y="5740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74056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urity of Key Expa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expansion is identical to that of RC5; no known weaknes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known weak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known related-key attac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nd keys appear to be a “random” function of the supplied ke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us: key expansion is quite “one-way”---difficult to infer supplied key from round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9760" y="1657440"/>
            <a:ext cx="6186600" cy="26114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 more than meets the requirements for the AES; it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st, 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more information, including copy of these slides, copy of RC6 description, and security analysis, s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rsa.com/rsalabs/a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The En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on of RC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7560" y="167652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C6-w/r/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ord s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bits:       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 32 )( lg(w) = 5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     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20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key by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b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16, 24, or 32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Expansion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es array  S[ 0 …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 of  w-bi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ound ke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 and Decryp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put/Output in 32-bit registers A,B,C,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638680"/>
            <a:ext cx="8610480" cy="6858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Primitive Oper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0080" y="1600200"/>
            <a:ext cx="833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+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-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trac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clusive-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&lt;&lt;&lt; 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tate  A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ft by amount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w-order  lg(w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bits of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&gt;&gt;&gt;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tate 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ght, simil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,B,C,D) = (B,C,D,A)   Parallel assig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x B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ication modulo 2</a:t>
            </a:r>
            <a:r>
              <a:rPr b="0" lang="en-US" sz="3200" spc="-1" strike="noStrike" baseline="60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 rot="16202400">
            <a:off x="-167760" y="3288960"/>
            <a:ext cx="134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267080"/>
            <a:ext cx="304920" cy="1295640"/>
          </a:xfrm>
          <a:prstGeom prst="downArrow">
            <a:avLst>
              <a:gd name="adj1" fmla="val 50000"/>
              <a:gd name="adj2" fmla="val 106228"/>
            </a:avLst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6765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Encryption (Generic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r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lg(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lg( w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2r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Encryption (for A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= B + S[ 0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D + S[ 1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 )  &lt;&lt;&lt;  u )  +  S[ 2i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)  &lt;&lt;&lt;  t )  +  S[ 2i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1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B, C, D, 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A + S[ 42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+ S[ 43 ]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C6 Decryption (for A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040" y="14479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 C - S[ 43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=  A - S[ 42 ]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  =  20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wn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(A, B, C, D)  =  (D, A, B, C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u  =  ( D  x  ( 2D + 1 ) )  &lt;&lt;&lt;  5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t  =  ( B  x  ( 2B  + 1 ) )  &lt;&lt;&lt;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C  =  ( ( C - S[ 2i + 1 ] ) &gt;&gt;&gt; t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A  =  ( ( A - S[ 2i ] ) &gt;&gt;&gt; u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 = D - S[ 1 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= B - S[ 0 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Shari Oto</cp:lastModifiedBy>
  <cp:lastPrinted>1998-08-17T01:08:49Z</cp:lastPrinted>
  <dcterms:modified xsi:type="dcterms:W3CDTF">1998-08-18T21:24:26Z</dcterms:modified>
  <cp:revision>139</cp:revision>
  <dc:subject/>
  <dc:title>RSA: 1977--1997 and beyond</dc:title>
</cp:coreProperties>
</file>