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E7D-9566-422B-B055-A4810825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DBC-AB8A-4BC1-BDFD-5C44C4C5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C3F0-3A5A-4715-8C42-3F55E9CD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B406-823A-40EC-A37C-20416137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D0EA-CBB2-4ACC-91D5-D117939D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1E91-819D-4753-BDF4-D832C8CB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7125-C36B-4EEA-9CA6-9CE1873F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CB3A-CC4A-4442-A8C4-FA3DC0D1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A4BA-6D48-441A-84B3-6FCF1ED9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4AC5-D46A-4E2C-A17C-C4B6A161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045F-B582-48BF-9D76-41FCBA26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E5F5-C931-45C4-BD0A-48D06983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6F70-EA55-47FE-84DF-835D1E15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AEE1-E1E2-4999-93BC-800E338A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BF02-0BE4-4F92-9D6A-E9A3DF6B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10BD-653D-45EC-AAF1-1E1D7B9D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1BB8-AEAC-4087-B4A9-1B5D1BD3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A67-A111-4DE0-BEBD-32726CAD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6194-D716-426C-ADB3-9BFFB9E9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2A3E-B5FB-498B-A1BB-2942E7DE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75F-FEC8-4A79-BCF5-81443016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243-5FA4-436B-9553-8AAFA0D1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C014-A673-4179-ACCF-FB94F6E4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F3D8-F894-4325-9C8C-809D4CFB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Data 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actoring and Discrete Logarithm Based Cryptograph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ale of Two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t Kaliski and Moses Lisk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C4E8-9F36-48B2-91D0-CE5D9B6F67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mplementation Issu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a cryptosystem is realized to be promising, it must be implemen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ryptosystem must be made efficient enough to be practic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ryptosystems have not been made efficient enough to be widely accep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A61C-3C73-4A6D-97AB-0035006C30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mplementation Issu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implementation results can be used by both fami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and DL require efficient modular exponentiation and multi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DL requires efficient EC multiplication and add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DC4B-907D-4C1F-9119-51A3D830BA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s of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ialization &amp; Standard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E8AD-266B-4C6F-8C6C-9CF58E716E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ofs of Secur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ability of the Crypto community to break an algorithm is reassu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of that an algorithm is secure is far more desir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vably secure variation is often attainable, under some assum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B406-1E20-4828-93D7-427938C699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ofs of Secur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AEP and PSS provide provably secure methods for using R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cheval-Stern and Brickell provide provably secure variants of DSA and ECD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s of equivalence between hard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2F66-AC3B-41DA-AA7D-753EA9A28E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tandardiz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an algorithm is very well accepted, standards must be develo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 are necessary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d level of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ty conf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standards, actual implementation and use is very diffic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C003-2CCC-4FB4-B623-CB5EBECB58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tandardiz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families have survived this process; they are the only ones to have made it this f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ing (RSA): PKCS #1, ANSI X9.31, X9.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ete Log (DSA, DH): ANSI X9.30, X9.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ete Log (ECC): ANSI X9.62, ANSI X9.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, IEEE P1363 covers all of the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71A8-CE63-4AAA-853B-9C3DE78618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dvanced Techniqu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a cryptosystem is fairly well established, it becomes a natural tool for more advanced techniq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techniques solve limited, specific problems in new w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ro Knowledge Proofs of Private Key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A6BE-DB0E-4E80-895E-5A5C7BEC5F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dvanced Techniqu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(cont.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ind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 Sharing / Threshold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niable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ro Knowledge Proofs of Key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Validation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BFA6-7682-4EC3-94C8-8D5478EC45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39625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6104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40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36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304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32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screte Logarithm Timelin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962520"/>
            <a:ext cx="0" cy="457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560" y="4495680"/>
            <a:ext cx="121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Diffie-Hel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invented [DH7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809880" y="3657240"/>
            <a:ext cx="0" cy="3049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038480" y="3657240"/>
            <a:ext cx="0" cy="3049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80680" y="2895480"/>
            <a:ext cx="163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Elliptic Curve prop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by Miller and Kobli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[Mil86] [Kob8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3962520"/>
            <a:ext cx="0" cy="2286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7520" y="5029200"/>
            <a:ext cx="157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ElGamal cryp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invented [Elg8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4191120"/>
            <a:ext cx="90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DSA</a:t>
            </a:r>
            <a:r>
              <a:rPr b="0" lang="en-US" sz="1200" spc="-1" strike="noStrike">
                <a:solidFill>
                  <a:srgbClr val="996600"/>
                </a:solidFill>
                <a:latin typeface="Times New Roman"/>
              </a:rPr>
              <a:t>, DS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prop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200400" y="2819160"/>
            <a:ext cx="0" cy="114300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41160" y="251460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Montgomery’s Method [M8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3962520"/>
            <a:ext cx="0" cy="7617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6320" y="4724280"/>
            <a:ext cx="1112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Fast Mod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Exponen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[BGMW9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3962520"/>
            <a:ext cx="0" cy="4572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86000" y="4419720"/>
            <a:ext cx="153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DH proved equiva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to DL under cert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assumptions [Mau9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3962520"/>
            <a:ext cx="0" cy="12952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5960" y="5334120"/>
            <a:ext cx="1329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EC reduced to D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for certain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MOV9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295280" y="3276360"/>
            <a:ext cx="0" cy="6858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5120" y="2703600"/>
            <a:ext cx="115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Index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ethod [Adl7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209680" y="2590920"/>
            <a:ext cx="0" cy="1371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3440" y="2057400"/>
            <a:ext cx="129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Bit Security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for DL [BM8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553080" y="2514600"/>
            <a:ext cx="0" cy="1447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82920" y="1865160"/>
            <a:ext cx="91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D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Field S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Gor9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3962520"/>
            <a:ext cx="0" cy="4572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15120" y="4379760"/>
            <a:ext cx="120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oppersmith 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attack on GF(2</a:t>
            </a:r>
            <a:r>
              <a:rPr b="0" lang="en-US" sz="12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Cop8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229600" y="3657240"/>
            <a:ext cx="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48520" y="2855880"/>
            <a:ext cx="7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1st E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3276720"/>
            <a:ext cx="0" cy="3808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543440" y="3657600"/>
            <a:ext cx="6858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172200" y="3352680"/>
            <a:ext cx="0" cy="6098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09840" y="2895480"/>
            <a:ext cx="145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Authenticated 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developed [DVW9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181480" y="2666520"/>
            <a:ext cx="0" cy="1295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5600" y="2133720"/>
            <a:ext cx="146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Schnorr ID/sign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scheme [Sch9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3962520"/>
            <a:ext cx="0" cy="4572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5240" y="441972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Chaum et al. Z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proof [CEGP8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610480" y="3962520"/>
            <a:ext cx="0" cy="137160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78400" y="5334120"/>
            <a:ext cx="95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ANSI X9.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ballo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8305920" y="2742840"/>
            <a:ext cx="0" cy="121932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560" y="2057400"/>
            <a:ext cx="1207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ANSI X9.62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X9.63 for 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draf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010280" y="2895480"/>
            <a:ext cx="0" cy="106704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54160" y="2438280"/>
            <a:ext cx="95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Times New Roman"/>
              </a:rPr>
              <a:t>ANSI X9.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Times New Roman"/>
              </a:rPr>
              <a:t>draf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29400" y="3962520"/>
            <a:ext cx="0" cy="160020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01880" y="5638680"/>
            <a:ext cx="95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ANSI X9.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draf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F1C9-F012-45C4-83BC-B2FC7F2A0D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.D.H. (Before Diffie-Hellman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symmetric cryptography exi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graphy didn’t focus on hard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research area: Key Distribu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ffie-Hellman result cracked the field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7BF2-DB48-43AB-BE89-7E1B5A5AA2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actoring Timelin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39625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6104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40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36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304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3962520"/>
            <a:ext cx="0" cy="53316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1960" y="4495680"/>
            <a:ext cx="136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RSA Cryp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invented [RSA7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95280" y="2590920"/>
            <a:ext cx="0" cy="13716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4040" y="2017800"/>
            <a:ext cx="117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Rabin’s vari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of RSA [Rab7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832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477120" y="3429000"/>
            <a:ext cx="0" cy="53352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43000" y="2743200"/>
            <a:ext cx="130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Fast 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implementa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RSA [SV9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133720" y="3352680"/>
            <a:ext cx="0" cy="60984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52960" y="2666880"/>
            <a:ext cx="137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Chinese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Theorem effici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result [QC8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200400" y="2590920"/>
            <a:ext cx="0" cy="137160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41160" y="228600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Montgomery’s Method [M8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3962520"/>
            <a:ext cx="0" cy="1371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33680" y="53341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ultiple Polynom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Quadratic Sieve [Sil8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05720" y="3962520"/>
            <a:ext cx="0" cy="121896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74720" y="5181480"/>
            <a:ext cx="144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Gener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Field Sieve [BLP9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BLZ9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962520"/>
            <a:ext cx="0" cy="3808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00360" y="4495680"/>
            <a:ext cx="124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RSA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hallenge sta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648320" y="3505320"/>
            <a:ext cx="0" cy="4572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3962520"/>
            <a:ext cx="0" cy="4572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27360" y="4456080"/>
            <a:ext cx="121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Related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attack [CFPR9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3962520"/>
            <a:ext cx="0" cy="76176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4440" y="4800600"/>
            <a:ext cx="139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Bit Security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for RSA [ACGS8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05520" y="434340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105160" y="4343400"/>
            <a:ext cx="60948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6280" y="2971800"/>
            <a:ext cx="11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Public Ex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3 attack [Has8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010280" y="2361960"/>
            <a:ext cx="0" cy="16002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539760" y="1865160"/>
            <a:ext cx="114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OAEP inv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[BR9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696080" y="3580920"/>
            <a:ext cx="0" cy="3812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40320" y="3124080"/>
            <a:ext cx="99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PSS inv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[BR9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809880" y="3048120"/>
            <a:ext cx="0" cy="9144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9240" y="2590920"/>
            <a:ext cx="110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Fiat-Shamir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scheme [FS8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8305920" y="2971800"/>
            <a:ext cx="0" cy="99072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49800" y="2514600"/>
            <a:ext cx="95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ANSI X9.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ado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610480" y="3962520"/>
            <a:ext cx="0" cy="137160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137440" y="53704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PKCS #1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pu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638680" y="2666520"/>
            <a:ext cx="0" cy="129564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5520" y="22096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PKCS #1 v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pu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4343400"/>
            <a:ext cx="0" cy="76212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3280" y="5029200"/>
            <a:ext cx="105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ISO/IEC 9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pu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9A32-D4F7-47E7-A85E-4088E20738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ther Techniques Timelin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39625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6104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40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36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3429000"/>
            <a:ext cx="0" cy="533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2920" y="4495680"/>
            <a:ext cx="164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McEliece Cryp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(Algebraic Cod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3760" y="2743200"/>
            <a:ext cx="126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Merkle-Hel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Knapsack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[MH7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3962520"/>
            <a:ext cx="0" cy="53316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7304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32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200400" y="3505320"/>
            <a:ext cx="0" cy="457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5160" y="2779560"/>
            <a:ext cx="126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Merkle Pro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Multiple 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Knapsack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4419720"/>
            <a:ext cx="0" cy="2286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92160" y="4608360"/>
            <a:ext cx="126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Chor-Riv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Knapsack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proposed [CR8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3962520"/>
            <a:ext cx="0" cy="457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4419720"/>
            <a:ext cx="838440" cy="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800600" y="2285640"/>
            <a:ext cx="0" cy="1676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31880" y="182880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Revised Chor-Riv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Knapsack System [CR8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3962520"/>
            <a:ext cx="0" cy="12952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50680" y="5257800"/>
            <a:ext cx="139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LUC cryp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proposed [SS9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238880" y="46483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638680" y="3200040"/>
            <a:ext cx="0" cy="7621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8305920" y="3276360"/>
            <a:ext cx="0" cy="6858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07160" y="2627280"/>
            <a:ext cx="1541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Ajtai-Dwork lat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based cryptosystem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some analysis [AD9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42440" y="2475000"/>
            <a:ext cx="1613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Goppa code variant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McEliece cryp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proposed [GPT9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5480" y="3657600"/>
            <a:ext cx="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55360" y="2819520"/>
            <a:ext cx="126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erkle-Hel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Knapsack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Broken [Sha8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29000" y="3962520"/>
            <a:ext cx="0" cy="8380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04720" y="4800600"/>
            <a:ext cx="125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ultiple 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erkle-Hell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Broken [Bri8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62320" y="3505320"/>
            <a:ext cx="0" cy="1522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2361960" y="3657600"/>
            <a:ext cx="5331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162920" y="2285640"/>
            <a:ext cx="0" cy="16765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9160" y="190512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hor-Rivest atta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SH9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238880" y="3962520"/>
            <a:ext cx="0" cy="6858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996960" y="4608360"/>
            <a:ext cx="1485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Advantages of LU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brought into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BBL9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48520" y="3962520"/>
            <a:ext cx="0" cy="18288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41920" y="5791320"/>
            <a:ext cx="129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Goppa code 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debunked [Gib9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10480" y="3962520"/>
            <a:ext cx="0" cy="1371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01120" y="5410080"/>
            <a:ext cx="129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cEliece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CS98], [S9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6BC8-BA4B-4967-9D07-B477108047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y Two Families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L and Factoring have held up through the full development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ther family has made it through the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L and Factoring based on seemingly hard but not NP-complete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D10C-F8B2-4183-93CB-900BABAA10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ich is Better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ither DL nor Factoring is entirely better in practice; each has its own advant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one family often propagate to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K key validation (DL to Facto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K identity schemes (Factoring to 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ABFE-F7EB-41A9-B324-86A2372F90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hould We Look for More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possible that the DL problem and the Factoring problem could both become sol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types of cryptography would give us a fallback in case this happ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3E73-EB95-4A75-BF89-DAFEDB13B8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hould We Look for More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has been gained from our failed attempts at other types of crypto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apsack cryptosystems were propo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tice reduction was used to break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as then found that lattice reduction bears some relation to factor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9628-2825-452E-8449-3AFE9898C7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ere is Cryptography Going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L and Factoring will doubtless continue to be tested, and new, valuable results develo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ideas will be proposed, and perhaps they can follow in the footsteps of the two fami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basic research benefits us 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7DD-CFEB-4E2E-8ED8-709C9FEB87D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00200" y="3352680"/>
            <a:ext cx="5638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ce 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ob 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ce send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ob send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ce and Bob comp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Breakthrough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ffie-Hellman key exchange system (19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Alice and Bob share a secret ke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F762-E58E-4204-AD35-6D814F3088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ffie-Hellman and RS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invented in 19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-key cryptosystem capable of encryption and signature as well as key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the stage for the next 20 yea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11BC-7E7D-43E7-BD84-A0A794CE7E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Two Famili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e-Hellman, and later ElGamal, DSA, and Elliptic Curve are all in the Discrete Logarithm (DL) fam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and related systems make up the Factoring fam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EF44-ED60-4021-9E9C-AC03B3605C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eginning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cryptosystems are inven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e-Hellman invented in 19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A (197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kle’s puzzles (197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apsack Cryptosystems (197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Eliece Cryptosystem (197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liptic Curve Cryptography (198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F9C8-2EA6-4B5D-9A5D-AD9C58B779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st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 cryptosystem is proposed, the Crypto community attempts to break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f the cryptosystems that have been proposed outside of the two families failed at this st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knapsack cryptosystems were found to be insec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B761-B38D-4C5C-BB9F-E5BE8DE920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st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e-Hellman, RSA, and Elliptic Curve all withstood analysis from the Crypto commun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is an ongoing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EB5D-1734-4FCB-8B1F-F8A7C6B799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asic Componen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ete Logarithm and Factoring both provide the same fundamental tools, but in different w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Sig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5031-089D-4467-8E54-74EEE6E7CC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4T20:16:34Z</dcterms:created>
  <dc:creator/>
  <dc:description/>
  <dc:language>en-US</dc:language>
  <cp:lastModifiedBy>Burt Kaliski</cp:lastModifiedBy>
  <cp:lastPrinted>1998-10-14T19:51:38Z</cp:lastPrinted>
  <dcterms:modified xsi:type="dcterms:W3CDTF">1998-10-29T17:17:24Z</dcterms:modified>
  <cp:revision>12</cp:revision>
  <dc:subject/>
  <dc:title>No Slide Title</dc:title>
</cp:coreProperties>
</file>