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eader-slide-wholepag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RSALabs_logo" descr=""/>
          <p:cNvPicPr/>
          <p:nvPr/>
        </p:nvPicPr>
        <p:blipFill>
          <a:blip r:embed="rId3"/>
          <a:stretch/>
        </p:blipFill>
        <p:spPr>
          <a:xfrm>
            <a:off x="228600" y="5694480"/>
            <a:ext cx="129528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header-title-wholepage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RSALabs_logo" descr=""/>
          <p:cNvPicPr/>
          <p:nvPr/>
        </p:nvPicPr>
        <p:blipFill>
          <a:blip r:embed="rId3"/>
          <a:stretch/>
        </p:blipFill>
        <p:spPr>
          <a:xfrm>
            <a:off x="152280" y="5724360"/>
            <a:ext cx="1371600" cy="8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RSA Laboratories’ PKCS Series - a Tutorial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KCS #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us Nyström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,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me Observ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1320" indent="-2113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ssage is hashed with random sal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1840" indent="-2610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mproves security proof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1840" indent="-2610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educes reliance on hash function securit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11320" indent="-2113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ash value is expanded to full length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1840" indent="-2610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andomizes input to primitiv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1840" indent="-2610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emoves multiplicative structur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1840" indent="-2610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nables proof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11320" indent="-2113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alt value is xored into expanded hash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1840" indent="-2610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hortens signature overhea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1840" indent="-2610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art of message may also be xor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S Advantag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rovable security under certain assumptions (random oracle model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other methods have “ad hoc” security, not a proof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educed reliance on hash function secu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birthday attack” collisions not useful due to random sal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atural extension to message recover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coding metho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Used to define how a message is transformed and encoded when being transformed by one of the schem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ncoding methods for en/decryption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ME-OAEP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ME-PKCS1-v1_5 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ncoding methods for signatures with appendix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MSA-PKCS1-v1_5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(EMSA-PSS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ndards Strateg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ral RSA standard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NSI X9.31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SO 9798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NSI X9.31 is widely standardiz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SS is widely considered secur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 #1 is widely deploy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ow harmonize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ndards Strategy,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hort term (1-2 years): Support both PKCS #1 v1.5 and ANSI X9.31 signatures for interoperabil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.g., in IETF profiles, FIPS valid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IST is in the process of adding PKCS #1 v1.5 to FIPS 186-2 for an 18-month transition perio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Long term (2-5 years): Move toward PSS signatur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upgrade in due course — e.g., with new hash function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re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 #1 v2.0 (and the v2.1 draft) is available from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ttp://www.rsasecurity.com/rsalabs/pkc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SA Cryptography Standa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pecifies RSA encryption, decryption, signature and verification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primitiv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pecifies RSA encryption and signature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chem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pecifies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encoding methods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r these schem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pecifies ASN.1 syntax fo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ublic RSA key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ivate RSA key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bove mentioned schemes (object identifiers for defined schemes and associated parameters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finitions, 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rimitiv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athematical operations on which cryptographic schemes can be built.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for implementation in hardware or as software modul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tended to provide security apart from a schem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in PKCS #1: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/Decryp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ture/Verific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finitions,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chem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cryptographic primitives and other techniques to achieve a particular security goal.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ypes of scheme are specified in this document: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 schem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ture schemes with appendix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finitions, I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ncoding Method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 algn="just">
              <a:spcBef>
                <a:spcPts val="624"/>
              </a:spcBef>
              <a:spcAft>
                <a:spcPts val="1199"/>
              </a:spcAft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that map between octet string messages and integer message representatives.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 algn="just">
              <a:spcBef>
                <a:spcPts val="624"/>
              </a:spcBef>
              <a:spcAft>
                <a:spcPts val="1199"/>
              </a:spcAft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ypes defined in PKCS #1: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 algn="just">
              <a:spcBef>
                <a:spcPts val="624"/>
              </a:spcBef>
              <a:spcAft>
                <a:spcPts val="1199"/>
              </a:spcAft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methods for encryp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 algn="just">
              <a:spcBef>
                <a:spcPts val="624"/>
              </a:spcBef>
              <a:spcAft>
                <a:spcPts val="1199"/>
              </a:spcAft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methods for signatures with appendix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mi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 Encryption (RSAEP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 Decryption (RSADP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Ordinary” RSA en/decryp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 Signature (RSASP1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 Verification (RSAVP1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Ordinary” RSA signatures and verific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cryption Schem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ES-OAEP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Optimal asymmetric encryption (Bellare-Rogaway, ‘94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laintext-aware encryption (stops chosen ciphertext attacks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ES-PKCS1-v1_5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lassical PKCS #1 encryption/decryp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ossible to generate valid ciphertexts without knowing the corresponding plaintexts, with a reasonable probability of success (Bleichenbacher, ‘98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gnature Schem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urrently only “Signature schemes with an appendix” in PKCS #1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SSA-PKCS1-v1_5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lassical” PKCS #1 signatur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upport for the “Probabilistic Signature Scheme” (PSS) is being added (RSASSA-PSS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ovable security under certain assumption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llows for a signature scheme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with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message recovery as wel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 of PSS Encoding Oper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932200" y="1523880"/>
          <a:ext cx="382104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1523880"/>
                    <a:ext cx="3821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4T13:50:09Z</dcterms:created>
  <dc:creator>Magnus Nystrom</dc:creator>
  <dc:description/>
  <dc:language>en-US</dc:language>
  <cp:lastModifiedBy>Magnus Nystrom</cp:lastModifiedBy>
  <cp:lastPrinted>1999-07-27T16:32:36Z</cp:lastPrinted>
  <dcterms:modified xsi:type="dcterms:W3CDTF">1999-10-07T19:12:38Z</dcterms:modified>
  <cp:revision>7</cp:revision>
  <dc:subject/>
  <dc:title>RSA Laboratories’ PKCS Series - a Tutorial</dc:title>
</cp:coreProperties>
</file>