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576209"/>
        <c:axId val="4271721"/>
      </c:barChart>
      <c:catAx>
        <c:axId val="845762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71721"/>
        <c:crosses val="autoZero"/>
        <c:auto val="1"/>
        <c:lblAlgn val="ctr"/>
        <c:lblOffset val="100"/>
        <c:noMultiLvlLbl val="0"/>
      </c:catAx>
      <c:valAx>
        <c:axId val="42717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762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C642-EB7A-47AF-AB50-7193F219E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35F1-2BC8-46E0-8DCB-BCBEF58E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B87A-F6C6-4251-BF5E-01F3CACA4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E28F-718D-4643-AC00-8A85E3F80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A7EF-F512-450F-B02C-4FAF917B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9E1B-8047-4AA9-84CA-A9A1ABE0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7ECA-F39E-4312-BA22-3754002A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53A2-B6C6-4316-B3C0-66D04D84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3C77-0790-47CC-BED0-93966BB7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E65A-FFB3-416A-8574-D22FA685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FDFF-0E6F-4ECF-BD80-F879768C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8CA1-68CF-4600-86FF-0F17861F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4A0F0-12ED-40F8-A926-BB00EB1A7B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