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06032"/>
        <c:axId val="42243560"/>
      </c:barChart>
      <c:catAx>
        <c:axId val="22906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43560"/>
        <c:crosses val="autoZero"/>
        <c:auto val="1"/>
        <c:lblAlgn val="ctr"/>
        <c:lblOffset val="100"/>
        <c:noMultiLvlLbl val="0"/>
      </c:catAx>
      <c:valAx>
        <c:axId val="42243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06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5CE-30BF-4429-BC7B-C363079A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CDE-DF6D-48A6-B1FF-E5A2A721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AC7-31B9-4E76-B6E3-36F77B38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2ED-B623-4E8B-89C1-D25F79A4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A0E-8DE7-4789-9985-E4DA03C0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03E-CCA2-4CB6-9B60-FFF4D873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0DB-A095-4CED-9906-A4E7F8E7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478-9A56-4F4B-AC45-47344275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2499-64D4-4DCC-86C7-0F59F04E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5E3-ED86-4025-BA90-00BC83DA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944-C34A-40B0-991F-5E704A7C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291-0232-4F8C-9CE6-A043DE95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C5404-3E18-43F6-B626-93E997D746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