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063-5BBA-40BE-B2CC-DF0A0C02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9FE-DA69-4BDA-973E-4FC9DD0A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C16-2029-47D6-8AA6-41CB11B8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98896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0628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98896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40628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00B-2CFA-40EA-B301-E96AF77D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952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823-229A-4D74-9901-7A881D5A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8896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628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98896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40628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D93-20D0-42BA-B1A0-2CA6EFE0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CC5-DF42-4F15-BE59-1483F7ED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D17-E01D-42A9-83EB-98CC41FD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952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DE9-93CA-4888-95AB-D8CA331C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240-2546-4776-9B94-AE8064F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65A-A191-4937-9936-B2019C91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C2C-465A-46CE-85DE-219A5BD4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E003-2F34-4735-A70A-EF621AF15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SA Conference Europe 2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0" y="54864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lcome to RSA Conference Europe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im Bidz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A Conference Chair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almnew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almnew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Technolog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05120"/>
            <a:ext cx="5867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ography has been optimized to fit into smaller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19520"/>
            <a:ext cx="586728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for using RS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rithm in smal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of new certificat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s by RSA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standardsnew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Standar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KCS #15 for Smart Cards pu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P specifies RSA RC5 as only mandatory symmetric cipher for client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AES fin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 laws rela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gaining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Internet takes of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s and technology prog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nferen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Conference Europe 200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class tr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60 ta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+ exhi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spon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more than 750 attend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gen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2520" y="228240"/>
            <a:ext cx="506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34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cks and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tr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RSA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hack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Hacks and Attac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ens arrested for global multi-mill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llar Internet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free hotmail hac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million users imp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er from Hanover convi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ublishing TFN program u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nial-of-Service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news agency’s websi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ovne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govnew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Expo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law on encryption libe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 reduces constraints on mass market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ish paper affirms commitment to relax cryptography ex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govnew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Expo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relaxes strong crypto export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 Commons Committee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dish law allows for export of up to 128 bit symmetric cry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Internet Takes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160" y="5943600"/>
            <a:ext cx="26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orrester Research, Dec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409840"/>
            <a:ext cx="7772400" cy="24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third of all Europeans will use the Net through mobile phones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ne out of 10 Internet leaders in Europe plan to launch mobile Internet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s are building sites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ertne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broadly ado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421000"/>
            <a:ext cx="7772400" cy="11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 Commission uses legal framework to guarantee security of electronic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certnews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certnews2" descr=""/>
            <p:cNvPicPr/>
            <p:nvPr/>
          </p:nvPicPr>
          <p:blipFill>
            <a:blip r:embed="rId3"/>
            <a:srcRect l="51669" t="26666" r="0" b="0"/>
            <a:stretch/>
          </p:blipFill>
          <p:spPr>
            <a:xfrm>
              <a:off x="4724280" y="1828800"/>
              <a:ext cx="44197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4360" y="2421000"/>
              <a:ext cx="7772400" cy="11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U Commission uses legal framework to guarantee security of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360" y="3352680"/>
              <a:ext cx="7772400" cy="106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ustria First Chamber of Parliament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ssed digital signature 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1" name="certnews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certnews3" descr=""/>
            <p:cNvPicPr/>
            <p:nvPr/>
          </p:nvPicPr>
          <p:blipFill>
            <a:blip r:embed="rId5"/>
            <a:srcRect l="51669" t="26666" r="0" b="0"/>
            <a:stretch/>
          </p:blipFill>
          <p:spPr>
            <a:xfrm>
              <a:off x="4724280" y="1828800"/>
              <a:ext cx="44197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2421000"/>
              <a:ext cx="7772400" cy="11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U Commission uses legal framework to guarantee security of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4360" y="3352680"/>
              <a:ext cx="7772400" cy="106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ustria First Chamber of Parliament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ssed digital signature 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4357800"/>
              <a:ext cx="7772400" cy="103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inland bill on electronic personal identification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ertnews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broadly ado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cabinet approved draft law on electronic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1" name="certnews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ench cabinet approved draft law on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rish government outlined legislative proposals on electronic signatures, electronic contracts, certification service provi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4" name="certnews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ench cabinet approved draft law on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rish government outlined legislative proposals on electronic signatures, electronic contracts, certification service provi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talian technical rules for digital signatures publis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gital Certificate and PKI Adop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69960" y="2386080"/>
          <a:ext cx="23781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386080"/>
                    <a:ext cx="23781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362320" y="3948120"/>
          <a:ext cx="3413160" cy="22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948120"/>
                    <a:ext cx="34131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725280" y="380988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15600" y="214776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8360" y="2130480"/>
            <a:ext cx="228600" cy="228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960" y="59436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Data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53040" y="2057400"/>
            <a:ext cx="1171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360" y="2435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52680" y="2362320"/>
            <a:ext cx="103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8360" y="2739960"/>
            <a:ext cx="2286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53400" y="2666880"/>
            <a:ext cx="56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8360" y="3044880"/>
            <a:ext cx="228600" cy="2286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54120" y="2971800"/>
            <a:ext cx="2553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78360" y="3349800"/>
            <a:ext cx="2286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53400" y="327672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78360" y="3654360"/>
            <a:ext cx="22860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52320" y="3581280"/>
            <a:ext cx="178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78360" y="3959280"/>
            <a:ext cx="228600" cy="228600"/>
          </a:xfrm>
          <a:prstGeom prst="rect">
            <a:avLst/>
          </a:prstGeom>
          <a:solidFill>
            <a:srgbClr val="d7cdb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52680" y="3886200"/>
            <a:ext cx="1375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20:54:09Z</dcterms:created>
  <dc:creator>Valued Sony Customer</dc:creator>
  <dc:description/>
  <dc:language>en-US</dc:language>
  <cp:lastModifiedBy>Administrator</cp:lastModifiedBy>
  <dcterms:modified xsi:type="dcterms:W3CDTF">2000-04-11T09:39:12Z</dcterms:modified>
  <cp:revision>117</cp:revision>
  <dc:subject/>
  <dc:title>RSA Conference Europe 2000</dc:title>
</cp:coreProperties>
</file>