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30C-20F0-4A8E-BD41-67543EDD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A5D-16C6-412C-9B1C-34AB2382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E00-6671-4FBA-AC97-D839A403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6DD-C53C-420E-889E-7EAA55F0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D171-72BE-498E-8761-556CEE67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6D5A-3422-4426-9C79-DB5260F7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1AA-F44B-4027-984C-73155306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CE6C-4F53-48DF-917E-EF4AACD0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107-108E-4A8F-B5BB-FE7AA6AD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3465-A756-4239-9C50-BBE125A4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E6B-D34D-4A49-A131-48A947E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330-A56A-4FC3-BBDF-38DCD966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63EF-3DD9-48D8-8326-45B8A90B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DCE6-2EFC-46ED-A393-A63C0F1F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C5B2-4DAE-4B94-AEBC-9ADB5AF3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7361-7041-49DC-90BA-A372B8A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9F8-3625-426D-BF10-4AD26E88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B2E-7E2F-48FF-9FD0-8266C2CF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DB0-4875-4DC5-AA01-AD1B13EE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E2C-57DC-4DC1-AD47-FC738E60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A39-9A5C-420A-9E9A-65611563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155-89CF-4128-98C0-169502A3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CD0-0702-4FCA-A695-43C3F95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3E8-D82E-499D-9A61-AAA65C0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Symbol"/>
                <a:ea typeface="Symbol"/>
              </a:rPr>
              <a:t>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American International Group (2000)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Network Security Risks and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03B4-26BF-400F-B090-6999412BA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AIG" descr=""/>
          <p:cNvPicPr/>
          <p:nvPr/>
        </p:nvPicPr>
        <p:blipFill>
          <a:blip r:embed="rId3"/>
          <a:stretch/>
        </p:blipFill>
        <p:spPr>
          <a:xfrm>
            <a:off x="0" y="0"/>
            <a:ext cx="7714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3428-C202-476D-9852-7E9C33EE1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676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tigating the Risks of E-Business: Insurance Initiativ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Fo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SA CONFERENCE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an Jose, C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uesday, January 18,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AIG" descr=""/>
          <p:cNvPicPr/>
          <p:nvPr/>
        </p:nvPicPr>
        <p:blipFill>
          <a:blip r:embed="rId2"/>
          <a:stretch/>
        </p:blipFill>
        <p:spPr>
          <a:xfrm>
            <a:off x="0" y="152280"/>
            <a:ext cx="838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: covers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bodily injury/tangible property damage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ffered by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&amp;O: Maybe coverage if you provide professional services to others for a fe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 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- Sometimes.  (Links, ads not covered. Recent carriers are expressly excluding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NO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Rol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sset prot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nanci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angible asse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pu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chnological products and servi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al smoothing/as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Tahoma"/>
              </a:rPr>
              <a:t>Technology + Insurance = Heightened Trust Environ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fically designed for risks associated with failures of your network or computer security system to preve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uter Attacks (unauthorized access/us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mission of a computer virus to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sclosure of client privacy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7 Basic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intangible/information) property lo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ss of eReven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blic relations (crisis mgmt)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abili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nial of Service Clai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rus transmi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closure of personal or confidential data of your custom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fessional errors and omiss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dia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b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an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righ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en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 of privacy viola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ber-extor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ring private investigator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investigation expen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ransom demand (must be reasonab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per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are these assets worth to you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accounting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trade secrets (may require additional informatio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ustom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ompetitive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suppli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siness interruption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business interruption: Revenue generated from on-line transactions ceases due to attack on your syst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pendent business interruption Revenue generated from on-line transactions ceases due to attack on a system of a business you depend up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ded business interrup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twork Security: How big is the problem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risks do you fac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traditional insurance help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day’s New Insurance solution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7 basic risks to cov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 to ask f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jor terms to require and avoid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iminal Reward, Public Rel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: $25-50K reward for information leading to the arrest and conviction of a cyber-crimin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sis communications: $25-$50k for public relations/media/crisis communication fees to restore investor or customer confidenc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ss Prevention Servi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Assessment: Cost effective security assessment conducted by a member of the insurer’s panel.  Partial or total reimbursement sometimes available if you decide to purchase polic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gal analysis: Access to specialized technology law firm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failures” include attack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ider or outsid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ntional or non-intention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fit motivated or “for fun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rgeted or untargeted vict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rom failures of software, hardware or firmw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Claim (beyond just lawsuit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Loss (including punitive damag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information ass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lity to underwrite trade secr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ld-wide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not covered?</a:t>
            </a:r>
            <a:br>
              <a:rPr sz="4400"/>
            </a:b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(not exclusive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ts of God, fire, wind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rrorism, explosions, war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or project plann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ies liabilities, ERISA li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ttacks on internet infrastructure itsel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raud (not applicable to computer attacks by employe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ransactional Smoothing: The Futur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 Narrow"/>
              </a:rPr>
              <a:t>E-Business Transaction Ris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 of the par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/quality of the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bility to pay / Ability to ship-manufa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ctual payment / Actual delive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Damage to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ecurity &amp; Reliability of network / infra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ing Out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focused on management liability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s and officers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PO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&amp;O insurance (brick-and-mortar operatio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ployment Practices (including discrimination/sexual harassment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insurance broke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local AIG offi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175 Water Street, NY NY 10038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2-458-242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y.sagalow@aig.co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wproduc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@aig.c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83% increase in number of computer attack incidents in 1999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CERT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53% of respondents rate overall state of infosecurity at their co. as average or below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 1999 Security Survey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47.8% increase in unauthorized access by outsiders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91 breaches resulting in $23M lo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think many people have a false sense of security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chael Vatis,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 of the FBI National Infrastructure Protection Center, on threat of cyberterroris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Unive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Important is Thi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$1 trillion in revenue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isco Systems Inc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0M in internet users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rain Rauscher Wesse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On-line Shopping Revenue will top US $7B by 200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rrester Re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90% of all e-commerce is transacted by just 10% of the world’s e-commerce companies.</a:t>
            </a: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Risks do you fa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perty- loss/theft of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in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asse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-Business interruption lo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ability to other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dia- content related li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resulting 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nancial damage, damage to reputation, stock drop, loss of important assets/opportuni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perty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s: Fire, windstorm etc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e Policies?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ed Criminals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usually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loyees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(“computer fraud” rider adds non-employe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siness Interruption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ee Property Polic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not in any standard corporate polic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ometimes found in certain K&amp;R or contaminated goods in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6:12:37Z</dcterms:created>
  <dc:creator>TSagalow</dc:creator>
  <dc:description/>
  <dc:language>en-US</dc:language>
  <cp:lastModifiedBy>User</cp:lastModifiedBy>
  <cp:lastPrinted>1999-10-22T16:29:03Z</cp:lastPrinted>
  <dcterms:modified xsi:type="dcterms:W3CDTF">2000-01-18T23:48:32Z</dcterms:modified>
  <cp:revision>26</cp:revision>
  <dc:subject/>
  <dc:title>No Slide Title</dc:title>
</cp:coreProperties>
</file>