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FAFA-D013-4BFD-B9BD-FBD4E6D9685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2BC-C55E-4177-8E0F-2B44191DAC0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168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8160" y="4403880"/>
            <a:ext cx="51436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FD2F-0917-4E4F-86F4-617EAD9667E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866F-2033-49F3-BA0F-40C99F8D8E5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ldImg"/>
          </p:nvPr>
        </p:nvSpPr>
        <p:spPr>
          <a:xfrm>
            <a:off x="1195560" y="69516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2A0C-C78D-46ED-AD53-9D260EED959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D75A-5E87-4F19-A80C-1C1BCDA3ACF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2883-6565-4119-BF4C-4A67F3BC854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3C98-7200-43CC-967C-D1D0230C74C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941D-1ACE-4F9A-9205-A46965F131C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31C-F809-477A-ACB0-10A6710C73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C5D0-D028-4AA5-ACFC-C063974A601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922-1ED0-46D7-BA9C-7F08A6AF422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7DC3-9C92-4DDC-8D67-830334A8145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5FB6-C378-40EF-96E6-0D72527DBCF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FBC-5C90-40D2-965A-F121A750503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9680-406E-4DF2-BB8D-DC4CAA495D0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6EE-954B-47EB-BFFE-93D88214733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4F74-7B2F-4B4F-923E-3716FF26F55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D41-C2A7-413A-9A2D-AF90274F7B2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Crypto 301: Practical Implementations of Cryptography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64764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 Matthew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, Product 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Keon%20keys" descr=""/>
          <p:cNvPicPr/>
          <p:nvPr/>
        </p:nvPicPr>
        <p:blipFill>
          <a:blip r:embed="rId1"/>
          <a:stretch/>
        </p:blipFill>
        <p:spPr>
          <a:xfrm>
            <a:off x="5230800" y="4229280"/>
            <a:ext cx="3532320" cy="2315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371600"/>
            <a:ext cx="14479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629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D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46640" y="501804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70320" y="4923000"/>
            <a:ext cx="11541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56200" y="482760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rtifica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37560" y="6127920"/>
            <a:ext cx="823320" cy="577440"/>
            <a:chOff x="6037560" y="6127920"/>
            <a:chExt cx="823320" cy="577440"/>
          </a:xfrm>
        </p:grpSpPr>
        <p:sp>
          <p:nvSpPr>
            <p:cNvPr id="177" name=""/>
            <p:cNvSpPr/>
            <p:nvPr/>
          </p:nvSpPr>
          <p:spPr>
            <a:xfrm>
              <a:off x="6037560" y="6451920"/>
              <a:ext cx="823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 st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5560" y="624384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5560" y="612792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3120" y="3632040"/>
            <a:ext cx="1995840" cy="1008360"/>
            <a:chOff x="213120" y="3632040"/>
            <a:chExt cx="1995840" cy="1008360"/>
          </a:xfrm>
        </p:grpSpPr>
        <p:sp>
          <p:nvSpPr>
            <p:cNvPr id="181" name=""/>
            <p:cNvSpPr/>
            <p:nvPr/>
          </p:nvSpPr>
          <p:spPr>
            <a:xfrm>
              <a:off x="213120" y="3632040"/>
              <a:ext cx="11577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120" y="394164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480" y="4251240"/>
              <a:ext cx="1131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76840" y="5140440"/>
            <a:ext cx="1779480" cy="698760"/>
            <a:chOff x="276840" y="5140440"/>
            <a:chExt cx="1779480" cy="698760"/>
          </a:xfrm>
        </p:grpSpPr>
        <p:sp>
          <p:nvSpPr>
            <p:cNvPr id="185" name=""/>
            <p:cNvSpPr/>
            <p:nvPr/>
          </p:nvSpPr>
          <p:spPr>
            <a:xfrm>
              <a:off x="276840" y="5140440"/>
              <a:ext cx="17794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Add-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840" y="5450040"/>
              <a:ext cx="1093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odu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629080" y="5018040"/>
            <a:ext cx="118080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29000" y="4923000"/>
            <a:ext cx="12049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24160" y="4827600"/>
            <a:ext cx="133344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ypt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5018040"/>
            <a:ext cx="1181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55880" y="4923000"/>
            <a:ext cx="12733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827600"/>
            <a:ext cx="12189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st Mode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60800"/>
            <a:ext cx="6270840" cy="2617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SSM Security A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435480"/>
            <a:ext cx="6270840" cy="1014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51240" y="4471920"/>
            <a:ext cx="113004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565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3720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19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27800" y="5018040"/>
            <a:ext cx="1192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360" y="4923000"/>
            <a:ext cx="12301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4827600"/>
            <a:ext cx="12301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3640" y="4805280"/>
            <a:ext cx="701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4960" y="4457880"/>
            <a:ext cx="1035000" cy="195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7960" y="3886200"/>
            <a:ext cx="1122480" cy="474840"/>
          </a:xfrm>
          <a:prstGeom prst="rect">
            <a:avLst/>
          </a:prstGeom>
          <a:solidFill>
            <a:srgbClr val="a7a7a7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ectiv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dule Mg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53080" y="5711760"/>
            <a:ext cx="3780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10480" y="503388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4938840"/>
            <a:ext cx="12729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484344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a7a7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64320" y="3211560"/>
            <a:ext cx="1035000" cy="1825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2400" y="2224080"/>
            <a:ext cx="1996560" cy="698760"/>
            <a:chOff x="212400" y="2224080"/>
            <a:chExt cx="1996560" cy="698760"/>
          </a:xfrm>
        </p:grpSpPr>
        <p:sp>
          <p:nvSpPr>
            <p:cNvPr id="211" name=""/>
            <p:cNvSpPr/>
            <p:nvPr/>
          </p:nvSpPr>
          <p:spPr>
            <a:xfrm>
              <a:off x="212400" y="2224080"/>
              <a:ext cx="994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120" y="253368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21080" y="2336760"/>
            <a:ext cx="5778360" cy="55872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2139840"/>
            <a:ext cx="7102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2997360"/>
            <a:ext cx="7132680" cy="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78400" y="2038320"/>
            <a:ext cx="2757960" cy="628560"/>
            <a:chOff x="5378400" y="2038320"/>
            <a:chExt cx="2757960" cy="628560"/>
          </a:xfrm>
        </p:grpSpPr>
        <p:sp>
          <p:nvSpPr>
            <p:cNvPr id="217" name=""/>
            <p:cNvSpPr/>
            <p:nvPr/>
          </p:nvSpPr>
          <p:spPr>
            <a:xfrm>
              <a:off x="6730920" y="2038320"/>
              <a:ext cx="231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8400" y="2323800"/>
              <a:ext cx="275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nguage Interface Adap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37600" y="2292480"/>
            <a:ext cx="1806840" cy="628560"/>
            <a:chOff x="2937600" y="2292480"/>
            <a:chExt cx="1806840" cy="628560"/>
          </a:xfrm>
        </p:grpSpPr>
        <p:sp>
          <p:nvSpPr>
            <p:cNvPr id="220" name=""/>
            <p:cNvSpPr/>
            <p:nvPr/>
          </p:nvSpPr>
          <p:spPr>
            <a:xfrm>
              <a:off x="2937600" y="2292480"/>
              <a:ext cx="180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yered Servic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1560" y="2577960"/>
              <a:ext cx="740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356000" y="137160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+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1765440"/>
            <a:ext cx="220176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it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urity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7520" y="4952880"/>
            <a:ext cx="925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.g. Ke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75248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Native Ja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18320" y="2209680"/>
            <a:ext cx="1663560" cy="139680"/>
          </a:xfrm>
          <a:prstGeom prst="rect">
            <a:avLst/>
          </a:prstGeom>
          <a:solidFill>
            <a:srgbClr val="cbcbcb"/>
          </a:soli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Java Security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0240" y="1714680"/>
            <a:ext cx="5486400" cy="6116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Security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.security, java.security.Interfa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0240" y="2476440"/>
            <a:ext cx="3581280" cy="855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essageDigest, .Signature, .KeyPair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0240" y="3467160"/>
            <a:ext cx="2286000" cy="1160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 (Signatures, No Encry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86440" y="2476440"/>
            <a:ext cx="3747960" cy="85500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CE Classes/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mmetricCipher,SymmetricCiph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Cipher, SecretKey, Pad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00240" y="4762440"/>
            <a:ext cx="7619760" cy="5806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Providers (Signatures and Encry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AFE Crypto-J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5000" y="3238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95720" y="3238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15440" y="323856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for SS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SSL-J%20cylinders" descr=""/>
          <p:cNvPicPr/>
          <p:nvPr/>
        </p:nvPicPr>
        <p:blipFill>
          <a:blip r:embed="rId1"/>
          <a:stretch/>
        </p:blipFill>
        <p:spPr>
          <a:xfrm>
            <a:off x="2438280" y="1681200"/>
            <a:ext cx="48913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rypto Provider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CryptoJ%20diagram" descr=""/>
          <p:cNvPicPr/>
          <p:nvPr/>
        </p:nvPicPr>
        <p:blipFill>
          <a:blip r:embed="rId1"/>
          <a:stretch/>
        </p:blipFill>
        <p:spPr>
          <a:xfrm>
            <a:off x="2049480" y="1698480"/>
            <a:ext cx="5840280" cy="3421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 for PKI-Enabl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CertC%20cylinders_text" descr=""/>
          <p:cNvPicPr/>
          <p:nvPr/>
        </p:nvPicPr>
        <p:blipFill>
          <a:blip r:embed="rId1"/>
          <a:srcRect l="0" t="0" r="0" b="6060"/>
          <a:stretch/>
        </p:blipFill>
        <p:spPr>
          <a:xfrm>
            <a:off x="1657440" y="1762200"/>
            <a:ext cx="64580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6676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 #1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me Banking Client/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77080" y="2392200"/>
            <a:ext cx="1411200" cy="95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86000" y="3955680"/>
            <a:ext cx="18716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662280" y="2610000"/>
          <a:ext cx="307656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610000"/>
                    <a:ext cx="307656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305240" y="3433680"/>
            <a:ext cx="167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015320" y="1833480"/>
          <a:ext cx="103824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5320" y="183348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06520" y="2948040"/>
            <a:ext cx="143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68440" y="3902040"/>
          <a:ext cx="103824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8440" y="390204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536840" y="4965840"/>
          <a:ext cx="860400" cy="98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36840" y="4965840"/>
                    <a:ext cx="860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58040" y="5992920"/>
            <a:ext cx="206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49480" y="3208320"/>
            <a:ext cx="33480" cy="81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L in Ja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SSL-J%20pipes" descr=""/>
          <p:cNvPicPr/>
          <p:nvPr/>
        </p:nvPicPr>
        <p:blipFill>
          <a:blip r:embed="rId1"/>
          <a:stretch/>
        </p:blipFill>
        <p:spPr>
          <a:xfrm>
            <a:off x="1838160" y="2181240"/>
            <a:ext cx="531504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858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00080" y="177120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ink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uthentication Based on Account #’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Integ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rate Amount of Traff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ey Exchange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iffie-Hellma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ymmetric Encryption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Diges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SHA-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Clear understanding of the need for security…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...But no security architectur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SL-J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ipherSuites (new DH_With_3DES_EDE_CBC_SHA()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CipherSuite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ertificateAndKey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PeerCertificateChain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initiate an SSL session, use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getInputStream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encrypt and decrypt, use write() and read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oupwa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eb Brows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net Firewal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dical Record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 #2: Secur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2505240" y="2311560"/>
            <a:ext cx="336240" cy="18907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5200" y="1739880"/>
            <a:ext cx="761760" cy="3985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12920" y="1082520"/>
            <a:ext cx="8218440" cy="53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1400" y="1430280"/>
            <a:ext cx="165420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il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8080" y="3672000"/>
            <a:ext cx="191484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41680" y="1258920"/>
            <a:ext cx="2217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52920" y="1258920"/>
            <a:ext cx="228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93880" y="389556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9560" y="3894120"/>
            <a:ext cx="1495080" cy="822600"/>
            <a:chOff x="3859560" y="3894120"/>
            <a:chExt cx="1495080" cy="822600"/>
          </a:xfrm>
        </p:grpSpPr>
        <p:sp>
          <p:nvSpPr>
            <p:cNvPr id="286" name=""/>
            <p:cNvSpPr/>
            <p:nvPr/>
          </p:nvSpPr>
          <p:spPr>
            <a:xfrm>
              <a:off x="3919680" y="3902040"/>
              <a:ext cx="1434960" cy="74916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9560" y="3894120"/>
              <a:ext cx="1364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ed@rsa.com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5h2d1fa54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bc732a3df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699360" y="2935440"/>
            <a:ext cx="1945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dress Info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Name, certificat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ublic ke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29052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2720" y="3463920"/>
            <a:ext cx="1844640" cy="70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/MIME-C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18520" y="4181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73920" y="5051520"/>
            <a:ext cx="888840" cy="1117440"/>
            <a:chOff x="6973920" y="5051520"/>
            <a:chExt cx="888840" cy="1117440"/>
          </a:xfrm>
        </p:grpSpPr>
        <p:grpSp>
          <p:nvGrpSpPr>
            <p:cNvPr id="293" name=""/>
            <p:cNvGrpSpPr/>
            <p:nvPr/>
          </p:nvGrpSpPr>
          <p:grpSpPr>
            <a:xfrm>
              <a:off x="7043760" y="5121360"/>
              <a:ext cx="749160" cy="977760"/>
              <a:chOff x="7043760" y="5121360"/>
              <a:chExt cx="749160" cy="977760"/>
            </a:xfrm>
          </p:grpSpPr>
          <p:sp>
            <p:nvSpPr>
              <p:cNvPr id="294" name=""/>
              <p:cNvSpPr/>
              <p:nvPr/>
            </p:nvSpPr>
            <p:spPr>
              <a:xfrm>
                <a:off x="7043760" y="5121360"/>
                <a:ext cx="749160" cy="97776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13600" y="53434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13600" y="54957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13600" y="56484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13600" y="58006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13600" y="52671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13600" y="54198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13600" y="55720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113600" y="57243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13600" y="58770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13600" y="59529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13600" y="60292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973920" y="5051520"/>
              <a:ext cx="888840" cy="111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469920" y="4640400"/>
            <a:ext cx="187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320" y="4925880"/>
            <a:ext cx="269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ure Mail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49840" y="5337000"/>
            <a:ext cx="1346040" cy="812880"/>
            <a:chOff x="3849840" y="5337000"/>
            <a:chExt cx="1346040" cy="812880"/>
          </a:xfrm>
        </p:grpSpPr>
        <p:sp>
          <p:nvSpPr>
            <p:cNvPr id="310" name=""/>
            <p:cNvSpPr/>
            <p:nvPr/>
          </p:nvSpPr>
          <p:spPr>
            <a:xfrm>
              <a:off x="3919680" y="5406840"/>
              <a:ext cx="120636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9840" y="5337000"/>
              <a:ext cx="1346040" cy="812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13200" y="5400720"/>
              <a:ext cx="60948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522680" y="5400720"/>
              <a:ext cx="60984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128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0654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2177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3700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5226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6749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8272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9798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693880" y="16858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93880" y="54198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894280" y="54007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960" y="4751280"/>
            <a:ext cx="222408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ou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Transport decisi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re independen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224240" y="1844640"/>
            <a:ext cx="673200" cy="825480"/>
            <a:chOff x="4224240" y="1844640"/>
            <a:chExt cx="673200" cy="825480"/>
          </a:xfrm>
        </p:grpSpPr>
        <p:sp>
          <p:nvSpPr>
            <p:cNvPr id="327" name=""/>
            <p:cNvSpPr/>
            <p:nvPr/>
          </p:nvSpPr>
          <p:spPr>
            <a:xfrm>
              <a:off x="4224240" y="1844640"/>
              <a:ext cx="673200" cy="82548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86160" y="20494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86160" y="19735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160" y="21258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6160" y="22021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6160" y="22780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6160" y="23544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6160" y="24307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86160" y="25066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6160" y="25830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973920" y="1774800"/>
            <a:ext cx="812880" cy="965160"/>
            <a:chOff x="6973920" y="1774800"/>
            <a:chExt cx="812880" cy="965160"/>
          </a:xfrm>
        </p:grpSpPr>
        <p:sp>
          <p:nvSpPr>
            <p:cNvPr id="338" name=""/>
            <p:cNvSpPr/>
            <p:nvPr/>
          </p:nvSpPr>
          <p:spPr>
            <a:xfrm>
              <a:off x="6973920" y="1774800"/>
              <a:ext cx="81288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043760" y="1844280"/>
              <a:ext cx="673200" cy="825120"/>
              <a:chOff x="7043760" y="1844280"/>
              <a:chExt cx="673200" cy="825120"/>
            </a:xfrm>
          </p:grpSpPr>
          <p:sp>
            <p:nvSpPr>
              <p:cNvPr id="340" name=""/>
              <p:cNvSpPr/>
              <p:nvPr/>
            </p:nvSpPr>
            <p:spPr>
              <a:xfrm>
                <a:off x="7043760" y="1844280"/>
                <a:ext cx="673200" cy="82512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05680" y="20487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5680" y="19728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05680" y="21250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05680" y="22014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5680" y="22773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05680" y="23536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05680" y="24300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05680" y="25059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05680" y="25822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5818320" y="168588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1904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Envelop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Chai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Reques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por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9600" y="228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Forma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PKCS #7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X.509 v3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gorithm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RSA, SHA-1, RC2, 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/MIME-C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EncryptAnd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DecryptAndVerif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s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Cert_EnumCer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Address_AttachCertificat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2640" y="20952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DI Over Interne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ownloading Secure Obje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ecutable Sig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708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1800" y="1987560"/>
            <a:ext cx="85154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Present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rsaconference.com/presentations/RSA00-Crypto301.pp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veloping Secur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developers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m Matthews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im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Rough security architecture design...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No detailed implementation path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64480" y="247680"/>
            <a:ext cx="19587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04920" y="1220760"/>
            <a:ext cx="8381880" cy="5170680"/>
            <a:chOff x="304920" y="1220760"/>
            <a:chExt cx="8381880" cy="5170680"/>
          </a:xfrm>
        </p:grpSpPr>
        <p:sp>
          <p:nvSpPr>
            <p:cNvPr id="97" name=""/>
            <p:cNvSpPr/>
            <p:nvPr/>
          </p:nvSpPr>
          <p:spPr>
            <a:xfrm>
              <a:off x="890640" y="1220760"/>
              <a:ext cx="7796160" cy="5170680"/>
            </a:xfrm>
            <a:prstGeom prst="roundRect">
              <a:avLst>
                <a:gd name="adj" fmla="val 12495"/>
              </a:avLst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0640" y="1351080"/>
              <a:ext cx="7710480" cy="4952880"/>
            </a:xfrm>
            <a:prstGeom prst="roundRect">
              <a:avLst>
                <a:gd name="adj" fmla="val 12495"/>
              </a:avLst>
            </a:prstGeom>
            <a:solidFill>
              <a:srgbClr val="21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2080" y="1349280"/>
              <a:ext cx="268560" cy="4948200"/>
            </a:xfrm>
            <a:custGeom>
              <a:avLst/>
              <a:gdLst/>
              <a:ahLst/>
              <a:rect l="l" t="t" r="r" b="b"/>
              <a:pathLst>
                <a:path w="169" h="3117">
                  <a:moveTo>
                    <a:pt x="168" y="0"/>
                  </a:moveTo>
                  <a:lnTo>
                    <a:pt x="103" y="14"/>
                  </a:lnTo>
                  <a:lnTo>
                    <a:pt x="49" y="48"/>
                  </a:lnTo>
                  <a:lnTo>
                    <a:pt x="12" y="98"/>
                  </a:lnTo>
                  <a:lnTo>
                    <a:pt x="0" y="156"/>
                  </a:lnTo>
                  <a:lnTo>
                    <a:pt x="0" y="2959"/>
                  </a:lnTo>
                  <a:lnTo>
                    <a:pt x="12" y="3019"/>
                  </a:lnTo>
                  <a:lnTo>
                    <a:pt x="49" y="3070"/>
                  </a:lnTo>
                  <a:lnTo>
                    <a:pt x="103" y="3103"/>
                  </a:lnTo>
                  <a:lnTo>
                    <a:pt x="168" y="3116"/>
                  </a:lnTo>
                  <a:lnTo>
                    <a:pt x="82" y="2979"/>
                  </a:lnTo>
                  <a:lnTo>
                    <a:pt x="82" y="115"/>
                  </a:lnTo>
                  <a:lnTo>
                    <a:pt x="168" y="0"/>
                  </a:lnTo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760" y="1666800"/>
              <a:ext cx="6467400" cy="432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560" y="2946240"/>
              <a:ext cx="906480" cy="1744920"/>
            </a:xfrm>
            <a:custGeom>
              <a:avLst/>
              <a:gdLst/>
              <a:ahLst/>
              <a:rect l="l" t="t" r="r" b="b"/>
              <a:pathLst>
                <a:path w="571" h="1099">
                  <a:moveTo>
                    <a:pt x="0" y="367"/>
                  </a:moveTo>
                  <a:lnTo>
                    <a:pt x="10" y="297"/>
                  </a:lnTo>
                  <a:lnTo>
                    <a:pt x="44" y="230"/>
                  </a:lnTo>
                  <a:lnTo>
                    <a:pt x="90" y="170"/>
                  </a:lnTo>
                  <a:lnTo>
                    <a:pt x="150" y="115"/>
                  </a:lnTo>
                  <a:lnTo>
                    <a:pt x="212" y="69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9"/>
                  </a:lnTo>
                  <a:lnTo>
                    <a:pt x="570" y="160"/>
                  </a:lnTo>
                  <a:lnTo>
                    <a:pt x="570" y="937"/>
                  </a:lnTo>
                  <a:lnTo>
                    <a:pt x="564" y="968"/>
                  </a:lnTo>
                  <a:lnTo>
                    <a:pt x="557" y="997"/>
                  </a:lnTo>
                  <a:lnTo>
                    <a:pt x="520" y="1052"/>
                  </a:lnTo>
                  <a:lnTo>
                    <a:pt x="461" y="1083"/>
                  </a:lnTo>
                  <a:lnTo>
                    <a:pt x="432" y="1093"/>
                  </a:lnTo>
                  <a:lnTo>
                    <a:pt x="396" y="1098"/>
                  </a:lnTo>
                  <a:lnTo>
                    <a:pt x="342" y="1088"/>
                  </a:lnTo>
                  <a:lnTo>
                    <a:pt x="277" y="1061"/>
                  </a:lnTo>
                  <a:lnTo>
                    <a:pt x="212" y="1023"/>
                  </a:lnTo>
                  <a:lnTo>
                    <a:pt x="150" y="968"/>
                  </a:lnTo>
                  <a:lnTo>
                    <a:pt x="90" y="908"/>
                  </a:lnTo>
                  <a:lnTo>
                    <a:pt x="44" y="845"/>
                  </a:lnTo>
                  <a:lnTo>
                    <a:pt x="10" y="771"/>
                  </a:lnTo>
                  <a:lnTo>
                    <a:pt x="0" y="701"/>
                  </a:lnTo>
                  <a:lnTo>
                    <a:pt x="0" y="36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560" y="2962440"/>
              <a:ext cx="906480" cy="1706400"/>
            </a:xfrm>
            <a:custGeom>
              <a:avLst/>
              <a:gdLst/>
              <a:ahLst/>
              <a:rect l="l" t="t" r="r" b="b"/>
              <a:pathLst>
                <a:path w="571" h="1075">
                  <a:moveTo>
                    <a:pt x="0" y="362"/>
                  </a:moveTo>
                  <a:lnTo>
                    <a:pt x="10" y="293"/>
                  </a:lnTo>
                  <a:lnTo>
                    <a:pt x="44" y="223"/>
                  </a:lnTo>
                  <a:lnTo>
                    <a:pt x="90" y="165"/>
                  </a:lnTo>
                  <a:lnTo>
                    <a:pt x="150" y="110"/>
                  </a:lnTo>
                  <a:lnTo>
                    <a:pt x="212" y="64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917"/>
                  </a:lnTo>
                  <a:lnTo>
                    <a:pt x="564" y="949"/>
                  </a:lnTo>
                  <a:lnTo>
                    <a:pt x="557" y="977"/>
                  </a:lnTo>
                  <a:lnTo>
                    <a:pt x="520" y="1028"/>
                  </a:lnTo>
                  <a:lnTo>
                    <a:pt x="461" y="1059"/>
                  </a:lnTo>
                  <a:lnTo>
                    <a:pt x="396" y="1074"/>
                  </a:lnTo>
                  <a:lnTo>
                    <a:pt x="342" y="1064"/>
                  </a:lnTo>
                  <a:lnTo>
                    <a:pt x="277" y="1042"/>
                  </a:lnTo>
                  <a:lnTo>
                    <a:pt x="212" y="1001"/>
                  </a:lnTo>
                  <a:lnTo>
                    <a:pt x="150" y="949"/>
                  </a:lnTo>
                  <a:lnTo>
                    <a:pt x="90" y="896"/>
                  </a:lnTo>
                  <a:lnTo>
                    <a:pt x="44" y="826"/>
                  </a:lnTo>
                  <a:lnTo>
                    <a:pt x="10" y="756"/>
                  </a:lnTo>
                  <a:lnTo>
                    <a:pt x="0" y="689"/>
                  </a:lnTo>
                  <a:lnTo>
                    <a:pt x="0" y="362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560" y="2978280"/>
              <a:ext cx="906480" cy="1674720"/>
            </a:xfrm>
            <a:custGeom>
              <a:avLst/>
              <a:gdLst/>
              <a:ahLst/>
              <a:rect l="l" t="t" r="r" b="b"/>
              <a:pathLst>
                <a:path w="571" h="1055">
                  <a:moveTo>
                    <a:pt x="0" y="352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60"/>
                  </a:lnTo>
                  <a:lnTo>
                    <a:pt x="150" y="110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97"/>
                  </a:lnTo>
                  <a:lnTo>
                    <a:pt x="564" y="931"/>
                  </a:lnTo>
                  <a:lnTo>
                    <a:pt x="557" y="957"/>
                  </a:lnTo>
                  <a:lnTo>
                    <a:pt x="520" y="1008"/>
                  </a:lnTo>
                  <a:lnTo>
                    <a:pt x="461" y="1041"/>
                  </a:lnTo>
                  <a:lnTo>
                    <a:pt x="396" y="1054"/>
                  </a:lnTo>
                  <a:lnTo>
                    <a:pt x="342" y="1044"/>
                  </a:lnTo>
                  <a:lnTo>
                    <a:pt x="277" y="1022"/>
                  </a:lnTo>
                  <a:lnTo>
                    <a:pt x="212" y="981"/>
                  </a:lnTo>
                  <a:lnTo>
                    <a:pt x="150" y="936"/>
                  </a:lnTo>
                  <a:lnTo>
                    <a:pt x="90" y="876"/>
                  </a:lnTo>
                  <a:lnTo>
                    <a:pt x="44" y="811"/>
                  </a:lnTo>
                  <a:lnTo>
                    <a:pt x="10" y="741"/>
                  </a:lnTo>
                  <a:lnTo>
                    <a:pt x="0" y="674"/>
                  </a:lnTo>
                  <a:lnTo>
                    <a:pt x="0" y="352"/>
                  </a:lnTo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560" y="2986200"/>
              <a:ext cx="906480" cy="1652400"/>
            </a:xfrm>
            <a:custGeom>
              <a:avLst/>
              <a:gdLst/>
              <a:ahLst/>
              <a:rect l="l" t="t" r="r" b="b"/>
              <a:pathLst>
                <a:path w="571" h="1041">
                  <a:moveTo>
                    <a:pt x="0" y="348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58"/>
                  </a:lnTo>
                  <a:lnTo>
                    <a:pt x="150" y="105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83"/>
                  </a:lnTo>
                  <a:lnTo>
                    <a:pt x="564" y="917"/>
                  </a:lnTo>
                  <a:lnTo>
                    <a:pt x="557" y="943"/>
                  </a:lnTo>
                  <a:lnTo>
                    <a:pt x="520" y="994"/>
                  </a:lnTo>
                  <a:lnTo>
                    <a:pt x="461" y="1027"/>
                  </a:lnTo>
                  <a:lnTo>
                    <a:pt x="396" y="1040"/>
                  </a:lnTo>
                  <a:lnTo>
                    <a:pt x="342" y="1032"/>
                  </a:lnTo>
                  <a:lnTo>
                    <a:pt x="277" y="1008"/>
                  </a:lnTo>
                  <a:lnTo>
                    <a:pt x="212" y="967"/>
                  </a:lnTo>
                  <a:lnTo>
                    <a:pt x="150" y="922"/>
                  </a:lnTo>
                  <a:lnTo>
                    <a:pt x="90" y="862"/>
                  </a:lnTo>
                  <a:lnTo>
                    <a:pt x="44" y="797"/>
                  </a:lnTo>
                  <a:lnTo>
                    <a:pt x="10" y="732"/>
                  </a:lnTo>
                  <a:lnTo>
                    <a:pt x="0" y="665"/>
                  </a:lnTo>
                  <a:lnTo>
                    <a:pt x="0" y="348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60" y="2998800"/>
              <a:ext cx="906480" cy="1620720"/>
            </a:xfrm>
            <a:custGeom>
              <a:avLst/>
              <a:gdLst/>
              <a:ahLst/>
              <a:rect l="l" t="t" r="r" b="b"/>
              <a:pathLst>
                <a:path w="571" h="1021">
                  <a:moveTo>
                    <a:pt x="0" y="345"/>
                  </a:moveTo>
                  <a:lnTo>
                    <a:pt x="10" y="280"/>
                  </a:lnTo>
                  <a:lnTo>
                    <a:pt x="44" y="216"/>
                  </a:lnTo>
                  <a:lnTo>
                    <a:pt x="90" y="156"/>
                  </a:lnTo>
                  <a:lnTo>
                    <a:pt x="150" y="105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3"/>
                  </a:lnTo>
                  <a:lnTo>
                    <a:pt x="564" y="120"/>
                  </a:lnTo>
                  <a:lnTo>
                    <a:pt x="570" y="151"/>
                  </a:lnTo>
                  <a:lnTo>
                    <a:pt x="570" y="873"/>
                  </a:lnTo>
                  <a:lnTo>
                    <a:pt x="564" y="904"/>
                  </a:lnTo>
                  <a:lnTo>
                    <a:pt x="557" y="931"/>
                  </a:lnTo>
                  <a:lnTo>
                    <a:pt x="520" y="979"/>
                  </a:lnTo>
                  <a:lnTo>
                    <a:pt x="461" y="1010"/>
                  </a:lnTo>
                  <a:lnTo>
                    <a:pt x="396" y="1020"/>
                  </a:lnTo>
                  <a:lnTo>
                    <a:pt x="342" y="1010"/>
                  </a:lnTo>
                  <a:lnTo>
                    <a:pt x="277" y="986"/>
                  </a:lnTo>
                  <a:lnTo>
                    <a:pt x="212" y="950"/>
                  </a:lnTo>
                  <a:lnTo>
                    <a:pt x="150" y="904"/>
                  </a:lnTo>
                  <a:lnTo>
                    <a:pt x="90" y="849"/>
                  </a:lnTo>
                  <a:lnTo>
                    <a:pt x="44" y="784"/>
                  </a:lnTo>
                  <a:lnTo>
                    <a:pt x="10" y="720"/>
                  </a:lnTo>
                  <a:lnTo>
                    <a:pt x="0" y="657"/>
                  </a:lnTo>
                  <a:lnTo>
                    <a:pt x="0" y="345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60" y="3011400"/>
              <a:ext cx="906480" cy="1592280"/>
            </a:xfrm>
            <a:custGeom>
              <a:avLst/>
              <a:gdLst/>
              <a:ahLst/>
              <a:rect l="l" t="t" r="r" b="b"/>
              <a:pathLst>
                <a:path w="571" h="1003">
                  <a:moveTo>
                    <a:pt x="0" y="336"/>
                  </a:moveTo>
                  <a:lnTo>
                    <a:pt x="10" y="271"/>
                  </a:lnTo>
                  <a:lnTo>
                    <a:pt x="44" y="211"/>
                  </a:lnTo>
                  <a:lnTo>
                    <a:pt x="90" y="151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8"/>
                  </a:lnTo>
                  <a:lnTo>
                    <a:pt x="564" y="115"/>
                  </a:lnTo>
                  <a:lnTo>
                    <a:pt x="570" y="146"/>
                  </a:lnTo>
                  <a:lnTo>
                    <a:pt x="570" y="855"/>
                  </a:lnTo>
                  <a:lnTo>
                    <a:pt x="557" y="910"/>
                  </a:lnTo>
                  <a:lnTo>
                    <a:pt x="520" y="956"/>
                  </a:lnTo>
                  <a:lnTo>
                    <a:pt x="461" y="987"/>
                  </a:lnTo>
                  <a:lnTo>
                    <a:pt x="396" y="1002"/>
                  </a:lnTo>
                  <a:lnTo>
                    <a:pt x="342" y="992"/>
                  </a:lnTo>
                  <a:lnTo>
                    <a:pt x="277" y="970"/>
                  </a:lnTo>
                  <a:lnTo>
                    <a:pt x="212" y="932"/>
                  </a:lnTo>
                  <a:lnTo>
                    <a:pt x="150" y="886"/>
                  </a:lnTo>
                  <a:lnTo>
                    <a:pt x="90" y="831"/>
                  </a:lnTo>
                  <a:lnTo>
                    <a:pt x="44" y="771"/>
                  </a:lnTo>
                  <a:lnTo>
                    <a:pt x="10" y="708"/>
                  </a:lnTo>
                  <a:lnTo>
                    <a:pt x="0" y="643"/>
                  </a:lnTo>
                  <a:lnTo>
                    <a:pt x="0" y="336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560" y="3029040"/>
              <a:ext cx="906480" cy="1560600"/>
            </a:xfrm>
            <a:custGeom>
              <a:avLst/>
              <a:gdLst/>
              <a:ahLst/>
              <a:rect l="l" t="t" r="r" b="b"/>
              <a:pathLst>
                <a:path w="571" h="983">
                  <a:moveTo>
                    <a:pt x="0" y="326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6"/>
                  </a:lnTo>
                  <a:lnTo>
                    <a:pt x="564" y="115"/>
                  </a:lnTo>
                  <a:lnTo>
                    <a:pt x="570" y="141"/>
                  </a:lnTo>
                  <a:lnTo>
                    <a:pt x="570" y="835"/>
                  </a:lnTo>
                  <a:lnTo>
                    <a:pt x="564" y="866"/>
                  </a:lnTo>
                  <a:lnTo>
                    <a:pt x="557" y="895"/>
                  </a:lnTo>
                  <a:lnTo>
                    <a:pt x="520" y="941"/>
                  </a:lnTo>
                  <a:lnTo>
                    <a:pt x="461" y="972"/>
                  </a:lnTo>
                  <a:lnTo>
                    <a:pt x="396" y="982"/>
                  </a:lnTo>
                  <a:lnTo>
                    <a:pt x="342" y="972"/>
                  </a:lnTo>
                  <a:lnTo>
                    <a:pt x="277" y="950"/>
                  </a:lnTo>
                  <a:lnTo>
                    <a:pt x="212" y="912"/>
                  </a:lnTo>
                  <a:lnTo>
                    <a:pt x="150" y="866"/>
                  </a:lnTo>
                  <a:lnTo>
                    <a:pt x="90" y="816"/>
                  </a:lnTo>
                  <a:lnTo>
                    <a:pt x="44" y="756"/>
                  </a:lnTo>
                  <a:lnTo>
                    <a:pt x="10" y="693"/>
                  </a:lnTo>
                  <a:lnTo>
                    <a:pt x="0" y="629"/>
                  </a:lnTo>
                  <a:lnTo>
                    <a:pt x="0" y="326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560" y="3043080"/>
              <a:ext cx="906480" cy="1522440"/>
            </a:xfrm>
            <a:custGeom>
              <a:avLst/>
              <a:gdLst/>
              <a:ahLst/>
              <a:rect l="l" t="t" r="r" b="b"/>
              <a:pathLst>
                <a:path w="571" h="959">
                  <a:moveTo>
                    <a:pt x="0" y="321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1"/>
                  </a:lnTo>
                  <a:lnTo>
                    <a:pt x="564" y="110"/>
                  </a:lnTo>
                  <a:lnTo>
                    <a:pt x="570" y="136"/>
                  </a:lnTo>
                  <a:lnTo>
                    <a:pt x="570" y="821"/>
                  </a:lnTo>
                  <a:lnTo>
                    <a:pt x="564" y="847"/>
                  </a:lnTo>
                  <a:lnTo>
                    <a:pt x="557" y="876"/>
                  </a:lnTo>
                  <a:lnTo>
                    <a:pt x="520" y="917"/>
                  </a:lnTo>
                  <a:lnTo>
                    <a:pt x="461" y="950"/>
                  </a:lnTo>
                  <a:lnTo>
                    <a:pt x="396" y="958"/>
                  </a:lnTo>
                  <a:lnTo>
                    <a:pt x="342" y="950"/>
                  </a:lnTo>
                  <a:lnTo>
                    <a:pt x="277" y="926"/>
                  </a:lnTo>
                  <a:lnTo>
                    <a:pt x="212" y="895"/>
                  </a:lnTo>
                  <a:lnTo>
                    <a:pt x="150" y="847"/>
                  </a:lnTo>
                  <a:lnTo>
                    <a:pt x="90" y="797"/>
                  </a:lnTo>
                  <a:lnTo>
                    <a:pt x="44" y="739"/>
                  </a:lnTo>
                  <a:lnTo>
                    <a:pt x="10" y="679"/>
                  </a:lnTo>
                  <a:lnTo>
                    <a:pt x="0" y="614"/>
                  </a:lnTo>
                  <a:lnTo>
                    <a:pt x="0" y="32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09520" y="3041640"/>
              <a:ext cx="25416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7440" y="3041640"/>
              <a:ext cx="230400" cy="21744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7440" y="3041640"/>
              <a:ext cx="222480" cy="20160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7440" y="3049560"/>
              <a:ext cx="212760" cy="19368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7440" y="3049560"/>
              <a:ext cx="204840" cy="18720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7440" y="3049560"/>
              <a:ext cx="196920" cy="18252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7440" y="3049560"/>
              <a:ext cx="189000" cy="1746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5360" y="3057480"/>
              <a:ext cx="165240" cy="152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9520" y="4410000"/>
              <a:ext cx="254160" cy="2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7440" y="4410000"/>
              <a:ext cx="230400" cy="21276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4417920"/>
              <a:ext cx="222480" cy="20484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417920"/>
              <a:ext cx="212760" cy="1983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7440" y="4417920"/>
              <a:ext cx="204840" cy="190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7440" y="4425840"/>
              <a:ext cx="196920" cy="16668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17440" y="4425840"/>
              <a:ext cx="189000" cy="1666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25360" y="4425840"/>
              <a:ext cx="165240" cy="158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2541600"/>
              <a:ext cx="1431720" cy="2535120"/>
            </a:xfrm>
            <a:custGeom>
              <a:avLst/>
              <a:gdLst/>
              <a:ahLst/>
              <a:rect l="l" t="t" r="r" b="b"/>
              <a:pathLst>
                <a:path w="902" h="1597">
                  <a:moveTo>
                    <a:pt x="0" y="614"/>
                  </a:moveTo>
                  <a:lnTo>
                    <a:pt x="401" y="504"/>
                  </a:lnTo>
                  <a:lnTo>
                    <a:pt x="714" y="537"/>
                  </a:lnTo>
                  <a:lnTo>
                    <a:pt x="714" y="50"/>
                  </a:lnTo>
                  <a:lnTo>
                    <a:pt x="901" y="0"/>
                  </a:lnTo>
                  <a:lnTo>
                    <a:pt x="901" y="1596"/>
                  </a:lnTo>
                  <a:lnTo>
                    <a:pt x="714" y="1569"/>
                  </a:lnTo>
                  <a:lnTo>
                    <a:pt x="714" y="1077"/>
                  </a:lnTo>
                  <a:lnTo>
                    <a:pt x="401" y="1111"/>
                  </a:lnTo>
                  <a:lnTo>
                    <a:pt x="0" y="996"/>
                  </a:lnTo>
                  <a:lnTo>
                    <a:pt x="0" y="61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5480" y="2523960"/>
              <a:ext cx="95400" cy="2571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000" y="3411360"/>
              <a:ext cx="618840" cy="839880"/>
            </a:xfrm>
            <a:custGeom>
              <a:avLst/>
              <a:gdLst/>
              <a:ahLst/>
              <a:rect l="l" t="t" r="r" b="b"/>
              <a:pathLst>
                <a:path w="390" h="529">
                  <a:moveTo>
                    <a:pt x="389" y="0"/>
                  </a:moveTo>
                  <a:lnTo>
                    <a:pt x="0" y="96"/>
                  </a:lnTo>
                  <a:lnTo>
                    <a:pt x="5" y="436"/>
                  </a:lnTo>
                  <a:lnTo>
                    <a:pt x="383" y="528"/>
                  </a:lnTo>
                  <a:lnTo>
                    <a:pt x="59" y="405"/>
                  </a:lnTo>
                  <a:lnTo>
                    <a:pt x="59" y="115"/>
                  </a:lnTo>
                  <a:lnTo>
                    <a:pt x="389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36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4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32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40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888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82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156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948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Task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0880" y="2460600"/>
            <a:ext cx="634680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) Get a grip on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) Home Ban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) Secure Messaging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880" y="1981080"/>
            <a:ext cx="78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Crypt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840" y="2384280"/>
            <a:ext cx="333072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er’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2760" y="2384280"/>
            <a:ext cx="333504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/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nt/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/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9360" y="4552920"/>
            <a:ext cx="8013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171880" indent="-217188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3120" y="5753160"/>
            <a:ext cx="801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8000"/>
          </a:bodyPr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Concepts to Practices - Cryptographic An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325600"/>
            <a:ext cx="38638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yptographic Constru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Envel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0080" y="2325600"/>
            <a:ext cx="44992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vacy, Pro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nt, Authorization,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200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in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RSA%20BSAFE%20diagram1" descr=""/>
          <p:cNvPicPr/>
          <p:nvPr/>
        </p:nvPicPr>
        <p:blipFill>
          <a:blip r:embed="rId1"/>
          <a:stretch/>
        </p:blipFill>
        <p:spPr>
          <a:xfrm>
            <a:off x="765000" y="1973160"/>
            <a:ext cx="7764480" cy="3337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7091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de a Crypto St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200" y="1234800"/>
            <a:ext cx="838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7200" y="1387440"/>
            <a:ext cx="838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CryptoC%20framework" descr=""/>
          <p:cNvPicPr/>
          <p:nvPr/>
        </p:nvPicPr>
        <p:blipFill>
          <a:blip r:embed="rId1"/>
          <a:stretch/>
        </p:blipFill>
        <p:spPr>
          <a:xfrm>
            <a:off x="2590920" y="1359000"/>
            <a:ext cx="37209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8:45:54Z</dcterms:created>
  <dc:creator>BGrainge</dc:creator>
  <dc:description/>
  <dc:language>en-US</dc:language>
  <cp:lastModifiedBy>Tim Matthews</cp:lastModifiedBy>
  <cp:lastPrinted>1999-11-01T23:24:49Z</cp:lastPrinted>
  <dcterms:modified xsi:type="dcterms:W3CDTF">2000-01-11T02:41:20Z</dcterms:modified>
  <cp:revision>141</cp:revision>
  <dc:subject/>
  <dc:title>Security Dynamics Product Strategy</dc:title>
</cp:coreProperties>
</file>