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564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6920" y="8786520"/>
            <a:ext cx="105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F1B1-3A5D-4E7D-A426-492B22C0CBF2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ood afternoon.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documents listed here are currently available.  The ISSP/CPS, which has already been described,  provides a doctrinal framework for CAW operations.  The Concept of Operations (CONOP) provides a broad overview of how the entire infrastructure is intended to work; the CAW Establishment Guide gives step-by-step instructions on how to request and establish a CAW at a user site; an date CAW Procedural Handbook provides keystroke-level instructions for performing certificate management functions on the CAW platform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hallenge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Provide Certification Authority with appropriate privilege set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olution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Allow local specification of other privileges with third party approval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echnical Mechanism:</a:t>
            </a: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  The Root CA establishes the privileges of  the 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subordinate CA via a root CA generated and digitally signed configuration fi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re are several aspects to establishing and operating a secure CMI capability, and there is documentation and guidance available to assist the user community in completing the proces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major areas that require that need to be understood by community wishing to establish a CA are: documentation; approving authorities; role identification; Certification Authority training; and local management responsibiliti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promised Key List -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hot list” concep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out to user community &amp; post to ser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s did not support the needed protocol to rece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ertificate revocation li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sh Distribution by security management infrastructure to end users is hard to completely impl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mature standar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Application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Pulling by user community provides user with latest list of compromised keys but if  end users  have to take explicit action they probably won’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Futur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Combination of approaches - servers (web and directory), self-subscribing mail lists, direct mai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ack the activities of the Certification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rmine if CA is creating certificates as requi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etect any improper activitie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circumvent privile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ttempts to modify the CAW appl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properly labeled e-mail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ailure to encrypt/verify messa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ck the activities of other users on the CAW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System Administrator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other software applications (e.g. Administrative Directory User Agent for Directory application, SMTP e-mail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n-repudiation - property of an act whereby  you cannot say that you didn’t do i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- nonrepudiable act whereby I uncontestable agree to the contents of the docu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hysical signature combined with the judicial  nonrepudiability of the act of signing, property of legislation and case la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og/audit of key histories that have been issued to me , so if you need to see if a document I signed 5 years ago really used a key that belonged to me th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ovide high assurance secu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 hardware tokens for end-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caleable to 3 million us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mmediate PKI serv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ed network access for certificate management fun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lexible &amp; deploy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Challenge:  Reconstitute infrastructure components and operations in case of site disaster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Solution:  Dedicated back-up site for top levels of hierarchy (PAA &amp; PCA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Formal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Periodically exercise Emergency Action Pla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Book Antiqua"/>
              </a:rPr>
              <a:t>Local procedures requiring off-site storage of CA system back-u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eed a complete solution - PKI, certificate repository, applications and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Limit the number of CAs to the smallest number required for operational sup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User education in registration and operational requirements is mandator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imely dissemination of Compromise management &amp; certificate revocation is hard to do on a large sca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Meaningful Audit Analysis is a tough problem - 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Is it solvable?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Archive is a needed servi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Legal issues are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Technical issues are solvabl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ross Certifi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y and legal issues param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issues solved within PKI.  Apps support is TB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isaster Recovery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echnical Assistance - Need to plan for and fund i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Transition to new policy - US DoD Certificate Polic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Version 3 Certificates and V2 CRLs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enhanced access controls utilizing certificate extensions and  Security Policy Information F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Book Antiqua"/>
              </a:rPr>
              <a:t>Implement Indirect Certificate Revocation List Author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V1 Jumbo x.509 certific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arate keys for encryption and digital signa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ertificate Authority Workst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ustom developed certificate authority softwa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ed operating system (SCO CMW+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ortezza hardware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x.500 directory syste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 PA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6 PC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DoD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oD Top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BU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ivil Secr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telligen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ppx. 300 CAs - split between SBU and Secret with a handful in the other categor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imary purpose is to establish TRU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who I say I am </a:t>
            </a:r>
            <a:r>
              <a:rPr b="0" lang="en-US" sz="1200" spc="-1" strike="noStrike">
                <a:solidFill>
                  <a:srgbClr val="fc0128"/>
                </a:solidFill>
                <a:latin typeface="Book Antiqua"/>
              </a:rPr>
              <a:t>(identification and authentication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hold the private key that corresponds to the public key in my certificate (binding of key to ID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that I am allowed to be a part of the community (access control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036800" y="695160"/>
            <a:ext cx="4582800" cy="343728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887400" y="4368960"/>
            <a:ext cx="4881600" cy="41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rust is a product of a strong technical foundation - O/S, Apps SW and HW toke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Robust Security archite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licies/Procedures/Pract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1BB-23DD-462E-A187-F0AAB6CB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D52-441B-4861-B4FF-B552A8D3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930-4A54-4178-B939-3667E40A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2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511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C04-FF53-4ABE-A2B4-4FB7FC9B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ECF-5F50-4D83-B271-495C0407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69B-5688-4F49-978A-D7F5323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BE8-810E-46E0-8088-C7E3CD94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71C0-C6EC-49A7-BC26-E3F5A12C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851-3210-4A98-BF51-95E634E2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B56-4381-4BDE-AC4B-BD6457D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511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B57-14B9-4D89-8A7C-0C3168A8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2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511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136-13E1-4211-A245-B11FD8D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ac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B32B-7257-474B-9E46-B53E9009D46F}" type="slidenum">
              <a:rPr b="0" lang="en-US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5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6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6.wmf"/><Relationship Id="rId4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8.wmf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648320"/>
            <a:ext cx="556272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etrina Gill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(410)854-4527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Arial"/>
              </a:rPr>
              <a:t>plgillm@radium.ncsc.mi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3352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77760" rIns="77760" tIns="39600" bIns="396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epartment of Defense</a:t>
            </a:r>
            <a:br>
              <a:rPr sz="4400"/>
            </a:b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High Assurance PKI Implementation &amp; Operations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RSA Conference</a:t>
            </a:r>
            <a:r>
              <a:rPr b="1" i="1" lang="en-U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7 January 2000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1143000" y="533520"/>
            <a:ext cx="6934320" cy="84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1" name=""/>
          <p:cNvSpPr/>
          <p:nvPr/>
        </p:nvSpPr>
        <p:spPr>
          <a:xfrm>
            <a:off x="2209680" y="2438280"/>
            <a:ext cx="4876920" cy="28958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noAutofit/>
          </a:bodyPr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 Secure and trustworthy certificate management operations across a distributed infrastructure of over 700 Certification Authoritie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datory Initial and Upgrade Training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rehensive operational documentation and procedures</a:t>
            </a:r>
            <a:endParaRPr b="1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3808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4" name=""/>
          <p:cNvSpPr/>
          <p:nvPr/>
        </p:nvSpPr>
        <p:spPr>
          <a:xfrm>
            <a:off x="495360" y="3619440"/>
            <a:ext cx="815328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5" name=""/>
          <p:cNvSpPr/>
          <p:nvPr/>
        </p:nvSpPr>
        <p:spPr>
          <a:xfrm>
            <a:off x="152280" y="914400"/>
            <a:ext cx="8915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Distributed PKI Opera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Security Policy/Certification Practice Statement 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Infrastructure Concept of Operations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Authority Establishment Guide</a:t>
            </a:r>
            <a:br>
              <a:rPr sz="2600"/>
            </a:b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eaeaea"/>
                </a:solidFill>
                <a:latin typeface="Arial"/>
              </a:rPr>
              <a:t>Certification  Authority Procedural Handbook</a:t>
            </a:r>
            <a:endParaRPr b="1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94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ertificate Management Operational Polic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Trusted process for enroll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w Certification Authori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Implemented process requiring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n accountable third party to authoriz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reque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04920" y="5335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Trusted CA Establishment Proces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rivilege Management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Provide Certific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Authority with appropriate privilege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Solut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policy setting minimums for security critical privileges.  Allow local specification of other privileges with third party approval.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Technical Mechanis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The Root CA establishes privileges of  the subordinate CA by generating and digitally signing a configuration fil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Establish a process which promotes and supports the PKI security goal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HARD PROBLEM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Direct trade-off between security and operational flexibility/ease-of-us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 Narrow"/>
              </a:rPr>
              <a:t>Decision:</a:t>
            </a: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  Security requires in-person verification through contact with Certification Authority/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egistration Authorit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ser Registration Process</a:t>
            </a: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742680" y="2286000"/>
            <a:ext cx="779148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ffective mechanisms for removing users from the infrastructur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wo list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ertificate revocation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d Key Lis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Lessons Learned</a:t>
            </a:r>
            <a:br>
              <a:rPr sz="40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romise Management &amp; Certificate Revocation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sh Distribution by PKI to users is hard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Pulling by users is unlikely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ar-term solutions:  Servers (web and directory), Self-subscribing mail lists, direct mail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Significant technical and operational challeng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666880" y="685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udit</a:t>
            </a:r>
            <a:endParaRPr b="1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  Ensure only authorized individuals performing  authorized actions.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SSO audit of CA with audit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Root CA audit of subordinate CAs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Goals: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User friendly audit processing tool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On-line audit system for PKI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04920" y="21337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ong-term archival storage of certificate management information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im Solution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:  Weekly storage of complete system backups and signed archive utility data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Goal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Legal system and technologist partnership to devise permanent sol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666880" y="68580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Arial"/>
              </a:rPr>
              <a:t>Archiv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perational Requirement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Provide high assurance secu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Scaleable to 2 million user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mmediate PKI servic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lexible &amp; deployabl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2247840" y="152388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3" name=""/>
          <p:cNvSpPr/>
          <p:nvPr/>
        </p:nvSpPr>
        <p:spPr>
          <a:xfrm>
            <a:off x="1143000" y="380880"/>
            <a:ext cx="6781680" cy="5257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4" name=""/>
          <p:cNvSpPr/>
          <p:nvPr/>
        </p:nvSpPr>
        <p:spPr>
          <a:xfrm>
            <a:off x="1895400" y="6019920"/>
            <a:ext cx="5648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"/>
              </a:rPr>
              <a:t>Cross Certification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FORTEZZA U.S. Government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Policy Approving Authority</a:t>
            </a:r>
            <a:endParaRPr b="1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1376280" y="3632040"/>
            <a:ext cx="1400400" cy="538200"/>
            <a:chOff x="1376280" y="3632040"/>
            <a:chExt cx="1400400" cy="538200"/>
          </a:xfrm>
        </p:grpSpPr>
        <p:graphicFrame>
          <p:nvGraphicFramePr>
            <p:cNvPr id="1257" name=""/>
            <p:cNvGraphicFramePr/>
            <p:nvPr/>
          </p:nvGraphicFramePr>
          <p:xfrm>
            <a:off x="1851120" y="3632040"/>
            <a:ext cx="609480" cy="53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51120" y="3632040"/>
                      <a:ext cx="6094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9" name=""/>
            <p:cNvGraphicFramePr/>
            <p:nvPr/>
          </p:nvGraphicFramePr>
          <p:xfrm>
            <a:off x="1376280" y="3713040"/>
            <a:ext cx="505080" cy="384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6280" y="3713040"/>
                      <a:ext cx="50508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1" name=""/>
            <p:cNvGrpSpPr/>
            <p:nvPr/>
          </p:nvGrpSpPr>
          <p:grpSpPr>
            <a:xfrm>
              <a:off x="2475000" y="3897360"/>
              <a:ext cx="301680" cy="181080"/>
              <a:chOff x="2475000" y="3897360"/>
              <a:chExt cx="301680" cy="181080"/>
            </a:xfrm>
          </p:grpSpPr>
          <p:graphicFrame>
            <p:nvGraphicFramePr>
              <p:cNvPr id="1262" name=""/>
              <p:cNvGraphicFramePr/>
              <p:nvPr/>
            </p:nvGraphicFramePr>
            <p:xfrm>
              <a:off x="2481120" y="3989520"/>
              <a:ext cx="295560" cy="88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26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81120" y="3989520"/>
                        <a:ext cx="29556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64" name=""/>
              <p:cNvGraphicFramePr/>
              <p:nvPr/>
            </p:nvGraphicFramePr>
            <p:xfrm>
              <a:off x="2475000" y="3897360"/>
              <a:ext cx="295200" cy="87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265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75000" y="389736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66" name=""/>
          <p:cNvGrpSpPr/>
          <p:nvPr/>
        </p:nvGrpSpPr>
        <p:grpSpPr>
          <a:xfrm>
            <a:off x="1371600" y="1879560"/>
            <a:ext cx="1671480" cy="787320"/>
            <a:chOff x="1371600" y="1879560"/>
            <a:chExt cx="1671480" cy="787320"/>
          </a:xfrm>
        </p:grpSpPr>
        <p:graphicFrame>
          <p:nvGraphicFramePr>
            <p:cNvPr id="1267" name=""/>
            <p:cNvGraphicFramePr/>
            <p:nvPr/>
          </p:nvGraphicFramePr>
          <p:xfrm>
            <a:off x="1960560" y="1879560"/>
            <a:ext cx="57780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60560" y="1879560"/>
                      <a:ext cx="57780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1371600" y="2075040"/>
            <a:ext cx="577800" cy="561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075040"/>
                      <a:ext cx="57780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2465280" y="2401920"/>
            <a:ext cx="577800" cy="1303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65280" y="2401920"/>
                      <a:ext cx="577800" cy="13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"/>
            <p:cNvGraphicFramePr/>
            <p:nvPr/>
          </p:nvGraphicFramePr>
          <p:xfrm>
            <a:off x="2465280" y="2266920"/>
            <a:ext cx="577800" cy="127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465280" y="2266920"/>
                      <a:ext cx="577800" cy="12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75" name=""/>
          <p:cNvSpPr/>
          <p:nvPr/>
        </p:nvSpPr>
        <p:spPr>
          <a:xfrm>
            <a:off x="573120" y="2654280"/>
            <a:ext cx="3693960" cy="4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1447920" y="355680"/>
            <a:ext cx="1400040" cy="538200"/>
            <a:chOff x="1447920" y="355680"/>
            <a:chExt cx="1400040" cy="538200"/>
          </a:xfrm>
        </p:grpSpPr>
        <p:graphicFrame>
          <p:nvGraphicFramePr>
            <p:cNvPr id="1277" name=""/>
            <p:cNvGraphicFramePr/>
            <p:nvPr/>
          </p:nvGraphicFramePr>
          <p:xfrm>
            <a:off x="1922400" y="355680"/>
            <a:ext cx="609840" cy="538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2400" y="355680"/>
                      <a:ext cx="60984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9" name=""/>
            <p:cNvGraphicFramePr/>
            <p:nvPr/>
          </p:nvGraphicFramePr>
          <p:xfrm>
            <a:off x="1447920" y="436680"/>
            <a:ext cx="504720" cy="38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436680"/>
                      <a:ext cx="504720" cy="3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1" name=""/>
            <p:cNvGrpSpPr/>
            <p:nvPr/>
          </p:nvGrpSpPr>
          <p:grpSpPr>
            <a:xfrm>
              <a:off x="2546280" y="620640"/>
              <a:ext cx="301680" cy="181080"/>
              <a:chOff x="2546280" y="620640"/>
              <a:chExt cx="301680" cy="181080"/>
            </a:xfrm>
          </p:grpSpPr>
          <p:graphicFrame>
            <p:nvGraphicFramePr>
              <p:cNvPr id="1282" name=""/>
              <p:cNvGraphicFramePr/>
              <p:nvPr/>
            </p:nvGraphicFramePr>
            <p:xfrm>
              <a:off x="2552760" y="712800"/>
              <a:ext cx="295200" cy="8892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283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552760" y="712800"/>
                        <a:ext cx="295200" cy="88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84" name=""/>
              <p:cNvGraphicFramePr/>
              <p:nvPr/>
            </p:nvGraphicFramePr>
            <p:xfrm>
              <a:off x="2546280" y="620640"/>
              <a:ext cx="295200" cy="8712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28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2546280" y="620640"/>
                        <a:ext cx="295200" cy="8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286" name=""/>
          <p:cNvSpPr/>
          <p:nvPr/>
        </p:nvSpPr>
        <p:spPr>
          <a:xfrm>
            <a:off x="730080" y="4194000"/>
            <a:ext cx="3384720" cy="4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7" name=""/>
          <p:cNvSpPr/>
          <p:nvPr/>
        </p:nvSpPr>
        <p:spPr>
          <a:xfrm>
            <a:off x="1905120" y="5184720"/>
            <a:ext cx="71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5838840" y="3637080"/>
            <a:ext cx="1490760" cy="596880"/>
            <a:chOff x="5838840" y="3637080"/>
            <a:chExt cx="1490760" cy="596880"/>
          </a:xfrm>
        </p:grpSpPr>
        <p:graphicFrame>
          <p:nvGraphicFramePr>
            <p:cNvPr id="1289" name=""/>
            <p:cNvGraphicFramePr/>
            <p:nvPr/>
          </p:nvGraphicFramePr>
          <p:xfrm>
            <a:off x="6345360" y="3637080"/>
            <a:ext cx="647640" cy="5968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9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345360" y="3637080"/>
                      <a:ext cx="64764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1" name=""/>
            <p:cNvGraphicFramePr/>
            <p:nvPr/>
          </p:nvGraphicFramePr>
          <p:xfrm>
            <a:off x="5838840" y="3726000"/>
            <a:ext cx="538200" cy="42696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9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5838840" y="3726000"/>
                      <a:ext cx="538200" cy="42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93" name=""/>
            <p:cNvGrpSpPr/>
            <p:nvPr/>
          </p:nvGrpSpPr>
          <p:grpSpPr>
            <a:xfrm>
              <a:off x="7008840" y="3930480"/>
              <a:ext cx="320760" cy="201960"/>
              <a:chOff x="7008840" y="3930480"/>
              <a:chExt cx="320760" cy="201960"/>
            </a:xfrm>
          </p:grpSpPr>
          <p:graphicFrame>
            <p:nvGraphicFramePr>
              <p:cNvPr id="1294" name=""/>
              <p:cNvGraphicFramePr/>
              <p:nvPr/>
            </p:nvGraphicFramePr>
            <p:xfrm>
              <a:off x="7013520" y="4033800"/>
              <a:ext cx="316080" cy="98640"/>
            </p:xfrm>
            <a:graphic>
              <a:graphicData uri="http://schemas.openxmlformats.org/presentationml/2006/ole">
                <p:oleObj r:id="rId29" spid="">
                  <p:embed/>
                  <p:pic>
                    <p:nvPicPr>
                      <p:cNvPr id="1295" name="" descr=""/>
                      <p:cNvPicPr/>
                      <p:nvPr/>
                    </p:nvPicPr>
                    <p:blipFill>
                      <a:blip r:embed="rId30"/>
                      <a:stretch/>
                    </p:blipFill>
                    <p:spPr>
                      <a:xfrm>
                        <a:off x="7013520" y="4033800"/>
                        <a:ext cx="3160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296" name=""/>
              <p:cNvGraphicFramePr/>
              <p:nvPr/>
            </p:nvGraphicFramePr>
            <p:xfrm>
              <a:off x="7008840" y="3930480"/>
              <a:ext cx="312840" cy="96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297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7008840" y="3930480"/>
                        <a:ext cx="312840" cy="9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298" name=""/>
          <p:cNvGrpSpPr/>
          <p:nvPr/>
        </p:nvGrpSpPr>
        <p:grpSpPr>
          <a:xfrm>
            <a:off x="5753160" y="1685880"/>
            <a:ext cx="1778040" cy="876240"/>
            <a:chOff x="5753160" y="1685880"/>
            <a:chExt cx="1778040" cy="876240"/>
          </a:xfrm>
        </p:grpSpPr>
        <p:graphicFrame>
          <p:nvGraphicFramePr>
            <p:cNvPr id="1299" name=""/>
            <p:cNvGraphicFramePr/>
            <p:nvPr/>
          </p:nvGraphicFramePr>
          <p:xfrm>
            <a:off x="6378480" y="1685880"/>
            <a:ext cx="612720" cy="8762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00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378480" y="1685880"/>
                      <a:ext cx="612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1" name=""/>
            <p:cNvGraphicFramePr/>
            <p:nvPr/>
          </p:nvGraphicFramePr>
          <p:xfrm>
            <a:off x="5753160" y="1903320"/>
            <a:ext cx="614160" cy="6256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302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5753160" y="1903320"/>
                      <a:ext cx="614160" cy="62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3" name=""/>
            <p:cNvGraphicFramePr/>
            <p:nvPr/>
          </p:nvGraphicFramePr>
          <p:xfrm>
            <a:off x="6915240" y="2266920"/>
            <a:ext cx="615960" cy="14436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304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915240" y="2266920"/>
                      <a:ext cx="6159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5" name=""/>
            <p:cNvGraphicFramePr/>
            <p:nvPr/>
          </p:nvGraphicFramePr>
          <p:xfrm>
            <a:off x="6915240" y="2117880"/>
            <a:ext cx="615960" cy="14112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306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6915240" y="2117880"/>
                      <a:ext cx="615960" cy="14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07" name=""/>
          <p:cNvSpPr/>
          <p:nvPr/>
        </p:nvSpPr>
        <p:spPr>
          <a:xfrm>
            <a:off x="5105520" y="2624040"/>
            <a:ext cx="327636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Policy Cre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8" name=""/>
          <p:cNvSpPr/>
          <p:nvPr/>
        </p:nvSpPr>
        <p:spPr>
          <a:xfrm>
            <a:off x="6378480" y="1433520"/>
            <a:ext cx="22320" cy="3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829480" y="355680"/>
            <a:ext cx="1339560" cy="598320"/>
            <a:chOff x="5829480" y="355680"/>
            <a:chExt cx="1339560" cy="598320"/>
          </a:xfrm>
        </p:grpSpPr>
        <p:graphicFrame>
          <p:nvGraphicFramePr>
            <p:cNvPr id="1310" name=""/>
            <p:cNvGraphicFramePr/>
            <p:nvPr/>
          </p:nvGraphicFramePr>
          <p:xfrm>
            <a:off x="6269040" y="355680"/>
            <a:ext cx="647640" cy="59832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269040" y="355680"/>
                      <a:ext cx="64764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2" name=""/>
            <p:cNvGraphicFramePr/>
            <p:nvPr/>
          </p:nvGraphicFramePr>
          <p:xfrm>
            <a:off x="5829480" y="369720"/>
            <a:ext cx="536400" cy="42732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829480" y="369720"/>
                      <a:ext cx="536400" cy="42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14" name=""/>
            <p:cNvGrpSpPr/>
            <p:nvPr/>
          </p:nvGrpSpPr>
          <p:grpSpPr>
            <a:xfrm>
              <a:off x="6846840" y="573120"/>
              <a:ext cx="322200" cy="201600"/>
              <a:chOff x="6846840" y="573120"/>
              <a:chExt cx="322200" cy="201600"/>
            </a:xfrm>
          </p:grpSpPr>
          <p:graphicFrame>
            <p:nvGraphicFramePr>
              <p:cNvPr id="1315" name=""/>
              <p:cNvGraphicFramePr/>
              <p:nvPr/>
            </p:nvGraphicFramePr>
            <p:xfrm>
              <a:off x="6854760" y="676440"/>
              <a:ext cx="314280" cy="98280"/>
            </p:xfrm>
            <a:graphic>
              <a:graphicData uri="http://schemas.openxmlformats.org/presentationml/2006/ole">
                <p:oleObj r:id="rId45" spid="">
                  <p:embed/>
                  <p:pic>
                    <p:nvPicPr>
                      <p:cNvPr id="1316" name="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6854760" y="676440"/>
                        <a:ext cx="314280" cy="9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7" name=""/>
              <p:cNvGraphicFramePr/>
              <p:nvPr/>
            </p:nvGraphicFramePr>
            <p:xfrm>
              <a:off x="6846840" y="573120"/>
              <a:ext cx="314280" cy="98640"/>
            </p:xfrm>
            <a:graphic>
              <a:graphicData uri="http://schemas.openxmlformats.org/presentationml/2006/ole">
                <p:oleObj r:id="rId47" spid="">
                  <p:embed/>
                  <p:pic>
                    <p:nvPicPr>
                      <p:cNvPr id="1318" name="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6846840" y="573120"/>
                        <a:ext cx="314280" cy="98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19" name=""/>
          <p:cNvSpPr/>
          <p:nvPr/>
        </p:nvSpPr>
        <p:spPr>
          <a:xfrm>
            <a:off x="5392800" y="4260960"/>
            <a:ext cx="3065400" cy="50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0" name=""/>
          <p:cNvSpPr/>
          <p:nvPr/>
        </p:nvSpPr>
        <p:spPr>
          <a:xfrm>
            <a:off x="6324480" y="5133960"/>
            <a:ext cx="82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1" name=""/>
          <p:cNvSpPr/>
          <p:nvPr/>
        </p:nvSpPr>
        <p:spPr>
          <a:xfrm>
            <a:off x="224784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2" name=""/>
          <p:cNvSpPr/>
          <p:nvPr/>
        </p:nvSpPr>
        <p:spPr>
          <a:xfrm>
            <a:off x="224784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3" name=""/>
          <p:cNvSpPr/>
          <p:nvPr/>
        </p:nvSpPr>
        <p:spPr>
          <a:xfrm>
            <a:off x="6705720" y="31240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4" name=""/>
          <p:cNvSpPr/>
          <p:nvPr/>
        </p:nvSpPr>
        <p:spPr>
          <a:xfrm>
            <a:off x="6705720" y="4724280"/>
            <a:ext cx="0" cy="38124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5" name=""/>
          <p:cNvSpPr/>
          <p:nvPr/>
        </p:nvSpPr>
        <p:spPr>
          <a:xfrm>
            <a:off x="3886200" y="1371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6" name=""/>
          <p:cNvSpPr/>
          <p:nvPr/>
        </p:nvSpPr>
        <p:spPr>
          <a:xfrm>
            <a:off x="3276720" y="2286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7" name=""/>
          <p:cNvSpPr/>
          <p:nvPr/>
        </p:nvSpPr>
        <p:spPr>
          <a:xfrm>
            <a:off x="2590920" y="33526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8" name=""/>
          <p:cNvSpPr/>
          <p:nvPr/>
        </p:nvSpPr>
        <p:spPr>
          <a:xfrm>
            <a:off x="4800600" y="965160"/>
            <a:ext cx="38480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7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Root Certification Authority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9" name=""/>
          <p:cNvSpPr/>
          <p:nvPr/>
        </p:nvSpPr>
        <p:spPr>
          <a:xfrm>
            <a:off x="3505320" y="812880"/>
            <a:ext cx="2057400" cy="0"/>
          </a:xfrm>
          <a:prstGeom prst="line">
            <a:avLst/>
          </a:prstGeom>
          <a:ln w="28440">
            <a:solidFill>
              <a:srgbClr val="cc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0" name=""/>
          <p:cNvSpPr/>
          <p:nvPr/>
        </p:nvSpPr>
        <p:spPr>
          <a:xfrm>
            <a:off x="6705720" y="1371600"/>
            <a:ext cx="0" cy="304920"/>
          </a:xfrm>
          <a:prstGeom prst="line">
            <a:avLst/>
          </a:prstGeom>
          <a:ln w="38160">
            <a:solidFill>
              <a:srgbClr val="cc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Rebuild infrastructure components and operations in case 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of site disaster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Solution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dicated back-up site for Root CA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levels of hierarchy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ff-site storage of CA system backup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85800" y="5842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Disaster Recover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ustomer Support/Technical Assistance Center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54380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allenge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Provide end users and certification authorities with  technical assistance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1752480" y="3521160"/>
            <a:ext cx="6019920" cy="26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4/7 Telephone suppor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-mail Support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eb site documentation and form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ax-back support via Enterprise</a:t>
            </a:r>
            <a:br>
              <a:rPr sz="2400"/>
            </a:b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munication Serv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ed Ex or U.S. Postal Serv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ed a complete solu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imit the number of CA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datory user educ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Large scale, timely dissemination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of compromise management and certificate revocation is difficul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719033" descr=""/>
          <p:cNvPicPr/>
          <p:nvPr/>
        </p:nvPicPr>
        <p:blipFill>
          <a:blip r:embed="rId1"/>
          <a:stretch/>
        </p:blipFill>
        <p:spPr>
          <a:xfrm>
            <a:off x="6705720" y="149400"/>
            <a:ext cx="2286000" cy="152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1536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Meaningful Audit Analysis is tough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rchive Requirements must be defined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ross Certification Operational Feasibility Unclear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Disaster Recove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ed to plan and fund Technical Assistanc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hat’s next in 2000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ansition PKI to new certificate policy and practice statement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w software support for Version 3 Certificates and V2 CRLs 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nhanced access control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Implement Indirect Certificate Revocation List Authority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Selected Technology - 1995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8195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V1 Jumbo x.509 certificate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Certification Authority Workstation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Fortezza hardware tokens</a:t>
            </a: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04920" y="3994200"/>
            <a:ext cx="2743200" cy="1544040"/>
            <a:chOff x="304920" y="3994200"/>
            <a:chExt cx="2743200" cy="1544040"/>
          </a:xfrm>
        </p:grpSpPr>
        <p:sp>
          <p:nvSpPr>
            <p:cNvPr id="53" name=""/>
            <p:cNvSpPr/>
            <p:nvPr/>
          </p:nvSpPr>
          <p:spPr>
            <a:xfrm>
              <a:off x="304920" y="526572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143000" y="3994200"/>
              <a:ext cx="5335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09480" y="4408560"/>
              <a:ext cx="968400" cy="813600"/>
              <a:chOff x="609480" y="4408560"/>
              <a:chExt cx="968400" cy="813600"/>
            </a:xfrm>
          </p:grpSpPr>
          <p:graphicFrame>
            <p:nvGraphicFramePr>
              <p:cNvPr id="56" name=""/>
              <p:cNvGraphicFramePr/>
              <p:nvPr/>
            </p:nvGraphicFramePr>
            <p:xfrm>
              <a:off x="609480" y="4489560"/>
              <a:ext cx="968400" cy="7326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9480" y="4489560"/>
                        <a:ext cx="968400" cy="73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8" name=""/>
              <p:cNvSpPr/>
              <p:nvPr/>
            </p:nvSpPr>
            <p:spPr>
              <a:xfrm>
                <a:off x="660240" y="4408560"/>
                <a:ext cx="49860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683800" y="457200"/>
            <a:ext cx="3109680" cy="1010880"/>
            <a:chOff x="2683800" y="457200"/>
            <a:chExt cx="3109680" cy="1010880"/>
          </a:xfrm>
        </p:grpSpPr>
        <p:grpSp>
          <p:nvGrpSpPr>
            <p:cNvPr id="60" name=""/>
            <p:cNvGrpSpPr/>
            <p:nvPr/>
          </p:nvGrpSpPr>
          <p:grpSpPr>
            <a:xfrm>
              <a:off x="3581280" y="457200"/>
              <a:ext cx="1084320" cy="388800"/>
              <a:chOff x="3581280" y="457200"/>
              <a:chExt cx="1084320" cy="388800"/>
            </a:xfrm>
          </p:grpSpPr>
          <p:graphicFrame>
            <p:nvGraphicFramePr>
              <p:cNvPr id="61" name=""/>
              <p:cNvGraphicFramePr/>
              <p:nvPr/>
            </p:nvGraphicFramePr>
            <p:xfrm>
              <a:off x="3949560" y="457200"/>
              <a:ext cx="469800" cy="388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949560" y="457200"/>
                        <a:ext cx="469800" cy="38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3" name=""/>
              <p:cNvGraphicFramePr/>
              <p:nvPr/>
            </p:nvGraphicFramePr>
            <p:xfrm>
              <a:off x="3581280" y="515880"/>
              <a:ext cx="390240" cy="2782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81280" y="515880"/>
                        <a:ext cx="390240" cy="278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65" name=""/>
              <p:cNvGrpSpPr/>
              <p:nvPr/>
            </p:nvGrpSpPr>
            <p:grpSpPr>
              <a:xfrm>
                <a:off x="4431960" y="648720"/>
                <a:ext cx="233640" cy="131040"/>
                <a:chOff x="4431960" y="648720"/>
                <a:chExt cx="233640" cy="131040"/>
              </a:xfrm>
            </p:grpSpPr>
            <p:graphicFrame>
              <p:nvGraphicFramePr>
                <p:cNvPr id="66" name=""/>
                <p:cNvGraphicFramePr/>
                <p:nvPr/>
              </p:nvGraphicFramePr>
              <p:xfrm>
                <a:off x="4437000" y="716040"/>
                <a:ext cx="228600" cy="637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6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437000" y="71604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68" name=""/>
                <p:cNvGraphicFramePr/>
                <p:nvPr/>
              </p:nvGraphicFramePr>
              <p:xfrm>
                <a:off x="4431960" y="648720"/>
                <a:ext cx="228600" cy="655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9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431960" y="648720"/>
                          <a:ext cx="228600" cy="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70" name=""/>
            <p:cNvSpPr/>
            <p:nvPr/>
          </p:nvSpPr>
          <p:spPr>
            <a:xfrm>
              <a:off x="2683800" y="846360"/>
              <a:ext cx="31096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Approving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(PAA)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362320" y="3970440"/>
            <a:ext cx="1904760" cy="2012400"/>
            <a:chOff x="2362320" y="3970440"/>
            <a:chExt cx="1904760" cy="2012400"/>
          </a:xfrm>
        </p:grpSpPr>
        <p:sp>
          <p:nvSpPr>
            <p:cNvPr id="72" name=""/>
            <p:cNvSpPr/>
            <p:nvPr/>
          </p:nvSpPr>
          <p:spPr>
            <a:xfrm>
              <a:off x="2362320" y="3993840"/>
              <a:ext cx="1371600" cy="19890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970440"/>
              <a:ext cx="0" cy="193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419720" y="3924360"/>
            <a:ext cx="2743200" cy="1585440"/>
            <a:chOff x="4419720" y="3924360"/>
            <a:chExt cx="2743200" cy="1585440"/>
          </a:xfrm>
        </p:grpSpPr>
        <p:graphicFrame>
          <p:nvGraphicFramePr>
            <p:cNvPr id="75" name=""/>
            <p:cNvGraphicFramePr/>
            <p:nvPr/>
          </p:nvGraphicFramePr>
          <p:xfrm>
            <a:off x="5181480" y="4491000"/>
            <a:ext cx="968400" cy="735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81480" y="4491000"/>
                      <a:ext cx="96840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29200" y="3924360"/>
              <a:ext cx="68580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19720" y="523728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400800" y="3665520"/>
            <a:ext cx="2743200" cy="1568160"/>
            <a:chOff x="6400800" y="3665520"/>
            <a:chExt cx="2743200" cy="1568160"/>
          </a:xfrm>
        </p:grpSpPr>
        <p:sp>
          <p:nvSpPr>
            <p:cNvPr id="80" name=""/>
            <p:cNvSpPr/>
            <p:nvPr/>
          </p:nvSpPr>
          <p:spPr>
            <a:xfrm>
              <a:off x="6400800" y="4961160"/>
              <a:ext cx="27432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440" rIns="2844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600"/>
                  <a:tab algn="l" pos="187200"/>
                  <a:tab algn="l" pos="281160"/>
                  <a:tab algn="l" pos="374760"/>
                  <a:tab algn="l" pos="468360"/>
                  <a:tab algn="l" pos="561960"/>
                  <a:tab algn="l" pos="655560"/>
                  <a:tab algn="l" pos="749160"/>
                  <a:tab algn="l" pos="843120"/>
                  <a:tab algn="l" pos="936720"/>
                  <a:tab algn="l" pos="1030320"/>
                  <a:tab algn="l" pos="1123920"/>
                  <a:tab algn="l" pos="1217520"/>
                  <a:tab algn="l" pos="1311120"/>
                  <a:tab algn="l" pos="1405080"/>
                  <a:tab algn="l" pos="1498680"/>
                  <a:tab algn="l" pos="1592280"/>
                  <a:tab algn="l" pos="1685880"/>
                  <a:tab algn="l" pos="1779480"/>
                  <a:tab algn="l" pos="187308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Arial"/>
                </a:rPr>
                <a:t>Registration  Authority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aphicFrame>
          <p:nvGraphicFramePr>
            <p:cNvPr id="81" name=""/>
            <p:cNvGraphicFramePr/>
            <p:nvPr/>
          </p:nvGraphicFramePr>
          <p:xfrm>
            <a:off x="7086600" y="4243320"/>
            <a:ext cx="866880" cy="711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086600" y="4243320"/>
                      <a:ext cx="8668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"/>
            <p:cNvSpPr/>
            <p:nvPr/>
          </p:nvSpPr>
          <p:spPr>
            <a:xfrm>
              <a:off x="7467480" y="3665520"/>
              <a:ext cx="0" cy="5796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600200" y="5319720"/>
            <a:ext cx="6324480" cy="1179000"/>
            <a:chOff x="1600200" y="5319720"/>
            <a:chExt cx="6324480" cy="1179000"/>
          </a:xfrm>
        </p:grpSpPr>
        <p:sp>
          <p:nvSpPr>
            <p:cNvPr id="85" name=""/>
            <p:cNvSpPr/>
            <p:nvPr/>
          </p:nvSpPr>
          <p:spPr>
            <a:xfrm>
              <a:off x="1600200" y="5983200"/>
              <a:ext cx="6324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                 </a:t>
              </a:r>
              <a:r>
                <a:rPr b="1" i="1" lang="en-US" sz="2800" spc="-1" strike="noStrike">
                  <a:solidFill>
                    <a:srgbClr val="eaeaea"/>
                  </a:solidFill>
                  <a:latin typeface="Arial"/>
                </a:rPr>
                <a:t>User Community</a:t>
              </a:r>
              <a:endParaRPr b="0" lang="en-US" sz="2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400800" y="5319720"/>
              <a:ext cx="1295280" cy="8283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5651280"/>
              <a:ext cx="1447560" cy="4964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720" y="5493960"/>
              <a:ext cx="0" cy="57924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370520" y="1343160"/>
            <a:ext cx="6115680" cy="1120320"/>
            <a:chOff x="1370520" y="1343160"/>
            <a:chExt cx="6115680" cy="1120320"/>
          </a:xfrm>
        </p:grpSpPr>
        <p:sp>
          <p:nvSpPr>
            <p:cNvPr id="90" name=""/>
            <p:cNvSpPr/>
            <p:nvPr/>
          </p:nvSpPr>
          <p:spPr>
            <a:xfrm>
              <a:off x="137052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209680" y="1757520"/>
              <a:ext cx="1084320" cy="388440"/>
              <a:chOff x="2209680" y="1757520"/>
              <a:chExt cx="1084320" cy="388440"/>
            </a:xfrm>
          </p:grpSpPr>
          <p:graphicFrame>
            <p:nvGraphicFramePr>
              <p:cNvPr id="92" name=""/>
              <p:cNvGraphicFramePr/>
              <p:nvPr/>
            </p:nvGraphicFramePr>
            <p:xfrm>
              <a:off x="2578320" y="1757520"/>
              <a:ext cx="471240" cy="3884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5783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4" name=""/>
              <p:cNvGraphicFramePr/>
              <p:nvPr/>
            </p:nvGraphicFramePr>
            <p:xfrm>
              <a:off x="2209680" y="1816200"/>
              <a:ext cx="392400" cy="2779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096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6" name=""/>
              <p:cNvGrpSpPr/>
              <p:nvPr/>
            </p:nvGrpSpPr>
            <p:grpSpPr>
              <a:xfrm>
                <a:off x="3062520" y="1947240"/>
                <a:ext cx="231480" cy="132480"/>
                <a:chOff x="3062520" y="1947240"/>
                <a:chExt cx="231480" cy="132480"/>
              </a:xfrm>
            </p:grpSpPr>
            <p:graphicFrame>
              <p:nvGraphicFramePr>
                <p:cNvPr id="97" name=""/>
                <p:cNvGraphicFramePr/>
                <p:nvPr/>
              </p:nvGraphicFramePr>
              <p:xfrm>
                <a:off x="3065400" y="2016000"/>
                <a:ext cx="228600" cy="6372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98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30654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"/>
                <p:cNvGraphicFramePr/>
                <p:nvPr/>
              </p:nvGraphicFramePr>
              <p:xfrm>
                <a:off x="3062520" y="1947240"/>
                <a:ext cx="226800" cy="6516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100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30625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01" name=""/>
            <p:cNvSpPr/>
            <p:nvPr/>
          </p:nvSpPr>
          <p:spPr>
            <a:xfrm>
              <a:off x="46483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94680" y="2116080"/>
              <a:ext cx="28915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Policy Creation Authority</a:t>
              </a: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410080" y="1757520"/>
              <a:ext cx="1084320" cy="388440"/>
              <a:chOff x="5410080" y="1757520"/>
              <a:chExt cx="1084320" cy="3884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5778720" y="1757520"/>
              <a:ext cx="471240" cy="388440"/>
            </p:xfrm>
            <a:graphic>
              <a:graphicData uri="http://schemas.openxmlformats.org/presentationml/2006/ole">
                <p:oleObj r:id="rId23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4"/>
                      <a:stretch/>
                    </p:blipFill>
                    <p:spPr>
                      <a:xfrm>
                        <a:off x="5778720" y="1757520"/>
                        <a:ext cx="471240" cy="388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" name=""/>
              <p:cNvGraphicFramePr/>
              <p:nvPr/>
            </p:nvGraphicFramePr>
            <p:xfrm>
              <a:off x="5410080" y="1816200"/>
              <a:ext cx="392400" cy="277920"/>
            </p:xfrm>
            <a:graphic>
              <a:graphicData uri="http://schemas.openxmlformats.org/presentationml/2006/ole">
                <p:oleObj r:id="rId25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6"/>
                      <a:stretch/>
                    </p:blipFill>
                    <p:spPr>
                      <a:xfrm>
                        <a:off x="5410080" y="1816200"/>
                        <a:ext cx="392400" cy="277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08" name=""/>
              <p:cNvGrpSpPr/>
              <p:nvPr/>
            </p:nvGrpSpPr>
            <p:grpSpPr>
              <a:xfrm>
                <a:off x="6262920" y="1947240"/>
                <a:ext cx="231480" cy="132480"/>
                <a:chOff x="6262920" y="1947240"/>
                <a:chExt cx="231480" cy="132480"/>
              </a:xfrm>
            </p:grpSpPr>
            <p:graphicFrame>
              <p:nvGraphicFramePr>
                <p:cNvPr id="109" name=""/>
                <p:cNvGraphicFramePr/>
                <p:nvPr/>
              </p:nvGraphicFramePr>
              <p:xfrm>
                <a:off x="6265800" y="2016000"/>
                <a:ext cx="228600" cy="6372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110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6265800" y="2016000"/>
                          <a:ext cx="228600" cy="63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11" name=""/>
                <p:cNvGraphicFramePr/>
                <p:nvPr/>
              </p:nvGraphicFramePr>
              <p:xfrm>
                <a:off x="6262920" y="1947240"/>
                <a:ext cx="226800" cy="65160"/>
              </p:xfrm>
              <a:graphic>
                <a:graphicData uri="http://schemas.openxmlformats.org/presentationml/2006/ole">
                  <p:oleObj r:id="rId29" spid="">
                    <p:embed/>
                    <p:pic>
                      <p:nvPicPr>
                        <p:cNvPr id="112" name="" descr=""/>
                        <p:cNvPicPr/>
                        <p:nvPr/>
                      </p:nvPicPr>
                      <p:blipFill>
                        <a:blip r:embed="rId30"/>
                        <a:stretch/>
                      </p:blipFill>
                      <p:spPr>
                        <a:xfrm>
                          <a:off x="6262920" y="1947240"/>
                          <a:ext cx="226800" cy="65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113" name=""/>
            <p:cNvSpPr/>
            <p:nvPr/>
          </p:nvSpPr>
          <p:spPr>
            <a:xfrm flipH="1">
              <a:off x="3048120" y="134316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11120" y="2482920"/>
            <a:ext cx="7513560" cy="1362240"/>
            <a:chOff x="411120" y="2482920"/>
            <a:chExt cx="7513560" cy="1362240"/>
          </a:xfrm>
        </p:grpSpPr>
        <p:sp>
          <p:nvSpPr>
            <p:cNvPr id="115" name=""/>
            <p:cNvSpPr/>
            <p:nvPr/>
          </p:nvSpPr>
          <p:spPr>
            <a:xfrm flipH="1">
              <a:off x="205704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2482920"/>
              <a:ext cx="76176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11120" y="2941920"/>
              <a:ext cx="2255760" cy="903240"/>
              <a:chOff x="411120" y="2941920"/>
              <a:chExt cx="2255760" cy="903240"/>
            </a:xfrm>
          </p:grpSpPr>
          <p:graphicFrame>
            <p:nvGraphicFramePr>
              <p:cNvPr id="118" name=""/>
              <p:cNvGraphicFramePr/>
              <p:nvPr/>
            </p:nvGraphicFramePr>
            <p:xfrm>
              <a:off x="1630440" y="2941920"/>
              <a:ext cx="1036440" cy="672840"/>
            </p:xfrm>
            <a:graphic>
              <a:graphicData uri="http://schemas.openxmlformats.org/presentationml/2006/ole">
                <p:oleObj r:id="rId31" spid="">
                  <p:embed/>
                  <p:pic>
                    <p:nvPicPr>
                      <p:cNvPr id="119" name="" descr=""/>
                      <p:cNvPicPr/>
                      <p:nvPr/>
                    </p:nvPicPr>
                    <p:blipFill>
                      <a:blip r:embed="rId32"/>
                      <a:stretch/>
                    </p:blipFill>
                    <p:spPr>
                      <a:xfrm>
                        <a:off x="16304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0" name=""/>
              <p:cNvSpPr/>
              <p:nvPr/>
            </p:nvSpPr>
            <p:spPr>
              <a:xfrm>
                <a:off x="4111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620800" y="2941920"/>
              <a:ext cx="2255760" cy="903240"/>
              <a:chOff x="2620800" y="2941920"/>
              <a:chExt cx="2255760" cy="903240"/>
            </a:xfrm>
          </p:grpSpPr>
          <p:graphicFrame>
            <p:nvGraphicFramePr>
              <p:cNvPr id="122" name=""/>
              <p:cNvGraphicFramePr/>
              <p:nvPr/>
            </p:nvGraphicFramePr>
            <p:xfrm>
              <a:off x="3840120" y="2941920"/>
              <a:ext cx="1036440" cy="672840"/>
            </p:xfrm>
            <a:graphic>
              <a:graphicData uri="http://schemas.openxmlformats.org/presentationml/2006/ole">
                <p:oleObj r:id="rId33" spid="">
                  <p:embed/>
                  <p:pic>
                    <p:nvPicPr>
                      <p:cNvPr id="123" name="" descr=""/>
                      <p:cNvPicPr/>
                      <p:nvPr/>
                    </p:nvPicPr>
                    <p:blipFill>
                      <a:blip r:embed="rId34"/>
                      <a:stretch/>
                    </p:blipFill>
                    <p:spPr>
                      <a:xfrm>
                        <a:off x="384012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4" name=""/>
              <p:cNvSpPr/>
              <p:nvPr/>
            </p:nvSpPr>
            <p:spPr>
              <a:xfrm>
                <a:off x="262080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668920" y="2941920"/>
              <a:ext cx="2255760" cy="903240"/>
              <a:chOff x="5668920" y="2941920"/>
              <a:chExt cx="2255760" cy="9032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6888240" y="2941920"/>
              <a:ext cx="1036440" cy="672840"/>
            </p:xfrm>
            <a:graphic>
              <a:graphicData uri="http://schemas.openxmlformats.org/presentationml/2006/ole">
                <p:oleObj r:id="rId35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6888240" y="2941920"/>
                        <a:ext cx="1036440" cy="67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" name=""/>
              <p:cNvSpPr/>
              <p:nvPr/>
            </p:nvSpPr>
            <p:spPr>
              <a:xfrm>
                <a:off x="5668920" y="3322800"/>
                <a:ext cx="190512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440" rIns="28440" tIns="14400" bIns="144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3600"/>
                    <a:tab algn="l" pos="187200"/>
                    <a:tab algn="l" pos="281160"/>
                    <a:tab algn="l" pos="374760"/>
                    <a:tab algn="l" pos="468360"/>
                    <a:tab algn="l" pos="561960"/>
                    <a:tab algn="l" pos="655560"/>
                    <a:tab algn="l" pos="749160"/>
                    <a:tab algn="l" pos="843120"/>
                    <a:tab algn="l" pos="936720"/>
                    <a:tab algn="l" pos="1030320"/>
                    <a:tab algn="l" pos="1123920"/>
                    <a:tab algn="l" pos="1217520"/>
                    <a:tab algn="l" pos="1311120"/>
                    <a:tab algn="l" pos="1405080"/>
                    <a:tab algn="l" pos="1498680"/>
                    <a:tab algn="l" pos="1592280"/>
                    <a:tab algn="l" pos="1685880"/>
                    <a:tab algn="l" pos="1779480"/>
                    <a:tab algn="l" pos="1873080"/>
                  </a:tabLst>
                </a:pPr>
                <a:r>
                  <a:rPr b="1" lang="en-US" sz="1800" spc="-1" strike="noStrike">
                    <a:solidFill>
                      <a:srgbClr val="eaeaea"/>
                    </a:solidFill>
                    <a:latin typeface="Arial"/>
                  </a:rPr>
                  <a:t>Certification Authority</a:t>
                </a:r>
                <a:endParaRPr b="0" lang="en-US" sz="1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095880" y="2482920"/>
              <a:ext cx="762120" cy="49680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49200" y="2432160"/>
            <a:ext cx="6730920" cy="3689280"/>
            <a:chOff x="349200" y="2432160"/>
            <a:chExt cx="6730920" cy="3689280"/>
          </a:xfrm>
        </p:grpSpPr>
        <p:grpSp>
          <p:nvGrpSpPr>
            <p:cNvPr id="131" name=""/>
            <p:cNvGrpSpPr/>
            <p:nvPr/>
          </p:nvGrpSpPr>
          <p:grpSpPr>
            <a:xfrm>
              <a:off x="349200" y="2432160"/>
              <a:ext cx="2406600" cy="3689280"/>
              <a:chOff x="349200" y="2432160"/>
              <a:chExt cx="2406600" cy="3689280"/>
            </a:xfrm>
          </p:grpSpPr>
          <p:sp>
            <p:nvSpPr>
              <p:cNvPr id="132" name=""/>
              <p:cNvSpPr/>
              <p:nvPr/>
            </p:nvSpPr>
            <p:spPr>
              <a:xfrm>
                <a:off x="836280" y="2432160"/>
                <a:ext cx="15231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nsitive-but-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nclassifie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920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66560" y="2978280"/>
              <a:ext cx="657720" cy="743400"/>
              <a:chOff x="466560" y="2978280"/>
              <a:chExt cx="657720" cy="743400"/>
            </a:xfrm>
          </p:grpSpPr>
          <p:sp>
            <p:nvSpPr>
              <p:cNvPr id="135" name=""/>
              <p:cNvSpPr/>
              <p:nvPr/>
            </p:nvSpPr>
            <p:spPr>
              <a:xfrm>
                <a:off x="46656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820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7160" y="3054240"/>
                <a:ext cx="62676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1228680" y="2978280"/>
              <a:ext cx="658440" cy="743400"/>
              <a:chOff x="1228680" y="2978280"/>
              <a:chExt cx="658440" cy="743400"/>
            </a:xfrm>
          </p:grpSpPr>
          <p:sp>
            <p:nvSpPr>
              <p:cNvPr id="139" name=""/>
              <p:cNvSpPr/>
              <p:nvPr/>
            </p:nvSpPr>
            <p:spPr>
              <a:xfrm>
                <a:off x="122868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9960" y="3430440"/>
                <a:ext cx="43128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260720" y="305424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25520" y="3827160"/>
              <a:ext cx="2254320" cy="1227600"/>
              <a:chOff x="425520" y="3827160"/>
              <a:chExt cx="2254320" cy="122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25520" y="3828960"/>
                <a:ext cx="225432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09760" y="3827160"/>
                <a:ext cx="539640" cy="1140120"/>
                <a:chOff x="509760" y="3827160"/>
                <a:chExt cx="539640" cy="1140120"/>
              </a:xfrm>
            </p:grpSpPr>
            <p:sp>
              <p:nvSpPr>
                <p:cNvPr id="145" name=""/>
                <p:cNvSpPr/>
                <p:nvPr/>
              </p:nvSpPr>
              <p:spPr>
                <a:xfrm rot="5400000">
                  <a:off x="584280" y="386136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5720" y="417024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7560" y="42465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9760" y="434196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524880" y="452772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425520" y="5143680"/>
              <a:ext cx="22543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50800" y="5305320"/>
              <a:ext cx="406440" cy="635040"/>
              <a:chOff x="550800" y="5305320"/>
              <a:chExt cx="406440" cy="635040"/>
            </a:xfrm>
          </p:grpSpPr>
          <p:sp>
            <p:nvSpPr>
              <p:cNvPr id="152" name=""/>
              <p:cNvSpPr/>
              <p:nvPr/>
            </p:nvSpPr>
            <p:spPr>
              <a:xfrm>
                <a:off x="5508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312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216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4920" y="53881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712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93640" y="5456160"/>
                <a:ext cx="311400" cy="246240"/>
                <a:chOff x="593640" y="5456160"/>
                <a:chExt cx="311400" cy="2462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811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048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60" name=""/>
                <p:cNvGrpSpPr/>
                <p:nvPr/>
              </p:nvGrpSpPr>
              <p:grpSpPr>
                <a:xfrm>
                  <a:off x="660240" y="5499000"/>
                  <a:ext cx="63720" cy="136440"/>
                  <a:chOff x="660240" y="5499000"/>
                  <a:chExt cx="63720" cy="13644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66204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68580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6602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666720" y="5530680"/>
                    <a:ext cx="57240" cy="104760"/>
                    <a:chOff x="666720" y="5530680"/>
                    <a:chExt cx="57240" cy="104760"/>
                  </a:xfrm>
                </p:grpSpPr>
                <p:grpSp>
                  <p:nvGrpSpPr>
                    <p:cNvPr id="165" name=""/>
                    <p:cNvGrpSpPr/>
                    <p:nvPr/>
                  </p:nvGrpSpPr>
                  <p:grpSpPr>
                    <a:xfrm>
                      <a:off x="666720" y="5530680"/>
                      <a:ext cx="57240" cy="104760"/>
                      <a:chOff x="666720" y="5530680"/>
                      <a:chExt cx="57240" cy="104760"/>
                    </a:xfrm>
                  </p:grpSpPr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666720" y="5530680"/>
                        <a:ext cx="34920" cy="103320"/>
                        <a:chOff x="666720" y="5530680"/>
                        <a:chExt cx="34920" cy="10332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6667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6667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8904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9696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67644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>
                  <a:off x="617400" y="5607000"/>
                  <a:ext cx="13356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593640" y="5456160"/>
                  <a:ext cx="69840" cy="174600"/>
                  <a:chOff x="593640" y="5456160"/>
                  <a:chExt cx="69840" cy="17460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3640" y="5456160"/>
                    <a:ext cx="57240" cy="65160"/>
                    <a:chOff x="593640" y="5456160"/>
                    <a:chExt cx="57240" cy="651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59544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62388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59364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600120" y="5497560"/>
                    <a:ext cx="63360" cy="133200"/>
                    <a:chOff x="600120" y="5497560"/>
                    <a:chExt cx="63360" cy="133200"/>
                  </a:xfrm>
                </p:grpSpPr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00120" y="55846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00120" y="5497560"/>
                      <a:ext cx="42840" cy="112680"/>
                      <a:chOff x="600120" y="5497560"/>
                      <a:chExt cx="42840" cy="11268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0156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6001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2856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364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6127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86" name=""/>
                <p:cNvSpPr/>
                <p:nvPr/>
              </p:nvSpPr>
              <p:spPr>
                <a:xfrm>
                  <a:off x="625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7140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20640" y="5513400"/>
                  <a:ext cx="65160" cy="68400"/>
                  <a:chOff x="620640" y="5513400"/>
                  <a:chExt cx="65160" cy="68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2064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55560" y="551340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20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28560" y="5557680"/>
                  <a:ext cx="69840" cy="144720"/>
                  <a:chOff x="628560" y="5557680"/>
                  <a:chExt cx="69840" cy="14472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28560" y="5557680"/>
                    <a:ext cx="49320" cy="142920"/>
                    <a:chOff x="628560" y="5557680"/>
                    <a:chExt cx="49320" cy="142920"/>
                  </a:xfrm>
                </p:grpSpPr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28560" y="5557680"/>
                      <a:ext cx="49320" cy="142920"/>
                      <a:chOff x="628560" y="5557680"/>
                      <a:chExt cx="49320" cy="142920"/>
                    </a:xfrm>
                  </p:grpSpPr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28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628560" y="55656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64296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6620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14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98320" y="5503680"/>
                  <a:ext cx="57240" cy="27000"/>
                  <a:chOff x="598320" y="5503680"/>
                  <a:chExt cx="57240" cy="270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598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55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4628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90560" y="5537160"/>
                  <a:ext cx="2556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89120" y="5499000"/>
                  <a:ext cx="54000" cy="136440"/>
                  <a:chOff x="789120" y="5499000"/>
                  <a:chExt cx="54000" cy="1364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78912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78912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8912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795240" y="5530680"/>
                    <a:ext cx="47880" cy="104760"/>
                    <a:chOff x="795240" y="5530680"/>
                    <a:chExt cx="47880" cy="10476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795240" y="5530680"/>
                      <a:ext cx="36720" cy="104760"/>
                      <a:chOff x="795240" y="5530680"/>
                      <a:chExt cx="36720" cy="104760"/>
                    </a:xfrm>
                  </p:grpSpPr>
                  <p:grpSp>
                    <p:nvGrpSpPr>
                      <p:cNvPr id="211" name=""/>
                      <p:cNvGrpSpPr/>
                      <p:nvPr/>
                    </p:nvGrpSpPr>
                    <p:grpSpPr>
                      <a:xfrm>
                        <a:off x="795240" y="5530680"/>
                        <a:ext cx="33480" cy="103320"/>
                        <a:chOff x="795240" y="5530680"/>
                        <a:chExt cx="33480" cy="103320"/>
                      </a:xfrm>
                    </p:grpSpPr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795240" y="5530680"/>
                          <a:ext cx="3348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795240" y="553572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80496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79704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81612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17" name=""/>
                <p:cNvSpPr/>
                <p:nvPr/>
              </p:nvSpPr>
              <p:spPr>
                <a:xfrm>
                  <a:off x="74628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46000" y="5456160"/>
                  <a:ext cx="59040" cy="174600"/>
                  <a:chOff x="846000" y="5456160"/>
                  <a:chExt cx="59040" cy="17460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46000" y="5456160"/>
                    <a:ext cx="57240" cy="65160"/>
                    <a:chOff x="846000" y="5456160"/>
                    <a:chExt cx="57240" cy="6516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84780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84780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846000" y="549576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849240" y="5497560"/>
                    <a:ext cx="55800" cy="133200"/>
                    <a:chOff x="849240" y="5497560"/>
                    <a:chExt cx="55800" cy="133200"/>
                  </a:xfrm>
                </p:grpSpPr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8492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853920" y="5497560"/>
                      <a:ext cx="41400" cy="112680"/>
                      <a:chOff x="853920" y="5497560"/>
                      <a:chExt cx="41400" cy="112680"/>
                    </a:xfrm>
                  </p:grpSpPr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8539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8539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86688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571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7804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868320" y="55656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612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809640" y="5513400"/>
                  <a:ext cx="66600" cy="68400"/>
                  <a:chOff x="809640" y="5513400"/>
                  <a:chExt cx="66600" cy="684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8110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811080" y="55134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09640" y="555624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17560" y="5557680"/>
                  <a:ext cx="57240" cy="144720"/>
                  <a:chOff x="817560" y="5557680"/>
                  <a:chExt cx="57240" cy="1447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17560" y="5557680"/>
                    <a:ext cx="57240" cy="142920"/>
                    <a:chOff x="817560" y="5557680"/>
                    <a:chExt cx="57240" cy="1429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817560" y="5557680"/>
                      <a:ext cx="49320" cy="142920"/>
                      <a:chOff x="817560" y="5557680"/>
                      <a:chExt cx="49320" cy="14292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1756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819000" y="5565600"/>
                        <a:ext cx="4788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8478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43" name=""/>
                  <p:cNvSpPr/>
                  <p:nvPr/>
                </p:nvSpPr>
                <p:spPr>
                  <a:xfrm>
                    <a:off x="83520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24040" y="555948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87320" y="5503680"/>
                  <a:ext cx="57240" cy="27000"/>
                  <a:chOff x="787320" y="5503680"/>
                  <a:chExt cx="57240" cy="2700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87320" y="550368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445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248" name=""/>
            <p:cNvGrpSpPr/>
            <p:nvPr/>
          </p:nvGrpSpPr>
          <p:grpSpPr>
            <a:xfrm>
              <a:off x="1328760" y="3827160"/>
              <a:ext cx="539640" cy="1140120"/>
              <a:chOff x="1328760" y="3827160"/>
              <a:chExt cx="539640" cy="1140120"/>
            </a:xfrm>
          </p:grpSpPr>
          <p:sp>
            <p:nvSpPr>
              <p:cNvPr id="249" name=""/>
              <p:cNvSpPr/>
              <p:nvPr/>
            </p:nvSpPr>
            <p:spPr>
              <a:xfrm rot="5400000">
                <a:off x="138420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405080" y="417024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6692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28760" y="43419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1344600" y="45306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351080" y="5315040"/>
              <a:ext cx="406440" cy="635040"/>
              <a:chOff x="1351080" y="5315040"/>
              <a:chExt cx="406440" cy="635040"/>
            </a:xfrm>
          </p:grpSpPr>
          <p:sp>
            <p:nvSpPr>
              <p:cNvPr id="255" name=""/>
              <p:cNvSpPr/>
              <p:nvPr/>
            </p:nvSpPr>
            <p:spPr>
              <a:xfrm>
                <a:off x="1351080" y="531504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73040" y="5340240"/>
                <a:ext cx="35892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32080" y="535320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65200" y="539748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27040" y="57592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8104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9076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1460520" y="5508720"/>
                <a:ext cx="63360" cy="136440"/>
                <a:chOff x="1460520" y="5508720"/>
                <a:chExt cx="63360" cy="136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461960" y="550872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486080" y="5508720"/>
                  <a:ext cx="2664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46052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1467000" y="5540400"/>
                  <a:ext cx="56880" cy="104760"/>
                  <a:chOff x="1467000" y="5540400"/>
                  <a:chExt cx="56880" cy="10476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467000" y="5540400"/>
                    <a:ext cx="56880" cy="104760"/>
                    <a:chOff x="1467000" y="5540400"/>
                    <a:chExt cx="56880" cy="104760"/>
                  </a:xfrm>
                </p:grpSpPr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1467000" y="5540400"/>
                      <a:ext cx="34920" cy="103320"/>
                      <a:chOff x="1467000" y="5540400"/>
                      <a:chExt cx="34920" cy="10332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1467000" y="5540400"/>
                        <a:ext cx="349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1467000" y="554508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148896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149688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73" name=""/>
                  <p:cNvSpPr/>
                  <p:nvPr/>
                </p:nvSpPr>
                <p:spPr>
                  <a:xfrm>
                    <a:off x="147636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74" name=""/>
              <p:cNvSpPr/>
              <p:nvPr/>
            </p:nvSpPr>
            <p:spPr>
              <a:xfrm>
                <a:off x="141768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1393920" y="5465880"/>
                <a:ext cx="69840" cy="174600"/>
                <a:chOff x="1393920" y="5465880"/>
                <a:chExt cx="69840" cy="17460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1393920" y="5465880"/>
                  <a:ext cx="56880" cy="64800"/>
                  <a:chOff x="1393920" y="5465880"/>
                  <a:chExt cx="56880" cy="6480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1395360" y="546588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424160" y="546588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39392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1400040" y="5506920"/>
                  <a:ext cx="63720" cy="133560"/>
                  <a:chOff x="1400040" y="5506920"/>
                  <a:chExt cx="63720" cy="13356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1400040" y="5594400"/>
                    <a:ext cx="478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400040" y="5506920"/>
                    <a:ext cx="42840" cy="112680"/>
                    <a:chOff x="1400040" y="5506920"/>
                    <a:chExt cx="42840" cy="11268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401840" y="5506920"/>
                      <a:ext cx="4104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140004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>
                    <a:off x="1428840" y="550692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43676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141300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>
                <a:off x="1425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471680" y="5621400"/>
                <a:ext cx="2520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1420920" y="5522760"/>
                <a:ext cx="65160" cy="68400"/>
                <a:chOff x="1420920" y="5522760"/>
                <a:chExt cx="65160" cy="684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142092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455840" y="552276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42092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428840" y="5567400"/>
                <a:ext cx="69840" cy="144360"/>
                <a:chOff x="1428840" y="5567400"/>
                <a:chExt cx="69840" cy="144360"/>
              </a:xfrm>
            </p:grpSpPr>
            <p:grpSp>
              <p:nvGrpSpPr>
                <p:cNvPr id="295" name=""/>
                <p:cNvGrpSpPr/>
                <p:nvPr/>
              </p:nvGrpSpPr>
              <p:grpSpPr>
                <a:xfrm>
                  <a:off x="1428840" y="5567400"/>
                  <a:ext cx="48960" cy="142920"/>
                  <a:chOff x="1428840" y="5567400"/>
                  <a:chExt cx="48960" cy="142920"/>
                </a:xfrm>
              </p:grpSpPr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428840" y="5567400"/>
                    <a:ext cx="48960" cy="142920"/>
                    <a:chOff x="1428840" y="5567400"/>
                    <a:chExt cx="48960" cy="1429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428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428840" y="5575320"/>
                      <a:ext cx="4896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299" name=""/>
                  <p:cNvSpPr/>
                  <p:nvPr/>
                </p:nvSpPr>
                <p:spPr>
                  <a:xfrm>
                    <a:off x="144288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00" name=""/>
                <p:cNvSpPr/>
                <p:nvPr/>
              </p:nvSpPr>
              <p:spPr>
                <a:xfrm>
                  <a:off x="1461960" y="556740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471680" y="556884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398600" y="5513400"/>
                <a:ext cx="57240" cy="27000"/>
                <a:chOff x="1398600" y="5513400"/>
                <a:chExt cx="57240" cy="27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398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584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1546200" y="5540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590840" y="554688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1589040" y="5508720"/>
                <a:ext cx="54000" cy="136440"/>
                <a:chOff x="1589040" y="5508720"/>
                <a:chExt cx="54000" cy="1364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589040" y="5508720"/>
                  <a:ext cx="4752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589040" y="55087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589040" y="5538600"/>
                  <a:ext cx="4608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11" name=""/>
                <p:cNvGrpSpPr/>
                <p:nvPr/>
              </p:nvGrpSpPr>
              <p:grpSpPr>
                <a:xfrm>
                  <a:off x="1595520" y="5540400"/>
                  <a:ext cx="47520" cy="104760"/>
                  <a:chOff x="1595520" y="5540400"/>
                  <a:chExt cx="47520" cy="104760"/>
                </a:xfrm>
              </p:grpSpPr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1595520" y="5540400"/>
                    <a:ext cx="36360" cy="104760"/>
                    <a:chOff x="1595520" y="5540400"/>
                    <a:chExt cx="36360" cy="10476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1595520" y="5540400"/>
                      <a:ext cx="33120" cy="103320"/>
                      <a:chOff x="1595520" y="5540400"/>
                      <a:chExt cx="33120" cy="10332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1595520" y="5540400"/>
                        <a:ext cx="3312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1595520" y="5545080"/>
                        <a:ext cx="331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604880" y="554040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1596960" y="554184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1616040" y="5559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19" name=""/>
              <p:cNvSpPr/>
              <p:nvPr/>
            </p:nvSpPr>
            <p:spPr>
              <a:xfrm>
                <a:off x="1546200" y="5616720"/>
                <a:ext cx="13320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1646280" y="5465880"/>
                <a:ext cx="58680" cy="174600"/>
                <a:chOff x="1646280" y="5465880"/>
                <a:chExt cx="58680" cy="17460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1646280" y="5465880"/>
                  <a:ext cx="57240" cy="64800"/>
                  <a:chOff x="1646280" y="5465880"/>
                  <a:chExt cx="57240" cy="648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1647720" y="546588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1647720" y="546588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1646280" y="5505480"/>
                    <a:ext cx="5544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1649520" y="5506920"/>
                  <a:ext cx="55440" cy="133560"/>
                  <a:chOff x="1649520" y="5506920"/>
                  <a:chExt cx="55440" cy="1335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1649520" y="559440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1654200" y="5506920"/>
                    <a:ext cx="41400" cy="112680"/>
                    <a:chOff x="1654200" y="5506920"/>
                    <a:chExt cx="41400" cy="11268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1654200" y="550692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1654200" y="551340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>
                    <a:off x="1666800" y="550692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657440" y="550872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677960" y="5532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33" name=""/>
              <p:cNvSpPr/>
              <p:nvPr/>
            </p:nvSpPr>
            <p:spPr>
              <a:xfrm>
                <a:off x="1668600" y="557532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16040" y="562140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1609560" y="5522760"/>
                <a:ext cx="66960" cy="68400"/>
                <a:chOff x="1609560" y="5522760"/>
                <a:chExt cx="66960" cy="684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611360" y="552276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611360" y="552276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9560" y="5565600"/>
                  <a:ext cx="65160" cy="25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617840" y="5567400"/>
                <a:ext cx="56880" cy="144360"/>
                <a:chOff x="1617840" y="5567400"/>
                <a:chExt cx="56880" cy="144360"/>
              </a:xfrm>
            </p:grpSpPr>
            <p:grpSp>
              <p:nvGrpSpPr>
                <p:cNvPr id="340" name=""/>
                <p:cNvGrpSpPr/>
                <p:nvPr/>
              </p:nvGrpSpPr>
              <p:grpSpPr>
                <a:xfrm>
                  <a:off x="1617840" y="5567400"/>
                  <a:ext cx="56880" cy="142920"/>
                  <a:chOff x="1617840" y="5567400"/>
                  <a:chExt cx="56880" cy="14292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1617840" y="5567400"/>
                    <a:ext cx="48960" cy="142920"/>
                    <a:chOff x="1617840" y="5567400"/>
                    <a:chExt cx="48960" cy="14292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1617840" y="5567400"/>
                      <a:ext cx="48960" cy="25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619280" y="557532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1647720" y="5594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1635120" y="556740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623960" y="556884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587600" y="5513400"/>
                <a:ext cx="56880" cy="27000"/>
                <a:chOff x="1587600" y="5513400"/>
                <a:chExt cx="56880" cy="270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587600" y="551340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644480" y="551340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071800" y="3827160"/>
              <a:ext cx="545760" cy="1140120"/>
              <a:chOff x="2071800" y="3827160"/>
              <a:chExt cx="545760" cy="1140120"/>
            </a:xfrm>
          </p:grpSpPr>
          <p:sp>
            <p:nvSpPr>
              <p:cNvPr id="351" name=""/>
              <p:cNvSpPr/>
              <p:nvPr/>
            </p:nvSpPr>
            <p:spPr>
              <a:xfrm rot="5400000">
                <a:off x="215568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147760" y="417024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109960" y="42465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71800" y="434196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2087640" y="452268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103480" y="5295960"/>
              <a:ext cx="406440" cy="635040"/>
              <a:chOff x="2103480" y="5295960"/>
              <a:chExt cx="406440" cy="635040"/>
            </a:xfrm>
          </p:grpSpPr>
          <p:sp>
            <p:nvSpPr>
              <p:cNvPr id="357" name=""/>
              <p:cNvSpPr/>
              <p:nvPr/>
            </p:nvSpPr>
            <p:spPr>
              <a:xfrm>
                <a:off x="2103480" y="529596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12580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18448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60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79800" y="57405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33440" y="5521320"/>
                <a:ext cx="7020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3"/>
                    </a:moveTo>
                    <a:lnTo>
                      <a:pt x="3" y="3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3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40" y="3"/>
                    </a:lnTo>
                    <a:lnTo>
                      <a:pt x="40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24316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2212920" y="5489640"/>
                <a:ext cx="63720" cy="136440"/>
                <a:chOff x="2212920" y="5489640"/>
                <a:chExt cx="63720" cy="1364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214720" y="5489640"/>
                  <a:ext cx="4572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14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22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23848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16" y="19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21292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2219400" y="5521320"/>
                  <a:ext cx="57240" cy="104760"/>
                  <a:chOff x="2219400" y="5521320"/>
                  <a:chExt cx="57240" cy="104760"/>
                </a:xfrm>
              </p:grpSpPr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2219400" y="5521320"/>
                    <a:ext cx="57240" cy="104760"/>
                    <a:chOff x="2219400" y="5521320"/>
                    <a:chExt cx="57240" cy="104760"/>
                  </a:xfrm>
                </p:grpSpPr>
                <p:grpSp>
                  <p:nvGrpSpPr>
                    <p:cNvPr id="370" name=""/>
                    <p:cNvGrpSpPr/>
                    <p:nvPr/>
                  </p:nvGrpSpPr>
                  <p:grpSpPr>
                    <a:xfrm>
                      <a:off x="2219400" y="5521320"/>
                      <a:ext cx="34920" cy="103320"/>
                      <a:chOff x="2219400" y="5521320"/>
                      <a:chExt cx="34920" cy="103320"/>
                    </a:xfrm>
                  </p:grpSpPr>
                  <p:sp>
                    <p:nvSpPr>
                      <p:cNvPr id="371" name=""/>
                      <p:cNvSpPr/>
                      <p:nvPr/>
                    </p:nvSpPr>
                    <p:spPr>
                      <a:xfrm>
                        <a:off x="2219400" y="5521320"/>
                        <a:ext cx="3492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372" name=""/>
                      <p:cNvSpPr/>
                      <p:nvPr/>
                    </p:nvSpPr>
                    <p:spPr>
                      <a:xfrm>
                        <a:off x="2219400" y="5526000"/>
                        <a:ext cx="3492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2241720" y="5521320"/>
                      <a:ext cx="2664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5"/>
                          </a:lnTo>
                          <a:lnTo>
                            <a:pt x="0" y="6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224964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64"/>
                          </a:lnTo>
                          <a:lnTo>
                            <a:pt x="0" y="6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>
                    <a:off x="222876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217008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0" y="3"/>
                    </a:moveTo>
                    <a:lnTo>
                      <a:pt x="43" y="3"/>
                    </a:lnTo>
                    <a:lnTo>
                      <a:pt x="43" y="0"/>
                    </a:lnTo>
                    <a:lnTo>
                      <a:pt x="46" y="0"/>
                    </a:lnTo>
                    <a:lnTo>
                      <a:pt x="46" y="3"/>
                    </a:lnTo>
                    <a:lnTo>
                      <a:pt x="49" y="3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2" y="3"/>
                    </a:lnTo>
                    <a:lnTo>
                      <a:pt x="55" y="3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58" y="3"/>
                    </a:lnTo>
                    <a:lnTo>
                      <a:pt x="61" y="3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4" y="3"/>
                    </a:lnTo>
                    <a:lnTo>
                      <a:pt x="68" y="3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1" y="3"/>
                    </a:lnTo>
                    <a:lnTo>
                      <a:pt x="74" y="3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77" y="3"/>
                    </a:lnTo>
                    <a:lnTo>
                      <a:pt x="80" y="3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83" y="58"/>
                    </a:lnTo>
                    <a:lnTo>
                      <a:pt x="0" y="58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2146320" y="5446800"/>
                <a:ext cx="69840" cy="174600"/>
                <a:chOff x="2146320" y="5446800"/>
                <a:chExt cx="69840" cy="174600"/>
              </a:xfrm>
            </p:grpSpPr>
            <p:grpSp>
              <p:nvGrpSpPr>
                <p:cNvPr id="378" name=""/>
                <p:cNvGrpSpPr/>
                <p:nvPr/>
              </p:nvGrpSpPr>
              <p:grpSpPr>
                <a:xfrm>
                  <a:off x="2146320" y="5446800"/>
                  <a:ext cx="57240" cy="65160"/>
                  <a:chOff x="2146320" y="5446800"/>
                  <a:chExt cx="57240" cy="651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2147760" y="5446800"/>
                    <a:ext cx="55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9" y="18"/>
                        </a:lnTo>
                        <a:lnTo>
                          <a:pt x="0" y="26"/>
                        </a:lnTo>
                        <a:lnTo>
                          <a:pt x="34" y="26"/>
                        </a:lnTo>
                        <a:lnTo>
                          <a:pt x="26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176560" y="5446800"/>
                    <a:ext cx="270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0" y="0"/>
                        </a:moveTo>
                        <a:lnTo>
                          <a:pt x="8" y="18"/>
                        </a:lnTo>
                        <a:lnTo>
                          <a:pt x="16" y="26"/>
                        </a:lnTo>
                        <a:lnTo>
                          <a:pt x="11" y="26"/>
                        </a:lnTo>
                        <a:lnTo>
                          <a:pt x="6" y="1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14632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152800" y="5487840"/>
                  <a:ext cx="63360" cy="133560"/>
                  <a:chOff x="2152800" y="5487840"/>
                  <a:chExt cx="63360" cy="13356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2152800" y="5575320"/>
                    <a:ext cx="4752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2152800" y="5487840"/>
                    <a:ext cx="42840" cy="112680"/>
                    <a:chOff x="2152800" y="5487840"/>
                    <a:chExt cx="42840" cy="1126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215424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2152800" y="5494320"/>
                      <a:ext cx="4104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>
                    <a:off x="2181240" y="5487840"/>
                    <a:ext cx="144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18916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0" y="0"/>
                        </a:moveTo>
                        <a:lnTo>
                          <a:pt x="16" y="0"/>
                        </a:lnTo>
                        <a:lnTo>
                          <a:pt x="16" y="70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16540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2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390" name=""/>
              <p:cNvSpPr/>
              <p:nvPr/>
            </p:nvSpPr>
            <p:spPr>
              <a:xfrm>
                <a:off x="2178000" y="5556240"/>
                <a:ext cx="2556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22408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2173320" y="5503680"/>
                <a:ext cx="65160" cy="68400"/>
                <a:chOff x="2173320" y="5503680"/>
                <a:chExt cx="65160" cy="684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17332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21" y="0"/>
                      </a:moveTo>
                      <a:lnTo>
                        <a:pt x="10" y="20"/>
                      </a:lnTo>
                      <a:lnTo>
                        <a:pt x="0" y="28"/>
                      </a:lnTo>
                      <a:lnTo>
                        <a:pt x="40" y="28"/>
                      </a:lnTo>
                      <a:lnTo>
                        <a:pt x="30" y="19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208240" y="5503680"/>
                  <a:ext cx="30240" cy="46080"/>
                </a:xfrm>
                <a:custGeom>
                  <a:avLst/>
                  <a:gdLst/>
                  <a:ahLst/>
                  <a:rect l="l" t="t" r="r" b="b"/>
                  <a:pathLst>
                    <a:path w="19" h="29">
                      <a:moveTo>
                        <a:pt x="0" y="0"/>
                      </a:moveTo>
                      <a:lnTo>
                        <a:pt x="9" y="19"/>
                      </a:lnTo>
                      <a:lnTo>
                        <a:pt x="18" y="28"/>
                      </a:lnTo>
                      <a:lnTo>
                        <a:pt x="13" y="28"/>
                      </a:lnTo>
                      <a:lnTo>
                        <a:pt x="7" y="2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173320" y="5546880"/>
                  <a:ext cx="6516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81240" y="5548320"/>
                <a:ext cx="69840" cy="144360"/>
                <a:chOff x="2181240" y="5548320"/>
                <a:chExt cx="69840" cy="1443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2181240" y="5548320"/>
                  <a:ext cx="49320" cy="142920"/>
                  <a:chOff x="2181240" y="5548320"/>
                  <a:chExt cx="49320" cy="14292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2181240" y="5548320"/>
                    <a:ext cx="49320" cy="142920"/>
                    <a:chOff x="2181240" y="5548320"/>
                    <a:chExt cx="49320" cy="1429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2181240" y="5548320"/>
                      <a:ext cx="4932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181240" y="5556240"/>
                      <a:ext cx="493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01" name=""/>
                  <p:cNvSpPr/>
                  <p:nvPr/>
                </p:nvSpPr>
                <p:spPr>
                  <a:xfrm>
                    <a:off x="2195640" y="55753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0" y="16"/>
                        </a:lnTo>
                        <a:lnTo>
                          <a:pt x="13" y="16"/>
                        </a:lnTo>
                        <a:lnTo>
                          <a:pt x="16" y="16"/>
                        </a:lnTo>
                        <a:lnTo>
                          <a:pt x="16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02" name=""/>
                <p:cNvSpPr/>
                <p:nvPr/>
              </p:nvSpPr>
              <p:spPr>
                <a:xfrm>
                  <a:off x="2214720" y="5548320"/>
                  <a:ext cx="144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24080" y="5549760"/>
                  <a:ext cx="27000" cy="142920"/>
                </a:xfrm>
                <a:custGeom>
                  <a:avLst/>
                  <a:gdLst/>
                  <a:ahLst/>
                  <a:rect l="l" t="t" r="r" b="b"/>
                  <a:pathLst>
                    <a:path w="17" h="90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16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2151000" y="5494320"/>
                <a:ext cx="57240" cy="27000"/>
                <a:chOff x="2151000" y="5494320"/>
                <a:chExt cx="57240" cy="270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2151000" y="5494320"/>
                  <a:ext cx="5580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08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2298600" y="552132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43" y="58"/>
                    </a:lnTo>
                    <a:lnTo>
                      <a:pt x="43" y="3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343240" y="5527800"/>
                <a:ext cx="25200" cy="7920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2341440" y="5489640"/>
                <a:ext cx="54000" cy="136440"/>
                <a:chOff x="2341440" y="5489640"/>
                <a:chExt cx="54000" cy="13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341440" y="5489640"/>
                  <a:ext cx="47880" cy="31680"/>
                </a:xfrm>
                <a:custGeom>
                  <a:avLst/>
                  <a:gdLst/>
                  <a:ahLst/>
                  <a:rect l="l" t="t" r="r" b="b"/>
                  <a:pathLst>
                    <a:path w="30" h="20">
                      <a:moveTo>
                        <a:pt x="14" y="0"/>
                      </a:moveTo>
                      <a:lnTo>
                        <a:pt x="22" y="13"/>
                      </a:lnTo>
                      <a:lnTo>
                        <a:pt x="29" y="19"/>
                      </a:lnTo>
                      <a:lnTo>
                        <a:pt x="0" y="19"/>
                      </a:lnTo>
                      <a:lnTo>
                        <a:pt x="7" y="1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341440" y="54896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6" y="0"/>
                      </a:moveTo>
                      <a:lnTo>
                        <a:pt x="7" y="13"/>
                      </a:lnTo>
                      <a:lnTo>
                        <a:pt x="0" y="19"/>
                      </a:lnTo>
                      <a:lnTo>
                        <a:pt x="4" y="19"/>
                      </a:lnTo>
                      <a:lnTo>
                        <a:pt x="9" y="14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341440" y="5519880"/>
                  <a:ext cx="4608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2347920" y="5521320"/>
                  <a:ext cx="47520" cy="104760"/>
                  <a:chOff x="2347920" y="5521320"/>
                  <a:chExt cx="47520" cy="104760"/>
                </a:xfrm>
              </p:grpSpPr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2347920" y="5521320"/>
                    <a:ext cx="36360" cy="104760"/>
                    <a:chOff x="2347920" y="5521320"/>
                    <a:chExt cx="36360" cy="104760"/>
                  </a:xfrm>
                </p:grpSpPr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2347920" y="5521320"/>
                      <a:ext cx="33480" cy="103320"/>
                      <a:chOff x="2347920" y="5521320"/>
                      <a:chExt cx="33480" cy="103320"/>
                    </a:xfrm>
                  </p:grpSpPr>
                  <p:sp>
                    <p:nvSpPr>
                      <p:cNvPr id="416" name=""/>
                      <p:cNvSpPr/>
                      <p:nvPr/>
                    </p:nvSpPr>
                    <p:spPr>
                      <a:xfrm>
                        <a:off x="2347920" y="5521320"/>
                        <a:ext cx="334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2347920" y="5526000"/>
                        <a:ext cx="33480" cy="9864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2357280" y="5521320"/>
                      <a:ext cx="270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6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16" y="65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2349360" y="5522760"/>
                      <a:ext cx="2700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65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64"/>
                          </a:lnTo>
                          <a:lnTo>
                            <a:pt x="16" y="6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20" name=""/>
                  <p:cNvSpPr/>
                  <p:nvPr/>
                </p:nvSpPr>
                <p:spPr>
                  <a:xfrm>
                    <a:off x="2368440" y="5540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>
                <a:off x="2298600" y="5597640"/>
                <a:ext cx="133560" cy="93600"/>
              </a:xfrm>
              <a:custGeom>
                <a:avLst/>
                <a:gdLst/>
                <a:ahLst/>
                <a:rect l="l" t="t" r="r" b="b"/>
                <a:pathLst>
                  <a:path w="84" h="59">
                    <a:moveTo>
                      <a:pt x="83" y="3"/>
                    </a:moveTo>
                    <a:lnTo>
                      <a:pt x="40" y="3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7" y="3"/>
                    </a:lnTo>
                    <a:lnTo>
                      <a:pt x="34" y="3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3"/>
                    </a:lnTo>
                    <a:lnTo>
                      <a:pt x="22" y="3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2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83" y="58"/>
                    </a:lnTo>
                    <a:lnTo>
                      <a:pt x="83" y="3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2398680" y="5446800"/>
                <a:ext cx="58680" cy="174600"/>
                <a:chOff x="2398680" y="5446800"/>
                <a:chExt cx="58680" cy="17460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2398680" y="5446800"/>
                  <a:ext cx="57240" cy="65160"/>
                  <a:chOff x="2398680" y="5446800"/>
                  <a:chExt cx="57240" cy="65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400480" y="5446800"/>
                    <a:ext cx="55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17" y="0"/>
                        </a:moveTo>
                        <a:lnTo>
                          <a:pt x="26" y="18"/>
                        </a:lnTo>
                        <a:lnTo>
                          <a:pt x="34" y="26"/>
                        </a:lnTo>
                        <a:lnTo>
                          <a:pt x="0" y="26"/>
                        </a:lnTo>
                        <a:lnTo>
                          <a:pt x="8" y="18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400480" y="5446800"/>
                    <a:ext cx="266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7">
                        <a:moveTo>
                          <a:pt x="16" y="0"/>
                        </a:moveTo>
                        <a:lnTo>
                          <a:pt x="7" y="18"/>
                        </a:lnTo>
                        <a:lnTo>
                          <a:pt x="0" y="26"/>
                        </a:lnTo>
                        <a:lnTo>
                          <a:pt x="5" y="26"/>
                        </a:lnTo>
                        <a:lnTo>
                          <a:pt x="10" y="19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398680" y="5486400"/>
                    <a:ext cx="5544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2401920" y="5487840"/>
                  <a:ext cx="55440" cy="133560"/>
                  <a:chOff x="2401920" y="5487840"/>
                  <a:chExt cx="55440" cy="13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2401920" y="5575320"/>
                    <a:ext cx="46080" cy="4608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2406600" y="5487840"/>
                    <a:ext cx="41400" cy="112680"/>
                    <a:chOff x="2406600" y="5487840"/>
                    <a:chExt cx="41400" cy="11268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2406600" y="5487840"/>
                      <a:ext cx="41400" cy="2556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06600" y="5494320"/>
                      <a:ext cx="41400" cy="10620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2419200" y="5487840"/>
                    <a:ext cx="18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7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409840" y="5489640"/>
                    <a:ext cx="270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70"/>
                        </a:lnTo>
                        <a:lnTo>
                          <a:pt x="16" y="7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430360" y="5513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3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2421000" y="5556240"/>
                <a:ext cx="25200" cy="1350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68440" y="5602320"/>
                <a:ext cx="25560" cy="889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362320" y="5503680"/>
                <a:ext cx="66600" cy="68400"/>
                <a:chOff x="2362320" y="5503680"/>
                <a:chExt cx="66600" cy="6840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363760" y="550368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19" y="0"/>
                      </a:moveTo>
                      <a:lnTo>
                        <a:pt x="30" y="20"/>
                      </a:lnTo>
                      <a:lnTo>
                        <a:pt x="40" y="28"/>
                      </a:lnTo>
                      <a:lnTo>
                        <a:pt x="0" y="28"/>
                      </a:lnTo>
                      <a:lnTo>
                        <a:pt x="10" y="19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363760" y="5503680"/>
                  <a:ext cx="31680" cy="46080"/>
                </a:xfrm>
                <a:custGeom>
                  <a:avLst/>
                  <a:gdLst/>
                  <a:ahLst/>
                  <a:rect l="l" t="t" r="r" b="b"/>
                  <a:pathLst>
                    <a:path w="20" h="29">
                      <a:moveTo>
                        <a:pt x="19" y="0"/>
                      </a:moveTo>
                      <a:lnTo>
                        <a:pt x="9" y="19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2" y="20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a0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362320" y="5546880"/>
                  <a:ext cx="64800" cy="2520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370240" y="5548320"/>
                <a:ext cx="56880" cy="144360"/>
                <a:chOff x="2370240" y="5548320"/>
                <a:chExt cx="56880" cy="144360"/>
              </a:xfrm>
            </p:grpSpPr>
            <p:grpSp>
              <p:nvGrpSpPr>
                <p:cNvPr id="442" name=""/>
                <p:cNvGrpSpPr/>
                <p:nvPr/>
              </p:nvGrpSpPr>
              <p:grpSpPr>
                <a:xfrm>
                  <a:off x="2370240" y="5548320"/>
                  <a:ext cx="56880" cy="142920"/>
                  <a:chOff x="2370240" y="5548320"/>
                  <a:chExt cx="56880" cy="14292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370240" y="5548320"/>
                    <a:ext cx="48960" cy="142920"/>
                    <a:chOff x="2370240" y="5548320"/>
                    <a:chExt cx="48960" cy="14292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2370240" y="5548320"/>
                      <a:ext cx="48960" cy="255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371680" y="5556240"/>
                      <a:ext cx="47520" cy="135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2400480" y="5575320"/>
                    <a:ext cx="266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16" y="16"/>
                        </a:lnTo>
                        <a:lnTo>
                          <a:pt x="2" y="16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2387520" y="5548320"/>
                  <a:ext cx="1800" cy="144360"/>
                </a:xfrm>
                <a:custGeom>
                  <a:avLst/>
                  <a:gdLst/>
                  <a:ahLst/>
                  <a:rect l="l" t="t" r="r" b="b"/>
                  <a:pathLst>
                    <a:path w="1" h="9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0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76360" y="5549760"/>
                  <a:ext cx="1800" cy="142920"/>
                </a:xfrm>
                <a:custGeom>
                  <a:avLst/>
                  <a:gdLst/>
                  <a:ahLst/>
                  <a:rect l="l" t="t" r="r" b="b"/>
                  <a:pathLst>
                    <a:path w="1" h="90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340000" y="5494320"/>
                <a:ext cx="57240" cy="27000"/>
                <a:chOff x="2340000" y="5494320"/>
                <a:chExt cx="57240" cy="270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340000" y="5494320"/>
                  <a:ext cx="55440" cy="27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34" y="0"/>
                      </a:moveTo>
                      <a:lnTo>
                        <a:pt x="29" y="1"/>
                      </a:lnTo>
                      <a:lnTo>
                        <a:pt x="26" y="1"/>
                      </a:lnTo>
                      <a:lnTo>
                        <a:pt x="24" y="4"/>
                      </a:lnTo>
                      <a:lnTo>
                        <a:pt x="22" y="5"/>
                      </a:lnTo>
                      <a:lnTo>
                        <a:pt x="20" y="7"/>
                      </a:lnTo>
                      <a:lnTo>
                        <a:pt x="17" y="10"/>
                      </a:lnTo>
                      <a:lnTo>
                        <a:pt x="12" y="13"/>
                      </a:lnTo>
                      <a:lnTo>
                        <a:pt x="9" y="14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3" y="16"/>
                      </a:lnTo>
                      <a:lnTo>
                        <a:pt x="8" y="14"/>
                      </a:lnTo>
                      <a:lnTo>
                        <a:pt x="13" y="14"/>
                      </a:lnTo>
                      <a:lnTo>
                        <a:pt x="19" y="13"/>
                      </a:lnTo>
                      <a:lnTo>
                        <a:pt x="24" y="10"/>
                      </a:lnTo>
                      <a:lnTo>
                        <a:pt x="26" y="8"/>
                      </a:lnTo>
                      <a:lnTo>
                        <a:pt x="29" y="7"/>
                      </a:lnTo>
                      <a:lnTo>
                        <a:pt x="32" y="7"/>
                      </a:lnTo>
                      <a:lnTo>
                        <a:pt x="34" y="7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97240" y="5494320"/>
                  <a:ext cx="0" cy="11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452" name=""/>
            <p:cNvGrpSpPr/>
            <p:nvPr/>
          </p:nvGrpSpPr>
          <p:grpSpPr>
            <a:xfrm>
              <a:off x="2901960" y="2457360"/>
              <a:ext cx="2406600" cy="3664080"/>
              <a:chOff x="2901960" y="2457360"/>
              <a:chExt cx="2406600" cy="3664080"/>
            </a:xfrm>
          </p:grpSpPr>
          <p:sp>
            <p:nvSpPr>
              <p:cNvPr id="453" name=""/>
              <p:cNvSpPr/>
              <p:nvPr/>
            </p:nvSpPr>
            <p:spPr>
              <a:xfrm>
                <a:off x="3086640" y="2565360"/>
                <a:ext cx="10645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SECRE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901960" y="2457360"/>
                <a:ext cx="24066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3019320" y="2978280"/>
              <a:ext cx="658440" cy="743400"/>
              <a:chOff x="3019320" y="2978280"/>
              <a:chExt cx="658440" cy="743400"/>
            </a:xfrm>
          </p:grpSpPr>
          <p:sp>
            <p:nvSpPr>
              <p:cNvPr id="456" name=""/>
              <p:cNvSpPr/>
              <p:nvPr/>
            </p:nvSpPr>
            <p:spPr>
              <a:xfrm>
                <a:off x="3019320" y="297828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90240" y="3430440"/>
                <a:ext cx="49824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DoD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05136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3781440" y="2978280"/>
              <a:ext cx="658440" cy="743400"/>
              <a:chOff x="3781440" y="2978280"/>
              <a:chExt cx="658440" cy="743400"/>
            </a:xfrm>
          </p:grpSpPr>
          <p:sp>
            <p:nvSpPr>
              <p:cNvPr id="460" name=""/>
              <p:cNvSpPr/>
              <p:nvPr/>
            </p:nvSpPr>
            <p:spPr>
              <a:xfrm>
                <a:off x="3781440" y="2978280"/>
                <a:ext cx="62532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52720" y="3430440"/>
                <a:ext cx="487800" cy="291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0" i="1" lang="en-US" sz="1600" spc="-1" strike="noStrike">
                    <a:solidFill>
                      <a:srgbClr val="eaeaea"/>
                    </a:solidFill>
                    <a:latin typeface="Arial"/>
                  </a:rPr>
                  <a:t>CIV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813480" y="3052800"/>
                <a:ext cx="62640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PCA</a:t>
                </a:r>
                <a:r>
                  <a:rPr b="1" lang="en-US" sz="14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2978280" y="3828960"/>
              <a:ext cx="225396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3062160" y="3827160"/>
              <a:ext cx="574560" cy="1136880"/>
              <a:chOff x="3062160" y="3827160"/>
              <a:chExt cx="574560" cy="113688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3174840" y="386136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38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10032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062160" y="433872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3077640" y="451656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881520" y="3836520"/>
              <a:ext cx="539640" cy="1127520"/>
              <a:chOff x="3881520" y="3836520"/>
              <a:chExt cx="539640" cy="1127520"/>
            </a:xfrm>
          </p:grpSpPr>
          <p:sp>
            <p:nvSpPr>
              <p:cNvPr id="471" name=""/>
              <p:cNvSpPr/>
              <p:nvPr/>
            </p:nvSpPr>
            <p:spPr>
              <a:xfrm rot="5400000">
                <a:off x="395604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5748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919680" y="4243320"/>
                <a:ext cx="46332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88152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897360" y="451944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624560" y="3836520"/>
              <a:ext cx="564840" cy="1127520"/>
              <a:chOff x="4624560" y="3836520"/>
              <a:chExt cx="564840" cy="1127520"/>
            </a:xfrm>
          </p:grpSpPr>
          <p:sp>
            <p:nvSpPr>
              <p:cNvPr id="477" name=""/>
              <p:cNvSpPr/>
              <p:nvPr/>
            </p:nvSpPr>
            <p:spPr>
              <a:xfrm rot="5400000">
                <a:off x="4727520" y="3870720"/>
                <a:ext cx="496080" cy="4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eaeaea"/>
                    </a:solidFill>
                    <a:latin typeface="Arial"/>
                  </a:rPr>
                  <a:t>....</a:t>
                </a:r>
                <a:endParaRPr b="0" lang="en-US" sz="22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00520" y="4167360"/>
                <a:ext cx="46368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662360" y="4243320"/>
                <a:ext cx="463680" cy="62568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624560" y="4338720"/>
                <a:ext cx="463320" cy="625320"/>
              </a:xfrm>
              <a:prstGeom prst="octagon">
                <a:avLst>
                  <a:gd name="adj" fmla="val 29282"/>
                </a:avLst>
              </a:prstGeom>
              <a:solidFill>
                <a:srgbClr val="081d58"/>
              </a:solidFill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639680" y="4532400"/>
                <a:ext cx="456840" cy="369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46080" rIns="46080" tIns="23760" bIns="237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228600"/>
                    <a:tab algn="l" pos="457200"/>
                    <a:tab algn="l" pos="685800"/>
                    <a:tab algn="l" pos="914400"/>
                    <a:tab algn="l" pos="1143000"/>
                    <a:tab algn="l" pos="1371600"/>
                    <a:tab algn="l" pos="1600200"/>
                    <a:tab algn="l" pos="1828800"/>
                    <a:tab algn="l" pos="2057400"/>
                    <a:tab algn="l" pos="2286000"/>
                    <a:tab algn="l" pos="2514600"/>
                    <a:tab algn="l" pos="2743200"/>
                    <a:tab algn="l" pos="2971800"/>
                    <a:tab algn="l" pos="3200400"/>
                    <a:tab algn="l" pos="3429000"/>
                    <a:tab algn="l" pos="3657600"/>
                    <a:tab algn="l" pos="3886200"/>
                    <a:tab algn="l" pos="4114800"/>
                    <a:tab algn="l" pos="4343400"/>
                    <a:tab algn="l" pos="4572000"/>
                  </a:tabLst>
                </a:pPr>
                <a:r>
                  <a:rPr b="1" lang="en-US" sz="1400" spc="-1" strike="noStrike">
                    <a:solidFill>
                      <a:srgbClr val="eaeaea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2978280" y="5143680"/>
              <a:ext cx="225396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141720" y="5334120"/>
              <a:ext cx="406440" cy="635040"/>
              <a:chOff x="3141720" y="5334120"/>
              <a:chExt cx="406440" cy="635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141720" y="53341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164040" y="535932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22720" y="53719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255840" y="54165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218040" y="577836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184560" y="5484960"/>
                <a:ext cx="311040" cy="245880"/>
                <a:chOff x="3184560" y="5484960"/>
                <a:chExt cx="311040" cy="2458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27168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28140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492" name=""/>
                <p:cNvGrpSpPr/>
                <p:nvPr/>
              </p:nvGrpSpPr>
              <p:grpSpPr>
                <a:xfrm>
                  <a:off x="3251160" y="5527800"/>
                  <a:ext cx="63720" cy="136440"/>
                  <a:chOff x="3251160" y="5527800"/>
                  <a:chExt cx="63720" cy="13644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252960" y="552780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327672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325116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3257640" y="5559480"/>
                    <a:ext cx="57240" cy="104760"/>
                    <a:chOff x="3257640" y="5559480"/>
                    <a:chExt cx="57240" cy="104760"/>
                  </a:xfrm>
                </p:grpSpPr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257640" y="5559480"/>
                      <a:ext cx="57240" cy="104760"/>
                      <a:chOff x="3257640" y="5559480"/>
                      <a:chExt cx="57240" cy="104760"/>
                    </a:xfrm>
                  </p:grpSpPr>
                  <p:grpSp>
                    <p:nvGrpSpPr>
                      <p:cNvPr id="498" name=""/>
                      <p:cNvGrpSpPr/>
                      <p:nvPr/>
                    </p:nvGrpSpPr>
                    <p:grpSpPr>
                      <a:xfrm>
                        <a:off x="3257640" y="5559480"/>
                        <a:ext cx="34920" cy="102960"/>
                        <a:chOff x="3257640" y="5559480"/>
                        <a:chExt cx="34920" cy="102960"/>
                      </a:xfrm>
                    </p:grpSpPr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>
                          <a:off x="3257640" y="5559480"/>
                          <a:ext cx="349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257640" y="556416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01" name=""/>
                      <p:cNvSpPr/>
                      <p:nvPr/>
                    </p:nvSpPr>
                    <p:spPr>
                      <a:xfrm>
                        <a:off x="327960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02" name=""/>
                      <p:cNvSpPr/>
                      <p:nvPr/>
                    </p:nvSpPr>
                    <p:spPr>
                      <a:xfrm>
                        <a:off x="328788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326700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04" name=""/>
                <p:cNvSpPr/>
                <p:nvPr/>
              </p:nvSpPr>
              <p:spPr>
                <a:xfrm>
                  <a:off x="3208320" y="5635440"/>
                  <a:ext cx="13320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184560" y="5484960"/>
                  <a:ext cx="69840" cy="174600"/>
                  <a:chOff x="3184560" y="5484960"/>
                  <a:chExt cx="69840" cy="174600"/>
                </a:xfrm>
              </p:grpSpPr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3184560" y="5484960"/>
                    <a:ext cx="57240" cy="64800"/>
                    <a:chOff x="3184560" y="5484960"/>
                    <a:chExt cx="57240" cy="64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318600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>
                      <a:off x="321480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318456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3191040" y="5526000"/>
                    <a:ext cx="63360" cy="133560"/>
                    <a:chOff x="3191040" y="5526000"/>
                    <a:chExt cx="63360" cy="13356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191040" y="561348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3191040" y="5526000"/>
                      <a:ext cx="42840" cy="112680"/>
                      <a:chOff x="3191040" y="5526000"/>
                      <a:chExt cx="42840" cy="11268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319248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3191040" y="553248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219480" y="552600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22740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20364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18" name=""/>
                <p:cNvSpPr/>
                <p:nvPr/>
              </p:nvSpPr>
              <p:spPr>
                <a:xfrm>
                  <a:off x="3216240" y="559440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26232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3211560" y="5541840"/>
                  <a:ext cx="65160" cy="68400"/>
                  <a:chOff x="3211560" y="5541840"/>
                  <a:chExt cx="65160" cy="6840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>
                    <a:off x="321156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246480" y="554184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211560" y="5584680"/>
                    <a:ext cx="651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3219480" y="5586480"/>
                  <a:ext cx="69840" cy="144360"/>
                  <a:chOff x="3219480" y="5586480"/>
                  <a:chExt cx="69840" cy="14436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3219480" y="5586480"/>
                    <a:ext cx="49320" cy="142920"/>
                    <a:chOff x="3219480" y="5586480"/>
                    <a:chExt cx="49320" cy="142920"/>
                  </a:xfrm>
                </p:grpSpPr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3219480" y="5586480"/>
                      <a:ext cx="49320" cy="142920"/>
                      <a:chOff x="3219480" y="5586480"/>
                      <a:chExt cx="49320" cy="142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3219480" y="5586480"/>
                        <a:ext cx="4932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3219480" y="5594400"/>
                        <a:ext cx="493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23388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30" name=""/>
                  <p:cNvSpPr/>
                  <p:nvPr/>
                </p:nvSpPr>
                <p:spPr>
                  <a:xfrm>
                    <a:off x="3252960" y="5586480"/>
                    <a:ext cx="14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262320" y="558792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3189240" y="5532480"/>
                  <a:ext cx="57240" cy="27000"/>
                  <a:chOff x="3189240" y="5532480"/>
                  <a:chExt cx="57240" cy="270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3189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246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>
                  <a:off x="3336840" y="55594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3381480" y="5565600"/>
                  <a:ext cx="25200" cy="7956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3379680" y="5527800"/>
                  <a:ext cx="54000" cy="136440"/>
                  <a:chOff x="3379680" y="5527800"/>
                  <a:chExt cx="54000" cy="13644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>
                    <a:off x="3379680" y="5527800"/>
                    <a:ext cx="478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3379680" y="55278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3379680" y="555768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3386160" y="5559480"/>
                    <a:ext cx="47520" cy="104760"/>
                    <a:chOff x="3386160" y="5559480"/>
                    <a:chExt cx="47520" cy="104760"/>
                  </a:xfrm>
                </p:grpSpPr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3386160" y="5559480"/>
                      <a:ext cx="36360" cy="104760"/>
                      <a:chOff x="3386160" y="5559480"/>
                      <a:chExt cx="36360" cy="104760"/>
                    </a:xfrm>
                  </p:grpSpPr>
                  <p:grpSp>
                    <p:nvGrpSpPr>
                      <p:cNvPr id="543" name=""/>
                      <p:cNvGrpSpPr/>
                      <p:nvPr/>
                    </p:nvGrpSpPr>
                    <p:grpSpPr>
                      <a:xfrm>
                        <a:off x="3386160" y="5559480"/>
                        <a:ext cx="33480" cy="102960"/>
                        <a:chOff x="3386160" y="5559480"/>
                        <a:chExt cx="33480" cy="102960"/>
                      </a:xfrm>
                    </p:grpSpPr>
                    <p:sp>
                      <p:nvSpPr>
                        <p:cNvPr id="544" name=""/>
                        <p:cNvSpPr/>
                        <p:nvPr/>
                      </p:nvSpPr>
                      <p:spPr>
                        <a:xfrm>
                          <a:off x="3386160" y="5559480"/>
                          <a:ext cx="3348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45" name=""/>
                        <p:cNvSpPr/>
                        <p:nvPr/>
                      </p:nvSpPr>
                      <p:spPr>
                        <a:xfrm>
                          <a:off x="3386160" y="5564160"/>
                          <a:ext cx="3348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3395520" y="55594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3387600" y="5560920"/>
                        <a:ext cx="2700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406680" y="5578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49" name=""/>
                <p:cNvSpPr/>
                <p:nvPr/>
              </p:nvSpPr>
              <p:spPr>
                <a:xfrm>
                  <a:off x="3336840" y="5635440"/>
                  <a:ext cx="133560" cy="9396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3436920" y="5484960"/>
                  <a:ext cx="58680" cy="174600"/>
                  <a:chOff x="3436920" y="5484960"/>
                  <a:chExt cx="58680" cy="17460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436920" y="5484960"/>
                    <a:ext cx="57240" cy="64800"/>
                    <a:chOff x="3436920" y="5484960"/>
                    <a:chExt cx="57240" cy="648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438360" y="54849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438360" y="54849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436920" y="552456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3440160" y="5526000"/>
                    <a:ext cx="55440" cy="133560"/>
                    <a:chOff x="3440160" y="5526000"/>
                    <a:chExt cx="55440" cy="1335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440160" y="56134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557" name=""/>
                    <p:cNvGrpSpPr/>
                    <p:nvPr/>
                  </p:nvGrpSpPr>
                  <p:grpSpPr>
                    <a:xfrm>
                      <a:off x="3444840" y="5526000"/>
                      <a:ext cx="41400" cy="112680"/>
                      <a:chOff x="3444840" y="5526000"/>
                      <a:chExt cx="41400" cy="112680"/>
                    </a:xfrm>
                  </p:grpSpPr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3444840" y="5526000"/>
                        <a:ext cx="4140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3444840" y="5532480"/>
                        <a:ext cx="4140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3457440" y="552600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3448080" y="55278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3468600" y="55515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563" name=""/>
                <p:cNvSpPr/>
                <p:nvPr/>
              </p:nvSpPr>
              <p:spPr>
                <a:xfrm>
                  <a:off x="3459240" y="55944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06680" y="56404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3400560" y="5541840"/>
                  <a:ext cx="66600" cy="68400"/>
                  <a:chOff x="3400560" y="5541840"/>
                  <a:chExt cx="66600" cy="6840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402000" y="554184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402000" y="554184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400560" y="558468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3408480" y="5586480"/>
                  <a:ext cx="56880" cy="144360"/>
                  <a:chOff x="3408480" y="5586480"/>
                  <a:chExt cx="56880" cy="144360"/>
                </a:xfrm>
              </p:grpSpPr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3408480" y="5586480"/>
                    <a:ext cx="56880" cy="142920"/>
                    <a:chOff x="3408480" y="5586480"/>
                    <a:chExt cx="56880" cy="142920"/>
                  </a:xfrm>
                </p:grpSpPr>
                <p:grpSp>
                  <p:nvGrpSpPr>
                    <p:cNvPr id="571" name=""/>
                    <p:cNvGrpSpPr/>
                    <p:nvPr/>
                  </p:nvGrpSpPr>
                  <p:grpSpPr>
                    <a:xfrm>
                      <a:off x="3408480" y="5586480"/>
                      <a:ext cx="48960" cy="142920"/>
                      <a:chOff x="3408480" y="5586480"/>
                      <a:chExt cx="48960" cy="142920"/>
                    </a:xfrm>
                  </p:grpSpPr>
                  <p:sp>
                    <p:nvSpPr>
                      <p:cNvPr id="572" name=""/>
                      <p:cNvSpPr/>
                      <p:nvPr/>
                    </p:nvSpPr>
                    <p:spPr>
                      <a:xfrm>
                        <a:off x="3408480" y="558648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>
                        <a:off x="3409920" y="55944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3438360" y="56134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575" name=""/>
                  <p:cNvSpPr/>
                  <p:nvPr/>
                </p:nvSpPr>
                <p:spPr>
                  <a:xfrm>
                    <a:off x="3425760" y="5586480"/>
                    <a:ext cx="18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414600" y="558792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577" name=""/>
                <p:cNvGrpSpPr/>
                <p:nvPr/>
              </p:nvGrpSpPr>
              <p:grpSpPr>
                <a:xfrm>
                  <a:off x="3378240" y="5532480"/>
                  <a:ext cx="57240" cy="27000"/>
                  <a:chOff x="3378240" y="5532480"/>
                  <a:chExt cx="57240" cy="2700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3378240" y="55324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3435480" y="55324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580" name=""/>
            <p:cNvGrpSpPr/>
            <p:nvPr/>
          </p:nvGrpSpPr>
          <p:grpSpPr>
            <a:xfrm>
              <a:off x="3922560" y="5343480"/>
              <a:ext cx="406440" cy="635040"/>
              <a:chOff x="3922560" y="5343480"/>
              <a:chExt cx="406440" cy="635040"/>
            </a:xfrm>
          </p:grpSpPr>
          <p:sp>
            <p:nvSpPr>
              <p:cNvPr id="581" name=""/>
              <p:cNvSpPr/>
              <p:nvPr/>
            </p:nvSpPr>
            <p:spPr>
              <a:xfrm>
                <a:off x="3922560" y="534348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44880" y="536904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03920" y="538164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37040" y="542592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98880" y="578808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6" name=""/>
              <p:cNvGrpSpPr/>
              <p:nvPr/>
            </p:nvGrpSpPr>
            <p:grpSpPr>
              <a:xfrm>
                <a:off x="3965400" y="5494320"/>
                <a:ext cx="311400" cy="246240"/>
                <a:chOff x="3965400" y="5494320"/>
                <a:chExt cx="311400" cy="2462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05288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06224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4032360" y="5537160"/>
                  <a:ext cx="63360" cy="136440"/>
                  <a:chOff x="4032360" y="5537160"/>
                  <a:chExt cx="63360" cy="13644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033800" y="553716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05756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03236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4038480" y="5568840"/>
                    <a:ext cx="57240" cy="104760"/>
                    <a:chOff x="4038480" y="5568840"/>
                    <a:chExt cx="57240" cy="104760"/>
                  </a:xfrm>
                </p:grpSpPr>
                <p:grpSp>
                  <p:nvGrpSpPr>
                    <p:cNvPr id="594" name=""/>
                    <p:cNvGrpSpPr/>
                    <p:nvPr/>
                  </p:nvGrpSpPr>
                  <p:grpSpPr>
                    <a:xfrm>
                      <a:off x="4038480" y="5568840"/>
                      <a:ext cx="57240" cy="104760"/>
                      <a:chOff x="4038480" y="5568840"/>
                      <a:chExt cx="57240" cy="104760"/>
                    </a:xfrm>
                  </p:grpSpPr>
                  <p:grpSp>
                    <p:nvGrpSpPr>
                      <p:cNvPr id="595" name=""/>
                      <p:cNvGrpSpPr/>
                      <p:nvPr/>
                    </p:nvGrpSpPr>
                    <p:grpSpPr>
                      <a:xfrm>
                        <a:off x="4038480" y="5568840"/>
                        <a:ext cx="34920" cy="103320"/>
                        <a:chOff x="4038480" y="5568840"/>
                        <a:chExt cx="34920" cy="103320"/>
                      </a:xfrm>
                    </p:grpSpPr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4038480" y="556884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597" name=""/>
                        <p:cNvSpPr/>
                        <p:nvPr/>
                      </p:nvSpPr>
                      <p:spPr>
                        <a:xfrm>
                          <a:off x="4038480" y="557388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406080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406872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404820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01" name=""/>
                <p:cNvSpPr/>
                <p:nvPr/>
              </p:nvSpPr>
              <p:spPr>
                <a:xfrm>
                  <a:off x="398952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02" name=""/>
                <p:cNvGrpSpPr/>
                <p:nvPr/>
              </p:nvGrpSpPr>
              <p:grpSpPr>
                <a:xfrm>
                  <a:off x="3965400" y="5494320"/>
                  <a:ext cx="70200" cy="174600"/>
                  <a:chOff x="3965400" y="5494320"/>
                  <a:chExt cx="70200" cy="174600"/>
                </a:xfrm>
              </p:grpSpPr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3965400" y="5494320"/>
                    <a:ext cx="57240" cy="65160"/>
                    <a:chOff x="3965400" y="5494320"/>
                    <a:chExt cx="57240" cy="6516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396720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99564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965400" y="5533920"/>
                      <a:ext cx="5580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3971880" y="5535720"/>
                    <a:ext cx="63720" cy="133200"/>
                    <a:chOff x="3971880" y="5535720"/>
                    <a:chExt cx="63720" cy="13320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3971880" y="5622840"/>
                      <a:ext cx="475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3971880" y="5535720"/>
                      <a:ext cx="42840" cy="112680"/>
                      <a:chOff x="3971880" y="5535720"/>
                      <a:chExt cx="42840" cy="11268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397368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3971880" y="554184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400068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4008600" y="553716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398448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15" name=""/>
                <p:cNvSpPr/>
                <p:nvPr/>
              </p:nvSpPr>
              <p:spPr>
                <a:xfrm>
                  <a:off x="3997440" y="560376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4352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992400" y="5551560"/>
                  <a:ext cx="65160" cy="68040"/>
                  <a:chOff x="3992400" y="5551560"/>
                  <a:chExt cx="65160" cy="6804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992400" y="555156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4027320" y="5551560"/>
                    <a:ext cx="302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992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4000680" y="5595840"/>
                  <a:ext cx="69840" cy="144720"/>
                  <a:chOff x="4000680" y="5595840"/>
                  <a:chExt cx="69840" cy="14472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4000680" y="5595840"/>
                    <a:ext cx="48960" cy="142920"/>
                    <a:chOff x="4000680" y="5595840"/>
                    <a:chExt cx="48960" cy="142920"/>
                  </a:xfrm>
                </p:grpSpPr>
                <p:grpSp>
                  <p:nvGrpSpPr>
                    <p:cNvPr id="623" name=""/>
                    <p:cNvGrpSpPr/>
                    <p:nvPr/>
                  </p:nvGrpSpPr>
                  <p:grpSpPr>
                    <a:xfrm>
                      <a:off x="4000680" y="5595840"/>
                      <a:ext cx="48960" cy="142920"/>
                      <a:chOff x="4000680" y="5595840"/>
                      <a:chExt cx="48960" cy="142920"/>
                    </a:xfrm>
                  </p:grpSpPr>
                  <p:sp>
                    <p:nvSpPr>
                      <p:cNvPr id="624" name=""/>
                      <p:cNvSpPr/>
                      <p:nvPr/>
                    </p:nvSpPr>
                    <p:spPr>
                      <a:xfrm>
                        <a:off x="4000680" y="559584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000680" y="560376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401472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4033800" y="559584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4043520" y="559764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29" name=""/>
                <p:cNvGrpSpPr/>
                <p:nvPr/>
              </p:nvGrpSpPr>
              <p:grpSpPr>
                <a:xfrm>
                  <a:off x="3970440" y="5541840"/>
                  <a:ext cx="56880" cy="27000"/>
                  <a:chOff x="3970440" y="5541840"/>
                  <a:chExt cx="56880" cy="270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3970440" y="554184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027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632" name=""/>
                <p:cNvSpPr/>
                <p:nvPr/>
              </p:nvSpPr>
              <p:spPr>
                <a:xfrm>
                  <a:off x="4118040" y="5568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62320" y="5575320"/>
                  <a:ext cx="2556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34" name=""/>
                <p:cNvGrpSpPr/>
                <p:nvPr/>
              </p:nvGrpSpPr>
              <p:grpSpPr>
                <a:xfrm>
                  <a:off x="4160880" y="5537160"/>
                  <a:ext cx="54000" cy="136440"/>
                  <a:chOff x="4160880" y="5537160"/>
                  <a:chExt cx="54000" cy="1364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4160880" y="553716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4160880" y="553716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160880" y="5567400"/>
                    <a:ext cx="4608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4167360" y="5568840"/>
                    <a:ext cx="47520" cy="104760"/>
                    <a:chOff x="4167360" y="5568840"/>
                    <a:chExt cx="47520" cy="104760"/>
                  </a:xfrm>
                </p:grpSpPr>
                <p:grpSp>
                  <p:nvGrpSpPr>
                    <p:cNvPr id="639" name=""/>
                    <p:cNvGrpSpPr/>
                    <p:nvPr/>
                  </p:nvGrpSpPr>
                  <p:grpSpPr>
                    <a:xfrm>
                      <a:off x="4167360" y="5568840"/>
                      <a:ext cx="36360" cy="104760"/>
                      <a:chOff x="4167360" y="5568840"/>
                      <a:chExt cx="36360" cy="104760"/>
                    </a:xfrm>
                  </p:grpSpPr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4167360" y="5568840"/>
                        <a:ext cx="33120" cy="103320"/>
                        <a:chOff x="4167360" y="5568840"/>
                        <a:chExt cx="33120" cy="10332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4167360" y="556884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>
                          <a:off x="4167360" y="557388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4176720" y="556884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4168800" y="557064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4187880" y="5587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46" name=""/>
                <p:cNvSpPr/>
                <p:nvPr/>
              </p:nvSpPr>
              <p:spPr>
                <a:xfrm>
                  <a:off x="4118040" y="564516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4218120" y="5494320"/>
                  <a:ext cx="58680" cy="174600"/>
                  <a:chOff x="4218120" y="5494320"/>
                  <a:chExt cx="58680" cy="17460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4218120" y="5494320"/>
                    <a:ext cx="56880" cy="65160"/>
                    <a:chOff x="4218120" y="5494320"/>
                    <a:chExt cx="56880" cy="6516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4219560" y="549432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4219560" y="549432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4218120" y="553392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4221000" y="5535720"/>
                    <a:ext cx="55800" cy="133200"/>
                    <a:chOff x="4221000" y="5535720"/>
                    <a:chExt cx="55800" cy="13320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4221000" y="562284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654" name=""/>
                    <p:cNvGrpSpPr/>
                    <p:nvPr/>
                  </p:nvGrpSpPr>
                  <p:grpSpPr>
                    <a:xfrm>
                      <a:off x="4226040" y="5535720"/>
                      <a:ext cx="41040" cy="112680"/>
                      <a:chOff x="4226040" y="5535720"/>
                      <a:chExt cx="41040" cy="112680"/>
                    </a:xfrm>
                  </p:grpSpPr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4226040" y="553572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226040" y="5541840"/>
                        <a:ext cx="4104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4238640" y="553572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4229280" y="553716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4249800" y="55609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60" name=""/>
                <p:cNvSpPr/>
                <p:nvPr/>
              </p:nvSpPr>
              <p:spPr>
                <a:xfrm>
                  <a:off x="4240080" y="5603760"/>
                  <a:ext cx="2556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187880" y="564984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62" name=""/>
                <p:cNvGrpSpPr/>
                <p:nvPr/>
              </p:nvGrpSpPr>
              <p:grpSpPr>
                <a:xfrm>
                  <a:off x="4181400" y="5551560"/>
                  <a:ext cx="66600" cy="68040"/>
                  <a:chOff x="4181400" y="5551560"/>
                  <a:chExt cx="66600" cy="6804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4183200" y="555156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183200" y="555156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81400" y="559440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66" name=""/>
                <p:cNvGrpSpPr/>
                <p:nvPr/>
              </p:nvGrpSpPr>
              <p:grpSpPr>
                <a:xfrm>
                  <a:off x="4189320" y="5595840"/>
                  <a:ext cx="57240" cy="144720"/>
                  <a:chOff x="4189320" y="5595840"/>
                  <a:chExt cx="57240" cy="144720"/>
                </a:xfrm>
              </p:grpSpPr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4189320" y="5595840"/>
                    <a:ext cx="57240" cy="142920"/>
                    <a:chOff x="4189320" y="5595840"/>
                    <a:chExt cx="57240" cy="142920"/>
                  </a:xfrm>
                </p:grpSpPr>
                <p:grpSp>
                  <p:nvGrpSpPr>
                    <p:cNvPr id="668" name=""/>
                    <p:cNvGrpSpPr/>
                    <p:nvPr/>
                  </p:nvGrpSpPr>
                  <p:grpSpPr>
                    <a:xfrm>
                      <a:off x="4189320" y="5595840"/>
                      <a:ext cx="49320" cy="142920"/>
                      <a:chOff x="4189320" y="5595840"/>
                      <a:chExt cx="49320" cy="142920"/>
                    </a:xfrm>
                  </p:grpSpPr>
                  <p:sp>
                    <p:nvSpPr>
                      <p:cNvPr id="669" name=""/>
                      <p:cNvSpPr/>
                      <p:nvPr/>
                    </p:nvSpPr>
                    <p:spPr>
                      <a:xfrm>
                        <a:off x="4189320" y="559584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4191120" y="560376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4219560" y="5622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672" name=""/>
                  <p:cNvSpPr/>
                  <p:nvPr/>
                </p:nvSpPr>
                <p:spPr>
                  <a:xfrm>
                    <a:off x="4206960" y="559584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4195800" y="5597640"/>
                    <a:ext cx="1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4159080" y="5541840"/>
                  <a:ext cx="57240" cy="27000"/>
                  <a:chOff x="4159080" y="5541840"/>
                  <a:chExt cx="57240" cy="2700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4159080" y="5541840"/>
                    <a:ext cx="558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216320" y="554184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677" name=""/>
            <p:cNvGrpSpPr/>
            <p:nvPr/>
          </p:nvGrpSpPr>
          <p:grpSpPr>
            <a:xfrm>
              <a:off x="4675320" y="5324400"/>
              <a:ext cx="406440" cy="635040"/>
              <a:chOff x="4675320" y="5324400"/>
              <a:chExt cx="406440" cy="635040"/>
            </a:xfrm>
          </p:grpSpPr>
          <p:sp>
            <p:nvSpPr>
              <p:cNvPr id="678" name=""/>
              <p:cNvSpPr/>
              <p:nvPr/>
            </p:nvSpPr>
            <p:spPr>
              <a:xfrm>
                <a:off x="4675320" y="532440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697280" y="534996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56320" y="536256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89440" y="540684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51280" y="576900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4718160" y="5475240"/>
                <a:ext cx="311040" cy="246240"/>
                <a:chOff x="4718160" y="5475240"/>
                <a:chExt cx="311040" cy="2462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480528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81500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86" name=""/>
                <p:cNvGrpSpPr/>
                <p:nvPr/>
              </p:nvGrpSpPr>
              <p:grpSpPr>
                <a:xfrm>
                  <a:off x="4784760" y="5518080"/>
                  <a:ext cx="63360" cy="136440"/>
                  <a:chOff x="4784760" y="5518080"/>
                  <a:chExt cx="63360" cy="1364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4786200" y="551808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80996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478476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690" name=""/>
                  <p:cNvGrpSpPr/>
                  <p:nvPr/>
                </p:nvGrpSpPr>
                <p:grpSpPr>
                  <a:xfrm>
                    <a:off x="4791240" y="5549760"/>
                    <a:ext cx="56880" cy="104760"/>
                    <a:chOff x="4791240" y="5549760"/>
                    <a:chExt cx="56880" cy="104760"/>
                  </a:xfrm>
                </p:grpSpPr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791240" y="5549760"/>
                      <a:ext cx="56880" cy="104760"/>
                      <a:chOff x="4791240" y="5549760"/>
                      <a:chExt cx="56880" cy="104760"/>
                    </a:xfrm>
                  </p:grpSpPr>
                  <p:grpSp>
                    <p:nvGrpSpPr>
                      <p:cNvPr id="692" name=""/>
                      <p:cNvGrpSpPr/>
                      <p:nvPr/>
                    </p:nvGrpSpPr>
                    <p:grpSpPr>
                      <a:xfrm>
                        <a:off x="4791240" y="5549760"/>
                        <a:ext cx="34920" cy="103320"/>
                        <a:chOff x="4791240" y="5549760"/>
                        <a:chExt cx="34920" cy="103320"/>
                      </a:xfrm>
                    </p:grpSpPr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>
                          <a:off x="4791240" y="554976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694" name=""/>
                        <p:cNvSpPr/>
                        <p:nvPr/>
                      </p:nvSpPr>
                      <p:spPr>
                        <a:xfrm>
                          <a:off x="4791240" y="555480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481320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482112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480060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698" name=""/>
                <p:cNvSpPr/>
                <p:nvPr/>
              </p:nvSpPr>
              <p:spPr>
                <a:xfrm>
                  <a:off x="474192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4718160" y="5475240"/>
                  <a:ext cx="69840" cy="174600"/>
                  <a:chOff x="4718160" y="5475240"/>
                  <a:chExt cx="69840" cy="17460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4718160" y="5475240"/>
                    <a:ext cx="56880" cy="65160"/>
                    <a:chOff x="4718160" y="5475240"/>
                    <a:chExt cx="56880" cy="6516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4719600" y="547524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474804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471816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4724280" y="5516640"/>
                    <a:ext cx="63720" cy="133200"/>
                    <a:chOff x="4724280" y="5516640"/>
                    <a:chExt cx="63720" cy="133200"/>
                  </a:xfrm>
                </p:grpSpPr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4724280" y="560376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4724280" y="5516640"/>
                      <a:ext cx="42840" cy="112680"/>
                      <a:chOff x="4724280" y="5516640"/>
                      <a:chExt cx="42840" cy="11268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4726080" y="551664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472428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4753080" y="551664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476100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473724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12" name=""/>
                <p:cNvSpPr/>
                <p:nvPr/>
              </p:nvSpPr>
              <p:spPr>
                <a:xfrm>
                  <a:off x="4749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795920" y="563076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4745160" y="5532480"/>
                  <a:ext cx="64800" cy="68040"/>
                  <a:chOff x="4745160" y="5532480"/>
                  <a:chExt cx="64800" cy="6804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4745160" y="55324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780080" y="55324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4745160" y="557532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4753080" y="5576760"/>
                  <a:ext cx="69840" cy="144720"/>
                  <a:chOff x="4753080" y="5576760"/>
                  <a:chExt cx="69840" cy="144720"/>
                </a:xfrm>
              </p:grpSpPr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4753080" y="5576760"/>
                    <a:ext cx="48960" cy="142920"/>
                    <a:chOff x="4753080" y="5576760"/>
                    <a:chExt cx="48960" cy="142920"/>
                  </a:xfrm>
                </p:grpSpPr>
                <p:grpSp>
                  <p:nvGrpSpPr>
                    <p:cNvPr id="720" name=""/>
                    <p:cNvGrpSpPr/>
                    <p:nvPr/>
                  </p:nvGrpSpPr>
                  <p:grpSpPr>
                    <a:xfrm>
                      <a:off x="4753080" y="5576760"/>
                      <a:ext cx="48960" cy="142920"/>
                      <a:chOff x="4753080" y="5576760"/>
                      <a:chExt cx="48960" cy="142920"/>
                    </a:xfrm>
                  </p:grpSpPr>
                  <p:sp>
                    <p:nvSpPr>
                      <p:cNvPr id="721" name=""/>
                      <p:cNvSpPr/>
                      <p:nvPr/>
                    </p:nvSpPr>
                    <p:spPr>
                      <a:xfrm>
                        <a:off x="4753080" y="557676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4753080" y="558468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476712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24" name=""/>
                  <p:cNvSpPr/>
                  <p:nvPr/>
                </p:nvSpPr>
                <p:spPr>
                  <a:xfrm>
                    <a:off x="4786200" y="557676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795920" y="557856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722840" y="5522760"/>
                  <a:ext cx="57240" cy="27000"/>
                  <a:chOff x="4722840" y="5522760"/>
                  <a:chExt cx="57240" cy="2700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722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78008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4870440" y="554976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915080" y="555624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4913280" y="5518080"/>
                  <a:ext cx="54000" cy="136440"/>
                  <a:chOff x="4913280" y="5518080"/>
                  <a:chExt cx="54000" cy="13644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913280" y="551808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913280" y="551808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913280" y="554832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919760" y="5549760"/>
                    <a:ext cx="47520" cy="104760"/>
                    <a:chOff x="4919760" y="5549760"/>
                    <a:chExt cx="47520" cy="104760"/>
                  </a:xfrm>
                </p:grpSpPr>
                <p:grpSp>
                  <p:nvGrpSpPr>
                    <p:cNvPr id="736" name=""/>
                    <p:cNvGrpSpPr/>
                    <p:nvPr/>
                  </p:nvGrpSpPr>
                  <p:grpSpPr>
                    <a:xfrm>
                      <a:off x="4919760" y="5549760"/>
                      <a:ext cx="36360" cy="104760"/>
                      <a:chOff x="4919760" y="5549760"/>
                      <a:chExt cx="36360" cy="104760"/>
                    </a:xfrm>
                  </p:grpSpPr>
                  <p:grpSp>
                    <p:nvGrpSpPr>
                      <p:cNvPr id="737" name=""/>
                      <p:cNvGrpSpPr/>
                      <p:nvPr/>
                    </p:nvGrpSpPr>
                    <p:grpSpPr>
                      <a:xfrm>
                        <a:off x="4919760" y="5549760"/>
                        <a:ext cx="33120" cy="103320"/>
                        <a:chOff x="4919760" y="5549760"/>
                        <a:chExt cx="33120" cy="103320"/>
                      </a:xfrm>
                    </p:grpSpPr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>
                          <a:off x="4919760" y="554976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739" name=""/>
                        <p:cNvSpPr/>
                        <p:nvPr/>
                      </p:nvSpPr>
                      <p:spPr>
                        <a:xfrm>
                          <a:off x="4919760" y="555480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740" name=""/>
                      <p:cNvSpPr/>
                      <p:nvPr/>
                    </p:nvSpPr>
                    <p:spPr>
                      <a:xfrm>
                        <a:off x="4929120" y="554976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>
                        <a:off x="4921200" y="555156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4940280" y="5568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43" name=""/>
                <p:cNvSpPr/>
                <p:nvPr/>
              </p:nvSpPr>
              <p:spPr>
                <a:xfrm>
                  <a:off x="4870440" y="562608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44" name=""/>
                <p:cNvGrpSpPr/>
                <p:nvPr/>
              </p:nvGrpSpPr>
              <p:grpSpPr>
                <a:xfrm>
                  <a:off x="4970520" y="5475240"/>
                  <a:ext cx="58680" cy="174600"/>
                  <a:chOff x="4970520" y="5475240"/>
                  <a:chExt cx="58680" cy="174600"/>
                </a:xfrm>
              </p:grpSpPr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4970520" y="5475240"/>
                    <a:ext cx="57240" cy="65160"/>
                    <a:chOff x="4970520" y="5475240"/>
                    <a:chExt cx="57240" cy="65160"/>
                  </a:xfrm>
                </p:grpSpPr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4971960" y="547524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4971960" y="547524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4970520" y="551484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4973760" y="5516640"/>
                    <a:ext cx="55440" cy="133200"/>
                    <a:chOff x="4973760" y="5516640"/>
                    <a:chExt cx="55440" cy="13320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4973760" y="560376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751" name=""/>
                    <p:cNvGrpSpPr/>
                    <p:nvPr/>
                  </p:nvGrpSpPr>
                  <p:grpSpPr>
                    <a:xfrm>
                      <a:off x="4978440" y="5516640"/>
                      <a:ext cx="41400" cy="112680"/>
                      <a:chOff x="4978440" y="5516640"/>
                      <a:chExt cx="41400" cy="112680"/>
                    </a:xfrm>
                  </p:grpSpPr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4978440" y="551664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53" name=""/>
                      <p:cNvSpPr/>
                      <p:nvPr/>
                    </p:nvSpPr>
                    <p:spPr>
                      <a:xfrm>
                        <a:off x="4978440" y="552276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4991040" y="551664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4981680" y="551808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002200" y="55418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757" name=""/>
                <p:cNvSpPr/>
                <p:nvPr/>
              </p:nvSpPr>
              <p:spPr>
                <a:xfrm>
                  <a:off x="4992840" y="558468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940280" y="563076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759" name=""/>
                <p:cNvGrpSpPr/>
                <p:nvPr/>
              </p:nvGrpSpPr>
              <p:grpSpPr>
                <a:xfrm>
                  <a:off x="4933800" y="5532480"/>
                  <a:ext cx="66960" cy="68040"/>
                  <a:chOff x="4933800" y="5532480"/>
                  <a:chExt cx="66960" cy="6804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4935600" y="553248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935600" y="553248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933800" y="557532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41720" y="5576760"/>
                  <a:ext cx="57240" cy="144720"/>
                  <a:chOff x="4941720" y="5576760"/>
                  <a:chExt cx="57240" cy="144720"/>
                </a:xfrm>
              </p:grpSpPr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4941720" y="5576760"/>
                    <a:ext cx="57240" cy="142920"/>
                    <a:chOff x="4941720" y="5576760"/>
                    <a:chExt cx="57240" cy="142920"/>
                  </a:xfrm>
                </p:grpSpPr>
                <p:grpSp>
                  <p:nvGrpSpPr>
                    <p:cNvPr id="765" name=""/>
                    <p:cNvGrpSpPr/>
                    <p:nvPr/>
                  </p:nvGrpSpPr>
                  <p:grpSpPr>
                    <a:xfrm>
                      <a:off x="4941720" y="5576760"/>
                      <a:ext cx="49320" cy="142920"/>
                      <a:chOff x="4941720" y="5576760"/>
                      <a:chExt cx="49320" cy="142920"/>
                    </a:xfrm>
                  </p:grpSpPr>
                  <p:sp>
                    <p:nvSpPr>
                      <p:cNvPr id="766" name=""/>
                      <p:cNvSpPr/>
                      <p:nvPr/>
                    </p:nvSpPr>
                    <p:spPr>
                      <a:xfrm>
                        <a:off x="4941720" y="557676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4943520" y="558468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971960" y="5603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769" name=""/>
                  <p:cNvSpPr/>
                  <p:nvPr/>
                </p:nvSpPr>
                <p:spPr>
                  <a:xfrm>
                    <a:off x="4959360" y="557676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4948200" y="557856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771" name=""/>
                <p:cNvGrpSpPr/>
                <p:nvPr/>
              </p:nvGrpSpPr>
              <p:grpSpPr>
                <a:xfrm>
                  <a:off x="4911840" y="5522760"/>
                  <a:ext cx="56880" cy="27000"/>
                  <a:chOff x="4911840" y="5522760"/>
                  <a:chExt cx="56880" cy="27000"/>
                </a:xfrm>
              </p:grpSpPr>
              <p:sp>
                <p:nvSpPr>
                  <p:cNvPr id="772" name=""/>
                  <p:cNvSpPr/>
                  <p:nvPr/>
                </p:nvSpPr>
                <p:spPr>
                  <a:xfrm>
                    <a:off x="4911840" y="552276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968720" y="552276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774" name=""/>
            <p:cNvGrpSpPr/>
            <p:nvPr/>
          </p:nvGrpSpPr>
          <p:grpSpPr>
            <a:xfrm>
              <a:off x="5454720" y="2457360"/>
              <a:ext cx="1625400" cy="3664080"/>
              <a:chOff x="5454720" y="2457360"/>
              <a:chExt cx="1625400" cy="3664080"/>
            </a:xfrm>
          </p:grpSpPr>
          <p:sp>
            <p:nvSpPr>
              <p:cNvPr id="775" name=""/>
              <p:cNvSpPr/>
              <p:nvPr/>
            </p:nvSpPr>
            <p:spPr>
              <a:xfrm>
                <a:off x="5525640" y="2565360"/>
                <a:ext cx="148032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OP SECRET</a:t>
                </a:r>
                <a:endParaRPr b="0" lang="en-US" sz="16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454720" y="2457360"/>
                <a:ext cx="1625400" cy="366408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553000" y="2959200"/>
              <a:ext cx="658440" cy="743400"/>
              <a:chOff x="5553000" y="2959200"/>
              <a:chExt cx="658440" cy="743400"/>
            </a:xfrm>
          </p:grpSpPr>
          <p:sp>
            <p:nvSpPr>
              <p:cNvPr id="778" name=""/>
              <p:cNvSpPr/>
              <p:nvPr/>
            </p:nvSpPr>
            <p:spPr>
              <a:xfrm>
                <a:off x="5553000" y="2959200"/>
                <a:ext cx="625680" cy="46332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79" name=""/>
              <p:cNvGrpSpPr/>
              <p:nvPr/>
            </p:nvGrpSpPr>
            <p:grpSpPr>
              <a:xfrm>
                <a:off x="5585040" y="3036960"/>
                <a:ext cx="626400" cy="665640"/>
                <a:chOff x="5585040" y="3036960"/>
                <a:chExt cx="626400" cy="66564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5623920" y="3411360"/>
                  <a:ext cx="498240" cy="291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0" i="1" lang="en-US" sz="1600" spc="-1" strike="noStrike">
                      <a:solidFill>
                        <a:srgbClr val="eaeaea"/>
                      </a:solidFill>
                      <a:latin typeface="Arial"/>
                    </a:rPr>
                    <a:t>DoD</a:t>
                  </a:r>
                  <a:endParaRPr b="0" lang="en-US" sz="16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5585040" y="3036960"/>
                  <a:ext cx="62640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PCA 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82" name=""/>
            <p:cNvGrpSpPr/>
            <p:nvPr/>
          </p:nvGrpSpPr>
          <p:grpSpPr>
            <a:xfrm>
              <a:off x="5530680" y="3817440"/>
              <a:ext cx="1473480" cy="1237320"/>
              <a:chOff x="5530680" y="3817440"/>
              <a:chExt cx="1473480" cy="1237320"/>
            </a:xfrm>
          </p:grpSpPr>
          <p:sp>
            <p:nvSpPr>
              <p:cNvPr id="783" name=""/>
              <p:cNvSpPr/>
              <p:nvPr/>
            </p:nvSpPr>
            <p:spPr>
              <a:xfrm>
                <a:off x="5530680" y="3828960"/>
                <a:ext cx="1473480" cy="1225800"/>
              </a:xfrm>
              <a:prstGeom prst="rect">
                <a:avLst/>
              </a:prstGeom>
              <a:noFill/>
              <a:ln w="12600">
                <a:solidFill>
                  <a:srgbClr val="ffff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5595840" y="3817440"/>
                <a:ext cx="574560" cy="1146600"/>
                <a:chOff x="5595840" y="3817440"/>
                <a:chExt cx="574560" cy="1146600"/>
              </a:xfrm>
            </p:grpSpPr>
            <p:sp>
              <p:nvSpPr>
                <p:cNvPr id="785" name=""/>
                <p:cNvSpPr/>
                <p:nvPr/>
              </p:nvSpPr>
              <p:spPr>
                <a:xfrm rot="5400000">
                  <a:off x="570852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672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634000" y="4243320"/>
                  <a:ext cx="46368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595840" y="433872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5611320" y="451800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6415200" y="3817440"/>
                <a:ext cx="539640" cy="1146600"/>
                <a:chOff x="6415200" y="3817440"/>
                <a:chExt cx="539640" cy="1146600"/>
              </a:xfrm>
            </p:grpSpPr>
            <p:sp>
              <p:nvSpPr>
                <p:cNvPr id="791" name=""/>
                <p:cNvSpPr/>
                <p:nvPr/>
              </p:nvSpPr>
              <p:spPr>
                <a:xfrm rot="5400000">
                  <a:off x="6480360" y="3851640"/>
                  <a:ext cx="496080" cy="42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eaeaea"/>
                      </a:solidFill>
                      <a:latin typeface="Arial"/>
                    </a:rPr>
                    <a:t>....</a:t>
                  </a:r>
                  <a:endParaRPr b="0" lang="en-US" sz="22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6491160" y="4167360"/>
                  <a:ext cx="46368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6453360" y="4243320"/>
                  <a:ext cx="463320" cy="62568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415200" y="4338720"/>
                  <a:ext cx="463320" cy="625320"/>
                </a:xfrm>
                <a:prstGeom prst="octagon">
                  <a:avLst>
                    <a:gd name="adj" fmla="val 29282"/>
                  </a:avLst>
                </a:prstGeom>
                <a:solidFill>
                  <a:srgbClr val="081d58"/>
                </a:solidFill>
                <a:ln w="12600">
                  <a:solidFill>
                    <a:srgbClr val="ffff99"/>
                  </a:solidFill>
                  <a:miter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6431040" y="4521240"/>
                  <a:ext cx="456840" cy="3690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81d5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6080" rIns="46080" tIns="23760" bIns="2376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457200"/>
                      <a:tab algn="l" pos="685800"/>
                      <a:tab algn="l" pos="914400"/>
                      <a:tab algn="l" pos="1143000"/>
                      <a:tab algn="l" pos="1371600"/>
                      <a:tab algn="l" pos="1600200"/>
                      <a:tab algn="l" pos="1828800"/>
                      <a:tab algn="l" pos="2057400"/>
                      <a:tab algn="l" pos="2286000"/>
                      <a:tab algn="l" pos="2514600"/>
                      <a:tab algn="l" pos="2743200"/>
                      <a:tab algn="l" pos="2971800"/>
                      <a:tab algn="l" pos="3200400"/>
                      <a:tab algn="l" pos="3429000"/>
                      <a:tab algn="l" pos="3657600"/>
                      <a:tab algn="l" pos="3886200"/>
                      <a:tab algn="l" pos="4114800"/>
                      <a:tab algn="l" pos="4343400"/>
                      <a:tab algn="l" pos="45720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</a:rPr>
                    <a:t>CA</a:t>
                  </a:r>
                  <a:endParaRPr b="0" lang="en-US" sz="1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796" name=""/>
            <p:cNvGrpSpPr/>
            <p:nvPr/>
          </p:nvGrpSpPr>
          <p:grpSpPr>
            <a:xfrm>
              <a:off x="5627520" y="5334120"/>
              <a:ext cx="1244880" cy="644400"/>
              <a:chOff x="5627520" y="5334120"/>
              <a:chExt cx="1244880" cy="644400"/>
            </a:xfrm>
          </p:grpSpPr>
          <p:grpSp>
            <p:nvGrpSpPr>
              <p:cNvPr id="797" name=""/>
              <p:cNvGrpSpPr/>
              <p:nvPr/>
            </p:nvGrpSpPr>
            <p:grpSpPr>
              <a:xfrm>
                <a:off x="5627520" y="5334120"/>
                <a:ext cx="406440" cy="635040"/>
                <a:chOff x="5627520" y="5334120"/>
                <a:chExt cx="406440" cy="63504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5627520" y="533412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49840" y="5359320"/>
                  <a:ext cx="358920" cy="590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08880" y="537192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742000" y="541656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703840" y="577836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5670720" y="5484960"/>
                  <a:ext cx="311040" cy="245880"/>
                  <a:chOff x="5670720" y="5484960"/>
                  <a:chExt cx="311040" cy="24588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575784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5767560" y="5565600"/>
                    <a:ext cx="2520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06" name=""/>
                  <p:cNvGrpSpPr/>
                  <p:nvPr/>
                </p:nvGrpSpPr>
                <p:grpSpPr>
                  <a:xfrm>
                    <a:off x="5737320" y="5527800"/>
                    <a:ext cx="63360" cy="136440"/>
                    <a:chOff x="5737320" y="5527800"/>
                    <a:chExt cx="63360" cy="136440"/>
                  </a:xfrm>
                </p:grpSpPr>
                <p:sp>
                  <p:nvSpPr>
                    <p:cNvPr id="807" name=""/>
                    <p:cNvSpPr/>
                    <p:nvPr/>
                  </p:nvSpPr>
                  <p:spPr>
                    <a:xfrm>
                      <a:off x="5738760" y="552780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>
                      <a:off x="576252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573732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5743440" y="5559480"/>
                      <a:ext cx="57240" cy="104760"/>
                      <a:chOff x="5743440" y="5559480"/>
                      <a:chExt cx="57240" cy="104760"/>
                    </a:xfrm>
                  </p:grpSpPr>
                  <p:grpSp>
                    <p:nvGrpSpPr>
                      <p:cNvPr id="811" name=""/>
                      <p:cNvGrpSpPr/>
                      <p:nvPr/>
                    </p:nvGrpSpPr>
                    <p:grpSpPr>
                      <a:xfrm>
                        <a:off x="5743440" y="5559480"/>
                        <a:ext cx="57240" cy="104760"/>
                        <a:chOff x="5743440" y="5559480"/>
                        <a:chExt cx="57240" cy="104760"/>
                      </a:xfrm>
                    </p:grpSpPr>
                    <p:grpSp>
                      <p:nvGrpSpPr>
                        <p:cNvPr id="812" name=""/>
                        <p:cNvGrpSpPr/>
                        <p:nvPr/>
                      </p:nvGrpSpPr>
                      <p:grpSpPr>
                        <a:xfrm>
                          <a:off x="5743440" y="5559480"/>
                          <a:ext cx="34920" cy="102960"/>
                          <a:chOff x="5743440" y="5559480"/>
                          <a:chExt cx="34920" cy="102960"/>
                        </a:xfrm>
                      </p:grpSpPr>
                      <p:sp>
                        <p:nvSpPr>
                          <p:cNvPr id="813" name=""/>
                          <p:cNvSpPr/>
                          <p:nvPr/>
                        </p:nvSpPr>
                        <p:spPr>
                          <a:xfrm>
                            <a:off x="5743440" y="5559480"/>
                            <a:ext cx="349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14" name=""/>
                          <p:cNvSpPr/>
                          <p:nvPr/>
                        </p:nvSpPr>
                        <p:spPr>
                          <a:xfrm>
                            <a:off x="5743440" y="556416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15" name=""/>
                        <p:cNvSpPr/>
                        <p:nvPr/>
                      </p:nvSpPr>
                      <p:spPr>
                        <a:xfrm>
                          <a:off x="576576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577368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575316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569448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19" name=""/>
                  <p:cNvGrpSpPr/>
                  <p:nvPr/>
                </p:nvGrpSpPr>
                <p:grpSpPr>
                  <a:xfrm>
                    <a:off x="5670720" y="5484960"/>
                    <a:ext cx="69840" cy="174600"/>
                    <a:chOff x="5670720" y="5484960"/>
                    <a:chExt cx="69840" cy="174600"/>
                  </a:xfrm>
                </p:grpSpPr>
                <p:grpSp>
                  <p:nvGrpSpPr>
                    <p:cNvPr id="820" name=""/>
                    <p:cNvGrpSpPr/>
                    <p:nvPr/>
                  </p:nvGrpSpPr>
                  <p:grpSpPr>
                    <a:xfrm>
                      <a:off x="5670720" y="5484960"/>
                      <a:ext cx="56880" cy="64800"/>
                      <a:chOff x="5670720" y="5484960"/>
                      <a:chExt cx="56880" cy="64800"/>
                    </a:xfrm>
                  </p:grpSpPr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567216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570060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567072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24" name=""/>
                    <p:cNvGrpSpPr/>
                    <p:nvPr/>
                  </p:nvGrpSpPr>
                  <p:grpSpPr>
                    <a:xfrm>
                      <a:off x="5676840" y="5526000"/>
                      <a:ext cx="63720" cy="133560"/>
                      <a:chOff x="5676840" y="5526000"/>
                      <a:chExt cx="63720" cy="133560"/>
                    </a:xfrm>
                  </p:grpSpPr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5676840" y="561348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26" name=""/>
                      <p:cNvGrpSpPr/>
                      <p:nvPr/>
                    </p:nvGrpSpPr>
                    <p:grpSpPr>
                      <a:xfrm>
                        <a:off x="5676840" y="5526000"/>
                        <a:ext cx="42840" cy="112680"/>
                        <a:chOff x="5676840" y="5526000"/>
                        <a:chExt cx="42840" cy="112680"/>
                      </a:xfrm>
                    </p:grpSpPr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567864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5676840" y="5532480"/>
                          <a:ext cx="4140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29" name=""/>
                      <p:cNvSpPr/>
                      <p:nvPr/>
                    </p:nvSpPr>
                    <p:spPr>
                      <a:xfrm>
                        <a:off x="570564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>
                        <a:off x="571356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568944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32" name=""/>
                  <p:cNvSpPr/>
                  <p:nvPr/>
                </p:nvSpPr>
                <p:spPr>
                  <a:xfrm>
                    <a:off x="5702400" y="559440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74848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5697360" y="5541840"/>
                    <a:ext cx="65160" cy="68400"/>
                    <a:chOff x="5697360" y="5541840"/>
                    <a:chExt cx="65160" cy="68400"/>
                  </a:xfrm>
                </p:grpSpPr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697360" y="554184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732640" y="5541840"/>
                      <a:ext cx="298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5697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38" name=""/>
                  <p:cNvGrpSpPr/>
                  <p:nvPr/>
                </p:nvGrpSpPr>
                <p:grpSpPr>
                  <a:xfrm>
                    <a:off x="5705640" y="5586480"/>
                    <a:ext cx="69840" cy="144360"/>
                    <a:chOff x="5705640" y="5586480"/>
                    <a:chExt cx="69840" cy="144360"/>
                  </a:xfrm>
                </p:grpSpPr>
                <p:grpSp>
                  <p:nvGrpSpPr>
                    <p:cNvPr id="839" name=""/>
                    <p:cNvGrpSpPr/>
                    <p:nvPr/>
                  </p:nvGrpSpPr>
                  <p:grpSpPr>
                    <a:xfrm>
                      <a:off x="5705640" y="5586480"/>
                      <a:ext cx="48960" cy="142920"/>
                      <a:chOff x="5705640" y="5586480"/>
                      <a:chExt cx="48960" cy="142920"/>
                    </a:xfrm>
                  </p:grpSpPr>
                  <p:grpSp>
                    <p:nvGrpSpPr>
                      <p:cNvPr id="840" name=""/>
                      <p:cNvGrpSpPr/>
                      <p:nvPr/>
                    </p:nvGrpSpPr>
                    <p:grpSpPr>
                      <a:xfrm>
                        <a:off x="5705640" y="5586480"/>
                        <a:ext cx="48960" cy="142920"/>
                        <a:chOff x="5705640" y="5586480"/>
                        <a:chExt cx="48960" cy="142920"/>
                      </a:xfrm>
                    </p:grpSpPr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5705640" y="5586480"/>
                          <a:ext cx="4896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5705640" y="5594400"/>
                          <a:ext cx="4896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43" name=""/>
                      <p:cNvSpPr/>
                      <p:nvPr/>
                    </p:nvSpPr>
                    <p:spPr>
                      <a:xfrm>
                        <a:off x="571968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5738760" y="5586480"/>
                      <a:ext cx="18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5748480" y="558792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675400" y="5532480"/>
                    <a:ext cx="57240" cy="27000"/>
                    <a:chOff x="5675400" y="5532480"/>
                    <a:chExt cx="57240" cy="27000"/>
                  </a:xfrm>
                </p:grpSpPr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5675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573264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849" name=""/>
                  <p:cNvSpPr/>
                  <p:nvPr/>
                </p:nvSpPr>
                <p:spPr>
                  <a:xfrm>
                    <a:off x="5823000" y="555948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5867280" y="5565600"/>
                    <a:ext cx="25560" cy="7956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865840" y="5527800"/>
                    <a:ext cx="54000" cy="136440"/>
                    <a:chOff x="5865840" y="5527800"/>
                    <a:chExt cx="54000" cy="13644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865840" y="5527800"/>
                      <a:ext cx="475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865840" y="552780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865840" y="5557680"/>
                      <a:ext cx="4608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855" name=""/>
                    <p:cNvGrpSpPr/>
                    <p:nvPr/>
                  </p:nvGrpSpPr>
                  <p:grpSpPr>
                    <a:xfrm>
                      <a:off x="5872320" y="5559480"/>
                      <a:ext cx="47520" cy="104760"/>
                      <a:chOff x="5872320" y="5559480"/>
                      <a:chExt cx="47520" cy="104760"/>
                    </a:xfrm>
                  </p:grpSpPr>
                  <p:grpSp>
                    <p:nvGrpSpPr>
                      <p:cNvPr id="856" name=""/>
                      <p:cNvGrpSpPr/>
                      <p:nvPr/>
                    </p:nvGrpSpPr>
                    <p:grpSpPr>
                      <a:xfrm>
                        <a:off x="5872320" y="5559480"/>
                        <a:ext cx="36360" cy="104760"/>
                        <a:chOff x="5872320" y="5559480"/>
                        <a:chExt cx="36360" cy="104760"/>
                      </a:xfrm>
                    </p:grpSpPr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5872320" y="5559480"/>
                          <a:ext cx="33120" cy="102960"/>
                          <a:chOff x="5872320" y="5559480"/>
                          <a:chExt cx="33120" cy="1029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>
                            <a:off x="5872320" y="5559480"/>
                            <a:ext cx="33120" cy="2520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>
                            <a:off x="5872320" y="5564160"/>
                            <a:ext cx="331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>
                          <a:off x="5881680" y="555948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>
                          <a:off x="5873760" y="5560920"/>
                          <a:ext cx="27000" cy="10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62" name=""/>
                      <p:cNvSpPr/>
                      <p:nvPr/>
                    </p:nvSpPr>
                    <p:spPr>
                      <a:xfrm>
                        <a:off x="5892840" y="5578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63" name=""/>
                  <p:cNvSpPr/>
                  <p:nvPr/>
                </p:nvSpPr>
                <p:spPr>
                  <a:xfrm>
                    <a:off x="5823000" y="5635440"/>
                    <a:ext cx="1332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64" name=""/>
                  <p:cNvGrpSpPr/>
                  <p:nvPr/>
                </p:nvGrpSpPr>
                <p:grpSpPr>
                  <a:xfrm>
                    <a:off x="5923080" y="5484960"/>
                    <a:ext cx="58680" cy="174600"/>
                    <a:chOff x="5923080" y="5484960"/>
                    <a:chExt cx="58680" cy="174600"/>
                  </a:xfrm>
                </p:grpSpPr>
                <p:grpSp>
                  <p:nvGrpSpPr>
                    <p:cNvPr id="865" name=""/>
                    <p:cNvGrpSpPr/>
                    <p:nvPr/>
                  </p:nvGrpSpPr>
                  <p:grpSpPr>
                    <a:xfrm>
                      <a:off x="5923080" y="5484960"/>
                      <a:ext cx="56880" cy="64800"/>
                      <a:chOff x="5923080" y="5484960"/>
                      <a:chExt cx="56880" cy="64800"/>
                    </a:xfrm>
                  </p:grpSpPr>
                  <p:sp>
                    <p:nvSpPr>
                      <p:cNvPr id="866" name=""/>
                      <p:cNvSpPr/>
                      <p:nvPr/>
                    </p:nvSpPr>
                    <p:spPr>
                      <a:xfrm>
                        <a:off x="5924520" y="5484960"/>
                        <a:ext cx="5544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7" name=""/>
                      <p:cNvSpPr/>
                      <p:nvPr/>
                    </p:nvSpPr>
                    <p:spPr>
                      <a:xfrm>
                        <a:off x="5924520" y="548496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68" name=""/>
                      <p:cNvSpPr/>
                      <p:nvPr/>
                    </p:nvSpPr>
                    <p:spPr>
                      <a:xfrm>
                        <a:off x="5923080" y="5524560"/>
                        <a:ext cx="55440" cy="2520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869" name=""/>
                    <p:cNvGrpSpPr/>
                    <p:nvPr/>
                  </p:nvGrpSpPr>
                  <p:grpSpPr>
                    <a:xfrm>
                      <a:off x="5925960" y="5526000"/>
                      <a:ext cx="55800" cy="133560"/>
                      <a:chOff x="5925960" y="5526000"/>
                      <a:chExt cx="55800" cy="133560"/>
                    </a:xfrm>
                  </p:grpSpPr>
                  <p:sp>
                    <p:nvSpPr>
                      <p:cNvPr id="870" name=""/>
                      <p:cNvSpPr/>
                      <p:nvPr/>
                    </p:nvSpPr>
                    <p:spPr>
                      <a:xfrm>
                        <a:off x="5925960" y="561348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871" name=""/>
                      <p:cNvGrpSpPr/>
                      <p:nvPr/>
                    </p:nvGrpSpPr>
                    <p:grpSpPr>
                      <a:xfrm>
                        <a:off x="5931000" y="5526000"/>
                        <a:ext cx="41040" cy="112680"/>
                        <a:chOff x="5931000" y="5526000"/>
                        <a:chExt cx="41040" cy="112680"/>
                      </a:xfrm>
                    </p:grpSpPr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>
                          <a:off x="5931000" y="5526000"/>
                          <a:ext cx="4104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>
                          <a:off x="5931000" y="5532480"/>
                          <a:ext cx="41040" cy="1062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74" name=""/>
                      <p:cNvSpPr/>
                      <p:nvPr/>
                    </p:nvSpPr>
                    <p:spPr>
                      <a:xfrm>
                        <a:off x="5943600" y="5526000"/>
                        <a:ext cx="1440" cy="11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5" name=""/>
                      <p:cNvSpPr/>
                      <p:nvPr/>
                    </p:nvSpPr>
                    <p:spPr>
                      <a:xfrm>
                        <a:off x="5934240" y="552780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>
                        <a:off x="5954760" y="555156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877" name=""/>
                  <p:cNvSpPr/>
                  <p:nvPr/>
                </p:nvSpPr>
                <p:spPr>
                  <a:xfrm>
                    <a:off x="5945040" y="559440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892840" y="564048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879" name=""/>
                  <p:cNvGrpSpPr/>
                  <p:nvPr/>
                </p:nvGrpSpPr>
                <p:grpSpPr>
                  <a:xfrm>
                    <a:off x="5886360" y="5541840"/>
                    <a:ext cx="66600" cy="68400"/>
                    <a:chOff x="5886360" y="5541840"/>
                    <a:chExt cx="66600" cy="68400"/>
                  </a:xfrm>
                </p:grpSpPr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5888160" y="5541840"/>
                      <a:ext cx="648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888160" y="554184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5886360" y="5584680"/>
                      <a:ext cx="6516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5894280" y="5586480"/>
                    <a:ext cx="57240" cy="144360"/>
                    <a:chOff x="5894280" y="5586480"/>
                    <a:chExt cx="57240" cy="144360"/>
                  </a:xfrm>
                </p:grpSpPr>
                <p:grpSp>
                  <p:nvGrpSpPr>
                    <p:cNvPr id="884" name=""/>
                    <p:cNvGrpSpPr/>
                    <p:nvPr/>
                  </p:nvGrpSpPr>
                  <p:grpSpPr>
                    <a:xfrm>
                      <a:off x="5894280" y="5586480"/>
                      <a:ext cx="57240" cy="142920"/>
                      <a:chOff x="5894280" y="5586480"/>
                      <a:chExt cx="57240" cy="142920"/>
                    </a:xfrm>
                  </p:grpSpPr>
                  <p:grpSp>
                    <p:nvGrpSpPr>
                      <p:cNvPr id="885" name=""/>
                      <p:cNvGrpSpPr/>
                      <p:nvPr/>
                    </p:nvGrpSpPr>
                    <p:grpSpPr>
                      <a:xfrm>
                        <a:off x="5894280" y="5586480"/>
                        <a:ext cx="49320" cy="142920"/>
                        <a:chOff x="5894280" y="5586480"/>
                        <a:chExt cx="49320" cy="142920"/>
                      </a:xfrm>
                    </p:grpSpPr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>
                          <a:off x="5894280" y="5586480"/>
                          <a:ext cx="49320" cy="2520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>
                          <a:off x="5896080" y="559440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888" name=""/>
                      <p:cNvSpPr/>
                      <p:nvPr/>
                    </p:nvSpPr>
                    <p:spPr>
                      <a:xfrm>
                        <a:off x="5924520" y="561348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5911920" y="5586480"/>
                      <a:ext cx="144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5900760" y="5587920"/>
                      <a:ext cx="144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5864400" y="5532480"/>
                    <a:ext cx="56880" cy="27000"/>
                    <a:chOff x="5864400" y="5532480"/>
                    <a:chExt cx="56880" cy="27000"/>
                  </a:xfrm>
                </p:grpSpPr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864400" y="553248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921280" y="553248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  <p:grpSp>
            <p:nvGrpSpPr>
              <p:cNvPr id="894" name=""/>
              <p:cNvGrpSpPr/>
              <p:nvPr/>
            </p:nvGrpSpPr>
            <p:grpSpPr>
              <a:xfrm>
                <a:off x="6465960" y="5343480"/>
                <a:ext cx="406440" cy="635040"/>
                <a:chOff x="6465960" y="5343480"/>
                <a:chExt cx="406440" cy="63504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6465960" y="5343480"/>
                  <a:ext cx="406440" cy="6350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488280" y="5369040"/>
                  <a:ext cx="358560" cy="5904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46960" y="5381640"/>
                  <a:ext cx="245520" cy="7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FORTEZZA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80080" y="5425920"/>
                  <a:ext cx="190800" cy="12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0240" rIns="30240" tIns="15840" bIns="15840" anchor="t">
                  <a:spAutoFit/>
                </a:bodyPr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rypto 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  </a:t>
                  </a: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Card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541920" y="5788080"/>
                  <a:ext cx="243000" cy="147600"/>
                </a:xfrm>
                <a:prstGeom prst="rect">
                  <a:avLst/>
                </a:prstGeom>
                <a:solidFill>
                  <a:srgbClr val="f35b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0240" rIns="30240" tIns="15840" bIns="15840" anchor="t">
                  <a:spAutoFit/>
                </a:bodyPr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Group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  <a:p>
                  <a:pPr algn="ctr">
                    <a:lnSpc>
                      <a:spcPct val="85000"/>
                    </a:lnSpc>
                    <a:tabLst>
                      <a:tab algn="l" pos="0"/>
                      <a:tab algn="l" pos="101520"/>
                      <a:tab algn="l" pos="203040"/>
                      <a:tab algn="l" pos="304920"/>
                      <a:tab algn="l" pos="406440"/>
                      <a:tab algn="l" pos="507960"/>
                      <a:tab algn="l" pos="609480"/>
                      <a:tab algn="l" pos="711360"/>
                      <a:tab algn="l" pos="812880"/>
                      <a:tab algn="l" pos="914400"/>
                      <a:tab algn="l" pos="1015920"/>
                      <a:tab algn="l" pos="1117440"/>
                      <a:tab algn="l" pos="1219320"/>
                      <a:tab algn="l" pos="1320840"/>
                      <a:tab algn="l" pos="1422360"/>
                      <a:tab algn="l" pos="1523880"/>
                      <a:tab algn="l" pos="1625760"/>
                      <a:tab algn="l" pos="1727280"/>
                      <a:tab algn="l" pos="1828800"/>
                      <a:tab algn="l" pos="1930320"/>
                      <a:tab algn="l" pos="2031840"/>
                    </a:tabLst>
                  </a:pPr>
                  <a:r>
                    <a:rPr b="0" lang="en-US" sz="300" spc="-1" strike="noStrike">
                      <a:solidFill>
                        <a:srgbClr val="eaeaea"/>
                      </a:solidFill>
                      <a:latin typeface="Book Antiqua"/>
                    </a:rPr>
                    <a:t>Technologies</a:t>
                  </a:r>
                  <a:endParaRPr b="0" lang="en-US" sz="3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900" name=""/>
                <p:cNvGrpSpPr/>
                <p:nvPr/>
              </p:nvGrpSpPr>
              <p:grpSpPr>
                <a:xfrm>
                  <a:off x="6508800" y="5494320"/>
                  <a:ext cx="311040" cy="246240"/>
                  <a:chOff x="6508800" y="5494320"/>
                  <a:chExt cx="311040" cy="24624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659592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0" y="3"/>
                        </a:move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  <a:lnTo>
                          <a:pt x="4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60564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6575400" y="5537160"/>
                    <a:ext cx="63360" cy="136440"/>
                    <a:chOff x="6575400" y="5537160"/>
                    <a:chExt cx="63360" cy="136440"/>
                  </a:xfrm>
                </p:grpSpPr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6576840" y="5537160"/>
                      <a:ext cx="460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4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28" y="19"/>
                          </a:lnTo>
                          <a:lnTo>
                            <a:pt x="22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660096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0" y="0"/>
                          </a:moveTo>
                          <a:lnTo>
                            <a:pt x="8" y="13"/>
                          </a:lnTo>
                          <a:lnTo>
                            <a:pt x="16" y="19"/>
                          </a:lnTo>
                          <a:lnTo>
                            <a:pt x="11" y="19"/>
                          </a:lnTo>
                          <a:lnTo>
                            <a:pt x="6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657540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07" name=""/>
                    <p:cNvGrpSpPr/>
                    <p:nvPr/>
                  </p:nvGrpSpPr>
                  <p:grpSpPr>
                    <a:xfrm>
                      <a:off x="6581880" y="5568840"/>
                      <a:ext cx="56880" cy="104760"/>
                      <a:chOff x="6581880" y="5568840"/>
                      <a:chExt cx="56880" cy="104760"/>
                    </a:xfrm>
                  </p:grpSpPr>
                  <p:grpSp>
                    <p:nvGrpSpPr>
                      <p:cNvPr id="908" name=""/>
                      <p:cNvGrpSpPr/>
                      <p:nvPr/>
                    </p:nvGrpSpPr>
                    <p:grpSpPr>
                      <a:xfrm>
                        <a:off x="6581880" y="5568840"/>
                        <a:ext cx="56880" cy="104760"/>
                        <a:chOff x="6581880" y="5568840"/>
                        <a:chExt cx="56880" cy="104760"/>
                      </a:xfrm>
                    </p:grpSpPr>
                    <p:grpSp>
                      <p:nvGrpSpPr>
                        <p:cNvPr id="909" name=""/>
                        <p:cNvGrpSpPr/>
                        <p:nvPr/>
                      </p:nvGrpSpPr>
                      <p:grpSpPr>
                        <a:xfrm>
                          <a:off x="6581880" y="5568840"/>
                          <a:ext cx="34920" cy="103320"/>
                          <a:chOff x="6581880" y="5568840"/>
                          <a:chExt cx="34920" cy="103320"/>
                        </a:xfrm>
                      </p:grpSpPr>
                      <p:sp>
                        <p:nvSpPr>
                          <p:cNvPr id="910" name=""/>
                          <p:cNvSpPr/>
                          <p:nvPr/>
                        </p:nvSpPr>
                        <p:spPr>
                          <a:xfrm>
                            <a:off x="6581880" y="5568840"/>
                            <a:ext cx="3492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11" name=""/>
                          <p:cNvSpPr/>
                          <p:nvPr/>
                        </p:nvSpPr>
                        <p:spPr>
                          <a:xfrm>
                            <a:off x="6581880" y="5573880"/>
                            <a:ext cx="3492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12" name=""/>
                        <p:cNvSpPr/>
                        <p:nvPr/>
                      </p:nvSpPr>
                      <p:spPr>
                        <a:xfrm>
                          <a:off x="660384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5"/>
                              </a:lnTo>
                              <a:lnTo>
                                <a:pt x="0" y="65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13" name=""/>
                        <p:cNvSpPr/>
                        <p:nvPr/>
                      </p:nvSpPr>
                      <p:spPr>
                        <a:xfrm>
                          <a:off x="661176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0" y="0"/>
                              </a:moveTo>
                              <a:lnTo>
                                <a:pt x="16" y="0"/>
                              </a:lnTo>
                              <a:lnTo>
                                <a:pt x="16" y="64"/>
                              </a:lnTo>
                              <a:lnTo>
                                <a:pt x="0" y="6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14" name=""/>
                      <p:cNvSpPr/>
                      <p:nvPr/>
                    </p:nvSpPr>
                    <p:spPr>
                      <a:xfrm>
                        <a:off x="659124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15" name=""/>
                  <p:cNvSpPr/>
                  <p:nvPr/>
                </p:nvSpPr>
                <p:spPr>
                  <a:xfrm>
                    <a:off x="6532560" y="5645160"/>
                    <a:ext cx="133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0" y="3"/>
                        </a:moveTo>
                        <a:lnTo>
                          <a:pt x="43" y="3"/>
                        </a:lnTo>
                        <a:lnTo>
                          <a:pt x="43" y="0"/>
                        </a:lnTo>
                        <a:lnTo>
                          <a:pt x="46" y="0"/>
                        </a:lnTo>
                        <a:lnTo>
                          <a:pt x="46" y="3"/>
                        </a:lnTo>
                        <a:lnTo>
                          <a:pt x="49" y="3"/>
                        </a:lnTo>
                        <a:lnTo>
                          <a:pt x="49" y="0"/>
                        </a:lnTo>
                        <a:lnTo>
                          <a:pt x="52" y="0"/>
                        </a:lnTo>
                        <a:lnTo>
                          <a:pt x="52" y="3"/>
                        </a:lnTo>
                        <a:lnTo>
                          <a:pt x="55" y="3"/>
                        </a:lnTo>
                        <a:lnTo>
                          <a:pt x="55" y="0"/>
                        </a:lnTo>
                        <a:lnTo>
                          <a:pt x="58" y="0"/>
                        </a:lnTo>
                        <a:lnTo>
                          <a:pt x="58" y="3"/>
                        </a:lnTo>
                        <a:lnTo>
                          <a:pt x="61" y="3"/>
                        </a:lnTo>
                        <a:lnTo>
                          <a:pt x="61" y="0"/>
                        </a:lnTo>
                        <a:lnTo>
                          <a:pt x="64" y="0"/>
                        </a:lnTo>
                        <a:lnTo>
                          <a:pt x="64" y="3"/>
                        </a:lnTo>
                        <a:lnTo>
                          <a:pt x="68" y="3"/>
                        </a:lnTo>
                        <a:lnTo>
                          <a:pt x="68" y="0"/>
                        </a:lnTo>
                        <a:lnTo>
                          <a:pt x="71" y="0"/>
                        </a:lnTo>
                        <a:lnTo>
                          <a:pt x="71" y="3"/>
                        </a:lnTo>
                        <a:lnTo>
                          <a:pt x="74" y="3"/>
                        </a:lnTo>
                        <a:lnTo>
                          <a:pt x="74" y="0"/>
                        </a:lnTo>
                        <a:lnTo>
                          <a:pt x="77" y="0"/>
                        </a:lnTo>
                        <a:lnTo>
                          <a:pt x="77" y="3"/>
                        </a:lnTo>
                        <a:lnTo>
                          <a:pt x="80" y="3"/>
                        </a:lnTo>
                        <a:lnTo>
                          <a:pt x="80" y="0"/>
                        </a:lnTo>
                        <a:lnTo>
                          <a:pt x="83" y="0"/>
                        </a:lnTo>
                        <a:lnTo>
                          <a:pt x="83" y="58"/>
                        </a:lnTo>
                        <a:lnTo>
                          <a:pt x="0" y="58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6508800" y="5494320"/>
                    <a:ext cx="69840" cy="174600"/>
                    <a:chOff x="6508800" y="5494320"/>
                    <a:chExt cx="69840" cy="174600"/>
                  </a:xfrm>
                </p:grpSpPr>
                <p:grpSp>
                  <p:nvGrpSpPr>
                    <p:cNvPr id="917" name=""/>
                    <p:cNvGrpSpPr/>
                    <p:nvPr/>
                  </p:nvGrpSpPr>
                  <p:grpSpPr>
                    <a:xfrm>
                      <a:off x="6508800" y="5494320"/>
                      <a:ext cx="57240" cy="65160"/>
                      <a:chOff x="6508800" y="5494320"/>
                      <a:chExt cx="57240" cy="65160"/>
                    </a:xfrm>
                  </p:grpSpPr>
                  <p:sp>
                    <p:nvSpPr>
                      <p:cNvPr id="918" name=""/>
                      <p:cNvSpPr/>
                      <p:nvPr/>
                    </p:nvSpPr>
                    <p:spPr>
                      <a:xfrm>
                        <a:off x="651024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9" y="18"/>
                            </a:lnTo>
                            <a:lnTo>
                              <a:pt x="0" y="26"/>
                            </a:lnTo>
                            <a:lnTo>
                              <a:pt x="34" y="26"/>
                            </a:lnTo>
                            <a:lnTo>
                              <a:pt x="26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653904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0" y="0"/>
                            </a:moveTo>
                            <a:lnTo>
                              <a:pt x="8" y="18"/>
                            </a:lnTo>
                            <a:lnTo>
                              <a:pt x="16" y="26"/>
                            </a:lnTo>
                            <a:lnTo>
                              <a:pt x="11" y="26"/>
                            </a:lnTo>
                            <a:lnTo>
                              <a:pt x="6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>
                        <a:off x="650880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21" name=""/>
                    <p:cNvGrpSpPr/>
                    <p:nvPr/>
                  </p:nvGrpSpPr>
                  <p:grpSpPr>
                    <a:xfrm>
                      <a:off x="6515280" y="5535720"/>
                      <a:ext cx="63360" cy="133200"/>
                      <a:chOff x="6515280" y="5535720"/>
                      <a:chExt cx="63360" cy="133200"/>
                    </a:xfrm>
                  </p:grpSpPr>
                  <p:sp>
                    <p:nvSpPr>
                      <p:cNvPr id="922" name=""/>
                      <p:cNvSpPr/>
                      <p:nvPr/>
                    </p:nvSpPr>
                    <p:spPr>
                      <a:xfrm>
                        <a:off x="6515280" y="5622840"/>
                        <a:ext cx="4752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23" name=""/>
                      <p:cNvGrpSpPr/>
                      <p:nvPr/>
                    </p:nvGrpSpPr>
                    <p:grpSpPr>
                      <a:xfrm>
                        <a:off x="6515280" y="5535720"/>
                        <a:ext cx="42840" cy="112680"/>
                        <a:chOff x="6515280" y="5535720"/>
                        <a:chExt cx="42840" cy="112680"/>
                      </a:xfrm>
                    </p:grpSpPr>
                    <p:sp>
                      <p:nvSpPr>
                        <p:cNvPr id="924" name=""/>
                        <p:cNvSpPr/>
                        <p:nvPr/>
                      </p:nvSpPr>
                      <p:spPr>
                        <a:xfrm>
                          <a:off x="651672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25" name=""/>
                        <p:cNvSpPr/>
                        <p:nvPr/>
                      </p:nvSpPr>
                      <p:spPr>
                        <a:xfrm>
                          <a:off x="6515280" y="5541840"/>
                          <a:ext cx="4104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26" name=""/>
                      <p:cNvSpPr/>
                      <p:nvPr/>
                    </p:nvSpPr>
                    <p:spPr>
                      <a:xfrm>
                        <a:off x="6543720" y="5535720"/>
                        <a:ext cx="14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7" name=""/>
                      <p:cNvSpPr/>
                      <p:nvPr/>
                    </p:nvSpPr>
                    <p:spPr>
                      <a:xfrm>
                        <a:off x="655164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70"/>
                            </a:lnTo>
                            <a:lnTo>
                              <a:pt x="0" y="7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28" name=""/>
                      <p:cNvSpPr/>
                      <p:nvPr/>
                    </p:nvSpPr>
                    <p:spPr>
                      <a:xfrm>
                        <a:off x="652788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2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29" name=""/>
                  <p:cNvSpPr/>
                  <p:nvPr/>
                </p:nvSpPr>
                <p:spPr>
                  <a:xfrm>
                    <a:off x="6540480" y="5603760"/>
                    <a:ext cx="2556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6586560" y="5649840"/>
                    <a:ext cx="2520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31" name=""/>
                  <p:cNvGrpSpPr/>
                  <p:nvPr/>
                </p:nvGrpSpPr>
                <p:grpSpPr>
                  <a:xfrm>
                    <a:off x="6535800" y="5551560"/>
                    <a:ext cx="65160" cy="68040"/>
                    <a:chOff x="6535800" y="5551560"/>
                    <a:chExt cx="65160" cy="68040"/>
                  </a:xfrm>
                </p:grpSpPr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653580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21" y="0"/>
                          </a:moveTo>
                          <a:lnTo>
                            <a:pt x="10" y="20"/>
                          </a:lnTo>
                          <a:lnTo>
                            <a:pt x="0" y="28"/>
                          </a:lnTo>
                          <a:lnTo>
                            <a:pt x="40" y="28"/>
                          </a:lnTo>
                          <a:lnTo>
                            <a:pt x="30" y="19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6570720" y="5551560"/>
                      <a:ext cx="302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29">
                          <a:moveTo>
                            <a:pt x="0" y="0"/>
                          </a:moveTo>
                          <a:lnTo>
                            <a:pt x="9" y="19"/>
                          </a:lnTo>
                          <a:lnTo>
                            <a:pt x="18" y="28"/>
                          </a:lnTo>
                          <a:lnTo>
                            <a:pt x="13" y="28"/>
                          </a:lnTo>
                          <a:lnTo>
                            <a:pt x="7" y="2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6535800" y="5594400"/>
                      <a:ext cx="6516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6543720" y="5595840"/>
                    <a:ext cx="69840" cy="144720"/>
                    <a:chOff x="6543720" y="5595840"/>
                    <a:chExt cx="69840" cy="144720"/>
                  </a:xfrm>
                </p:grpSpPr>
                <p:grpSp>
                  <p:nvGrpSpPr>
                    <p:cNvPr id="936" name=""/>
                    <p:cNvGrpSpPr/>
                    <p:nvPr/>
                  </p:nvGrpSpPr>
                  <p:grpSpPr>
                    <a:xfrm>
                      <a:off x="6543720" y="5595840"/>
                      <a:ext cx="49320" cy="142920"/>
                      <a:chOff x="6543720" y="5595840"/>
                      <a:chExt cx="49320" cy="142920"/>
                    </a:xfrm>
                  </p:grpSpPr>
                  <p:grpSp>
                    <p:nvGrpSpPr>
                      <p:cNvPr id="937" name=""/>
                      <p:cNvGrpSpPr/>
                      <p:nvPr/>
                    </p:nvGrpSpPr>
                    <p:grpSpPr>
                      <a:xfrm>
                        <a:off x="6543720" y="5595840"/>
                        <a:ext cx="49320" cy="142920"/>
                        <a:chOff x="6543720" y="5595840"/>
                        <a:chExt cx="49320" cy="142920"/>
                      </a:xfrm>
                    </p:grpSpPr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>
                          <a:off x="6543720" y="5595840"/>
                          <a:ext cx="4932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>
                          <a:off x="6543720" y="5603760"/>
                          <a:ext cx="493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655812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13" y="16"/>
                            </a:lnTo>
                            <a:lnTo>
                              <a:pt x="16" y="16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57684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86560" y="5597640"/>
                      <a:ext cx="270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0">
                          <a:moveTo>
                            <a:pt x="0" y="0"/>
                          </a:moveTo>
                          <a:lnTo>
                            <a:pt x="16" y="1"/>
                          </a:lnTo>
                          <a:lnTo>
                            <a:pt x="16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43" name=""/>
                  <p:cNvGrpSpPr/>
                  <p:nvPr/>
                </p:nvGrpSpPr>
                <p:grpSpPr>
                  <a:xfrm>
                    <a:off x="6513480" y="5541840"/>
                    <a:ext cx="57240" cy="27000"/>
                    <a:chOff x="6513480" y="5541840"/>
                    <a:chExt cx="57240" cy="27000"/>
                  </a:xfrm>
                </p:grpSpPr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6513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6570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946" name=""/>
                  <p:cNvSpPr/>
                  <p:nvPr/>
                </p:nvSpPr>
                <p:spPr>
                  <a:xfrm>
                    <a:off x="6661080" y="5568840"/>
                    <a:ext cx="698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59">
                        <a:moveTo>
                          <a:pt x="4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0" y="0"/>
                        </a:lnTo>
                        <a:lnTo>
                          <a:pt x="30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4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43" y="58"/>
                        </a:lnTo>
                        <a:lnTo>
                          <a:pt x="43" y="3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6705720" y="5575320"/>
                    <a:ext cx="25200" cy="79200"/>
                  </a:xfrm>
                  <a:prstGeom prst="rect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48" name=""/>
                  <p:cNvGrpSpPr/>
                  <p:nvPr/>
                </p:nvGrpSpPr>
                <p:grpSpPr>
                  <a:xfrm>
                    <a:off x="6703920" y="5537160"/>
                    <a:ext cx="54000" cy="136440"/>
                    <a:chOff x="6703920" y="5537160"/>
                    <a:chExt cx="54000" cy="136440"/>
                  </a:xfrm>
                </p:grpSpPr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6703920" y="5537160"/>
                      <a:ext cx="478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4" y="0"/>
                          </a:moveTo>
                          <a:lnTo>
                            <a:pt x="22" y="13"/>
                          </a:lnTo>
                          <a:lnTo>
                            <a:pt x="29" y="19"/>
                          </a:lnTo>
                          <a:lnTo>
                            <a:pt x="0" y="19"/>
                          </a:lnTo>
                          <a:lnTo>
                            <a:pt x="7" y="13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6703920" y="5537160"/>
                      <a:ext cx="2700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0">
                          <a:moveTo>
                            <a:pt x="16" y="0"/>
                          </a:moveTo>
                          <a:lnTo>
                            <a:pt x="7" y="13"/>
                          </a:lnTo>
                          <a:lnTo>
                            <a:pt x="0" y="19"/>
                          </a:lnTo>
                          <a:lnTo>
                            <a:pt x="4" y="19"/>
                          </a:lnTo>
                          <a:lnTo>
                            <a:pt x="9" y="14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6703920" y="5567400"/>
                      <a:ext cx="46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952" name=""/>
                    <p:cNvGrpSpPr/>
                    <p:nvPr/>
                  </p:nvGrpSpPr>
                  <p:grpSpPr>
                    <a:xfrm>
                      <a:off x="6710400" y="5568840"/>
                      <a:ext cx="47520" cy="104760"/>
                      <a:chOff x="6710400" y="5568840"/>
                      <a:chExt cx="47520" cy="104760"/>
                    </a:xfrm>
                  </p:grpSpPr>
                  <p:grpSp>
                    <p:nvGrpSpPr>
                      <p:cNvPr id="953" name=""/>
                      <p:cNvGrpSpPr/>
                      <p:nvPr/>
                    </p:nvGrpSpPr>
                    <p:grpSpPr>
                      <a:xfrm>
                        <a:off x="6710400" y="5568840"/>
                        <a:ext cx="36360" cy="104760"/>
                        <a:chOff x="6710400" y="5568840"/>
                        <a:chExt cx="36360" cy="104760"/>
                      </a:xfrm>
                    </p:grpSpPr>
                    <p:grpSp>
                      <p:nvGrpSpPr>
                        <p:cNvPr id="954" name=""/>
                        <p:cNvGrpSpPr/>
                        <p:nvPr/>
                      </p:nvGrpSpPr>
                      <p:grpSpPr>
                        <a:xfrm>
                          <a:off x="6710400" y="5568840"/>
                          <a:ext cx="33480" cy="103320"/>
                          <a:chOff x="6710400" y="5568840"/>
                          <a:chExt cx="33480" cy="103320"/>
                        </a:xfrm>
                      </p:grpSpPr>
                      <p:sp>
                        <p:nvSpPr>
                          <p:cNvPr id="955" name=""/>
                          <p:cNvSpPr/>
                          <p:nvPr/>
                        </p:nvSpPr>
                        <p:spPr>
                          <a:xfrm>
                            <a:off x="6710400" y="5568840"/>
                            <a:ext cx="33480" cy="25560"/>
                          </a:xfrm>
                          <a:prstGeom prst="ellipse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440" bIns="-28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  <p:sp>
                        <p:nvSpPr>
                          <p:cNvPr id="956" name=""/>
                          <p:cNvSpPr/>
                          <p:nvPr/>
                        </p:nvSpPr>
                        <p:spPr>
                          <a:xfrm>
                            <a:off x="6710400" y="5573880"/>
                            <a:ext cx="33480" cy="98280"/>
                          </a:xfrm>
                          <a:prstGeom prst="rect">
                            <a:avLst/>
                          </a:prstGeom>
                          <a:solidFill>
                            <a:srgbClr val="60606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Book Antiqua"/>
                            </a:endParaRPr>
                          </a:p>
                        </p:txBody>
                      </p:sp>
                    </p:grp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6719760" y="5568840"/>
                          <a:ext cx="27000" cy="10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6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5"/>
                              </a:lnTo>
                              <a:lnTo>
                                <a:pt x="16" y="65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6711840" y="5570640"/>
                          <a:ext cx="27000" cy="10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65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16" y="64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6730920" y="5587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60" name=""/>
                  <p:cNvSpPr/>
                  <p:nvPr/>
                </p:nvSpPr>
                <p:spPr>
                  <a:xfrm>
                    <a:off x="6661080" y="5645160"/>
                    <a:ext cx="1335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59">
                        <a:moveTo>
                          <a:pt x="83" y="3"/>
                        </a:moveTo>
                        <a:lnTo>
                          <a:pt x="40" y="3"/>
                        </a:lnTo>
                        <a:lnTo>
                          <a:pt x="40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4" y="3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25" y="0"/>
                        </a:lnTo>
                        <a:lnTo>
                          <a:pt x="25" y="3"/>
                        </a:lnTo>
                        <a:lnTo>
                          <a:pt x="22" y="3"/>
                        </a:lnTo>
                        <a:lnTo>
                          <a:pt x="22" y="0"/>
                        </a:lnTo>
                        <a:lnTo>
                          <a:pt x="19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9" y="3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58"/>
                        </a:lnTo>
                        <a:lnTo>
                          <a:pt x="83" y="58"/>
                        </a:lnTo>
                        <a:lnTo>
                          <a:pt x="83" y="3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61" name=""/>
                  <p:cNvGrpSpPr/>
                  <p:nvPr/>
                </p:nvGrpSpPr>
                <p:grpSpPr>
                  <a:xfrm>
                    <a:off x="6761160" y="5494320"/>
                    <a:ext cx="58680" cy="174600"/>
                    <a:chOff x="6761160" y="5494320"/>
                    <a:chExt cx="58680" cy="17460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761160" y="5494320"/>
                      <a:ext cx="57240" cy="65160"/>
                      <a:chOff x="6761160" y="5494320"/>
                      <a:chExt cx="57240" cy="65160"/>
                    </a:xfrm>
                  </p:grpSpPr>
                  <p:sp>
                    <p:nvSpPr>
                      <p:cNvPr id="963" name=""/>
                      <p:cNvSpPr/>
                      <p:nvPr/>
                    </p:nvSpPr>
                    <p:spPr>
                      <a:xfrm>
                        <a:off x="6762600" y="5494320"/>
                        <a:ext cx="558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27">
                            <a:moveTo>
                              <a:pt x="17" y="0"/>
                            </a:moveTo>
                            <a:lnTo>
                              <a:pt x="26" y="18"/>
                            </a:lnTo>
                            <a:lnTo>
                              <a:pt x="34" y="26"/>
                            </a:lnTo>
                            <a:lnTo>
                              <a:pt x="0" y="26"/>
                            </a:lnTo>
                            <a:lnTo>
                              <a:pt x="8" y="18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8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>
                        <a:off x="6762600" y="5494320"/>
                        <a:ext cx="2700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7">
                            <a:moveTo>
                              <a:pt x="16" y="0"/>
                            </a:moveTo>
                            <a:lnTo>
                              <a:pt x="7" y="18"/>
                            </a:lnTo>
                            <a:lnTo>
                              <a:pt x="0" y="26"/>
                            </a:lnTo>
                            <a:lnTo>
                              <a:pt x="5" y="26"/>
                            </a:lnTo>
                            <a:lnTo>
                              <a:pt x="10" y="19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5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>
                        <a:off x="6761160" y="5533920"/>
                        <a:ext cx="55440" cy="25560"/>
                      </a:xfrm>
                      <a:prstGeom prst="ellipse">
                        <a:avLst/>
                      </a:pr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6764400" y="5535720"/>
                      <a:ext cx="55440" cy="133200"/>
                      <a:chOff x="6764400" y="5535720"/>
                      <a:chExt cx="55440" cy="133200"/>
                    </a:xfrm>
                  </p:grpSpPr>
                  <p:sp>
                    <p:nvSpPr>
                      <p:cNvPr id="967" name=""/>
                      <p:cNvSpPr/>
                      <p:nvPr/>
                    </p:nvSpPr>
                    <p:spPr>
                      <a:xfrm>
                        <a:off x="6764400" y="5622840"/>
                        <a:ext cx="46080" cy="4608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3680" bIns="-13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grpSp>
                    <p:nvGrpSpPr>
                      <p:cNvPr id="968" name=""/>
                      <p:cNvGrpSpPr/>
                      <p:nvPr/>
                    </p:nvGrpSpPr>
                    <p:grpSpPr>
                      <a:xfrm>
                        <a:off x="6769080" y="5535720"/>
                        <a:ext cx="41400" cy="112680"/>
                        <a:chOff x="6769080" y="5535720"/>
                        <a:chExt cx="41400" cy="112680"/>
                      </a:xfrm>
                    </p:grpSpPr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6769080" y="5535720"/>
                          <a:ext cx="4140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>
                          <a:off x="6769080" y="5541840"/>
                          <a:ext cx="41400" cy="10656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71" name=""/>
                      <p:cNvSpPr/>
                      <p:nvPr/>
                    </p:nvSpPr>
                    <p:spPr>
                      <a:xfrm>
                        <a:off x="6781680" y="5535720"/>
                        <a:ext cx="180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7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71"/>
                            </a:lnTo>
                            <a:lnTo>
                              <a:pt x="0" y="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2" name=""/>
                      <p:cNvSpPr/>
                      <p:nvPr/>
                    </p:nvSpPr>
                    <p:spPr>
                      <a:xfrm>
                        <a:off x="6772320" y="5537160"/>
                        <a:ext cx="27000" cy="1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7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70"/>
                            </a:lnTo>
                            <a:lnTo>
                              <a:pt x="16" y="7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973" name=""/>
                      <p:cNvSpPr/>
                      <p:nvPr/>
                    </p:nvSpPr>
                    <p:spPr>
                      <a:xfrm>
                        <a:off x="6792840" y="556092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3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</p:grpSp>
              <p:sp>
                <p:nvSpPr>
                  <p:cNvPr id="974" name=""/>
                  <p:cNvSpPr/>
                  <p:nvPr/>
                </p:nvSpPr>
                <p:spPr>
                  <a:xfrm>
                    <a:off x="6783480" y="5603760"/>
                    <a:ext cx="25200" cy="13500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730920" y="5649840"/>
                    <a:ext cx="25560" cy="88920"/>
                  </a:xfrm>
                  <a:prstGeom prst="rect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6724800" y="5551560"/>
                    <a:ext cx="66600" cy="68040"/>
                    <a:chOff x="6724800" y="5551560"/>
                    <a:chExt cx="66600" cy="68040"/>
                  </a:xfrm>
                </p:grpSpPr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6726240" y="5551560"/>
                      <a:ext cx="651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9">
                          <a:moveTo>
                            <a:pt x="19" y="0"/>
                          </a:moveTo>
                          <a:lnTo>
                            <a:pt x="30" y="20"/>
                          </a:lnTo>
                          <a:lnTo>
                            <a:pt x="40" y="28"/>
                          </a:lnTo>
                          <a:lnTo>
                            <a:pt x="0" y="28"/>
                          </a:lnTo>
                          <a:lnTo>
                            <a:pt x="10" y="19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6726240" y="5551560"/>
                      <a:ext cx="316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9">
                          <a:moveTo>
                            <a:pt x="19" y="0"/>
                          </a:moveTo>
                          <a:lnTo>
                            <a:pt x="9" y="19"/>
                          </a:lnTo>
                          <a:lnTo>
                            <a:pt x="0" y="28"/>
                          </a:lnTo>
                          <a:lnTo>
                            <a:pt x="6" y="28"/>
                          </a:lnTo>
                          <a:lnTo>
                            <a:pt x="12" y="20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6724800" y="5594400"/>
                      <a:ext cx="6480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6732720" y="5595840"/>
                    <a:ext cx="56880" cy="144720"/>
                    <a:chOff x="6732720" y="5595840"/>
                    <a:chExt cx="56880" cy="144720"/>
                  </a:xfrm>
                </p:grpSpPr>
                <p:grpSp>
                  <p:nvGrpSpPr>
                    <p:cNvPr id="981" name=""/>
                    <p:cNvGrpSpPr/>
                    <p:nvPr/>
                  </p:nvGrpSpPr>
                  <p:grpSpPr>
                    <a:xfrm>
                      <a:off x="6732720" y="5595840"/>
                      <a:ext cx="56880" cy="142920"/>
                      <a:chOff x="6732720" y="5595840"/>
                      <a:chExt cx="56880" cy="142920"/>
                    </a:xfrm>
                  </p:grpSpPr>
                  <p:grpSp>
                    <p:nvGrpSpPr>
                      <p:cNvPr id="982" name=""/>
                      <p:cNvGrpSpPr/>
                      <p:nvPr/>
                    </p:nvGrpSpPr>
                    <p:grpSpPr>
                      <a:xfrm>
                        <a:off x="6732720" y="5595840"/>
                        <a:ext cx="48960" cy="142920"/>
                        <a:chOff x="6732720" y="5595840"/>
                        <a:chExt cx="48960" cy="142920"/>
                      </a:xfrm>
                    </p:grpSpPr>
                    <p:sp>
                      <p:nvSpPr>
                        <p:cNvPr id="983" name=""/>
                        <p:cNvSpPr/>
                        <p:nvPr/>
                      </p:nvSpPr>
                      <p:spPr>
                        <a:xfrm>
                          <a:off x="6732720" y="5595840"/>
                          <a:ext cx="48960" cy="2556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984" name=""/>
                        <p:cNvSpPr/>
                        <p:nvPr/>
                      </p:nvSpPr>
                      <p:spPr>
                        <a:xfrm>
                          <a:off x="6734160" y="5603760"/>
                          <a:ext cx="47520" cy="135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6762600" y="5622840"/>
                        <a:ext cx="270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6" y="16"/>
                            </a:lnTo>
                            <a:lnTo>
                              <a:pt x="2" y="16"/>
                            </a:lnTo>
                            <a:lnTo>
                              <a:pt x="0" y="16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6750000" y="5595840"/>
                      <a:ext cx="180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0"/>
                          </a:lnTo>
                          <a:lnTo>
                            <a:pt x="0" y="9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6738840" y="5597640"/>
                      <a:ext cx="180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0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0" y="89"/>
                          </a:lnTo>
                          <a:lnTo>
                            <a:pt x="0" y="8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6702480" y="5541840"/>
                    <a:ext cx="57240" cy="27000"/>
                    <a:chOff x="6702480" y="5541840"/>
                    <a:chExt cx="57240" cy="27000"/>
                  </a:xfrm>
                </p:grpSpPr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6702480" y="5541840"/>
                      <a:ext cx="554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7">
                          <a:moveTo>
                            <a:pt x="34" y="0"/>
                          </a:moveTo>
                          <a:lnTo>
                            <a:pt x="29" y="1"/>
                          </a:lnTo>
                          <a:lnTo>
                            <a:pt x="26" y="1"/>
                          </a:lnTo>
                          <a:lnTo>
                            <a:pt x="24" y="4"/>
                          </a:lnTo>
                          <a:lnTo>
                            <a:pt x="22" y="5"/>
                          </a:lnTo>
                          <a:lnTo>
                            <a:pt x="20" y="7"/>
                          </a:lnTo>
                          <a:lnTo>
                            <a:pt x="17" y="10"/>
                          </a:lnTo>
                          <a:lnTo>
                            <a:pt x="12" y="13"/>
                          </a:lnTo>
                          <a:lnTo>
                            <a:pt x="9" y="14"/>
                          </a:lnTo>
                          <a:lnTo>
                            <a:pt x="4" y="14"/>
                          </a:lnTo>
                          <a:lnTo>
                            <a:pt x="0" y="14"/>
                          </a:lnTo>
                          <a:lnTo>
                            <a:pt x="3" y="16"/>
                          </a:lnTo>
                          <a:lnTo>
                            <a:pt x="8" y="14"/>
                          </a:lnTo>
                          <a:lnTo>
                            <a:pt x="13" y="14"/>
                          </a:lnTo>
                          <a:lnTo>
                            <a:pt x="19" y="13"/>
                          </a:lnTo>
                          <a:lnTo>
                            <a:pt x="24" y="10"/>
                          </a:lnTo>
                          <a:lnTo>
                            <a:pt x="26" y="8"/>
                          </a:lnTo>
                          <a:lnTo>
                            <a:pt x="29" y="7"/>
                          </a:lnTo>
                          <a:lnTo>
                            <a:pt x="32" y="7"/>
                          </a:lnTo>
                          <a:lnTo>
                            <a:pt x="34" y="7"/>
                          </a:lnTo>
                          <a:lnTo>
                            <a:pt x="34" y="0"/>
                          </a:lnTo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6759720" y="5541840"/>
                      <a:ext cx="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</p:grpSp>
        </p:grpSp>
        <p:sp>
          <p:nvSpPr>
            <p:cNvPr id="991" name=""/>
            <p:cNvSpPr/>
            <p:nvPr/>
          </p:nvSpPr>
          <p:spPr>
            <a:xfrm>
              <a:off x="5530680" y="5143680"/>
              <a:ext cx="147348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285640" y="228600"/>
            <a:ext cx="6579000" cy="5892840"/>
            <a:chOff x="2285640" y="228600"/>
            <a:chExt cx="6579000" cy="5892840"/>
          </a:xfrm>
        </p:grpSpPr>
        <p:sp>
          <p:nvSpPr>
            <p:cNvPr id="993" name=""/>
            <p:cNvSpPr/>
            <p:nvPr/>
          </p:nvSpPr>
          <p:spPr>
            <a:xfrm>
              <a:off x="4114800" y="1974960"/>
              <a:ext cx="2995200" cy="46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aeaea"/>
                  </a:solidFill>
                  <a:latin typeface="Arial"/>
                </a:rPr>
                <a:t>US/US Government</a:t>
              </a: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15720" y="993600"/>
              <a:ext cx="1149480" cy="767520"/>
              <a:chOff x="3915720" y="993600"/>
              <a:chExt cx="1149480" cy="767520"/>
            </a:xfrm>
          </p:grpSpPr>
          <p:sp>
            <p:nvSpPr>
              <p:cNvPr id="995" name=""/>
              <p:cNvSpPr/>
              <p:nvPr/>
            </p:nvSpPr>
            <p:spPr>
              <a:xfrm>
                <a:off x="3978360" y="993600"/>
                <a:ext cx="1022400" cy="75888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ffff99"/>
                </a:solidFill>
                <a:miter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3915360" y="1023840"/>
                <a:ext cx="1149480" cy="7372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81d5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7520" bIns="475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99"/>
                    </a:solidFill>
                    <a:latin typeface="Arial"/>
                  </a:rPr>
                  <a:t>PAA</a:t>
                </a:r>
                <a:endParaRPr b="0" lang="en-US" sz="28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2285640" y="228600"/>
              <a:ext cx="45345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ff99"/>
                  </a:solidFill>
                  <a:latin typeface="Arial"/>
                </a:rPr>
                <a:t>Operational PKI </a:t>
              </a:r>
              <a:endParaRPr b="0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37520" y="2940120"/>
              <a:ext cx="625320" cy="463320"/>
            </a:xfrm>
            <a:prstGeom prst="octagon">
              <a:avLst>
                <a:gd name="adj" fmla="val 29282"/>
              </a:avLst>
            </a:prstGeom>
            <a:noFill/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08440" y="3392640"/>
              <a:ext cx="477000" cy="2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Arial"/>
                </a:rPr>
                <a:t>Intel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367760" y="3017880"/>
              <a:ext cx="62676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PCA 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13760" y="3392640"/>
              <a:ext cx="92160" cy="291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8418600" y="3035160"/>
              <a:ext cx="92160" cy="28584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767360" y="25462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CI</a:t>
              </a:r>
              <a:endParaRPr b="0" lang="en-US" sz="16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5400000">
              <a:off x="750564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400000">
              <a:off x="8305920" y="3845520"/>
              <a:ext cx="49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eaeaea"/>
                  </a:solidFill>
                  <a:latin typeface="Arial"/>
                </a:rPr>
                <a:t>....</a:t>
              </a:r>
              <a:endParaRPr b="0" lang="en-US" sz="2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7445520" y="5295960"/>
              <a:ext cx="406080" cy="635040"/>
              <a:chOff x="7445520" y="5295960"/>
              <a:chExt cx="406080" cy="635040"/>
            </a:xfrm>
          </p:grpSpPr>
          <p:sp>
            <p:nvSpPr>
              <p:cNvPr id="1007" name=""/>
              <p:cNvSpPr/>
              <p:nvPr/>
            </p:nvSpPr>
            <p:spPr>
              <a:xfrm>
                <a:off x="7445520" y="5295960"/>
                <a:ext cx="40608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67480" y="5321160"/>
                <a:ext cx="358560" cy="590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26160" y="533412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59280" y="537840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21480" y="5740200"/>
                <a:ext cx="24264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012" name=""/>
              <p:cNvGrpSpPr/>
              <p:nvPr/>
            </p:nvGrpSpPr>
            <p:grpSpPr>
              <a:xfrm>
                <a:off x="7488000" y="5446800"/>
                <a:ext cx="309960" cy="245880"/>
                <a:chOff x="7488000" y="5446800"/>
                <a:chExt cx="309960" cy="2458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757512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8448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7554600" y="5489640"/>
                  <a:ext cx="62280" cy="136440"/>
                  <a:chOff x="7554600" y="5489640"/>
                  <a:chExt cx="62280" cy="13644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7555680" y="5489640"/>
                    <a:ext cx="457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57944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554600" y="5519520"/>
                    <a:ext cx="4536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7560360" y="5521320"/>
                    <a:ext cx="56520" cy="104760"/>
                    <a:chOff x="7560360" y="5521320"/>
                    <a:chExt cx="56520" cy="104760"/>
                  </a:xfrm>
                </p:grpSpPr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7560360" y="5521320"/>
                      <a:ext cx="56520" cy="104760"/>
                      <a:chOff x="7560360" y="5521320"/>
                      <a:chExt cx="56520" cy="104760"/>
                    </a:xfrm>
                  </p:grpSpPr>
                  <p:grpSp>
                    <p:nvGrpSpPr>
                      <p:cNvPr id="1021" name=""/>
                      <p:cNvGrpSpPr/>
                      <p:nvPr/>
                    </p:nvGrpSpPr>
                    <p:grpSpPr>
                      <a:xfrm>
                        <a:off x="7560360" y="5521320"/>
                        <a:ext cx="34560" cy="103320"/>
                        <a:chOff x="7560360" y="5521320"/>
                        <a:chExt cx="34560" cy="103320"/>
                      </a:xfrm>
                    </p:grpSpPr>
                    <p:sp>
                      <p:nvSpPr>
                        <p:cNvPr id="1022" name=""/>
                        <p:cNvSpPr/>
                        <p:nvPr/>
                      </p:nvSpPr>
                      <p:spPr>
                        <a:xfrm>
                          <a:off x="7560360" y="5521320"/>
                          <a:ext cx="3456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>
                          <a:off x="7560360" y="5526000"/>
                          <a:ext cx="3456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758232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25" name=""/>
                      <p:cNvSpPr/>
                      <p:nvPr/>
                    </p:nvSpPr>
                    <p:spPr>
                      <a:xfrm>
                        <a:off x="759024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756972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27" name=""/>
                <p:cNvSpPr/>
                <p:nvPr/>
              </p:nvSpPr>
              <p:spPr>
                <a:xfrm>
                  <a:off x="751176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28" name=""/>
                <p:cNvGrpSpPr/>
                <p:nvPr/>
              </p:nvGrpSpPr>
              <p:grpSpPr>
                <a:xfrm>
                  <a:off x="7488000" y="5446800"/>
                  <a:ext cx="68760" cy="174600"/>
                  <a:chOff x="7488000" y="5446800"/>
                  <a:chExt cx="68760" cy="174600"/>
                </a:xfrm>
              </p:grpSpPr>
              <p:grpSp>
                <p:nvGrpSpPr>
                  <p:cNvPr id="1029" name=""/>
                  <p:cNvGrpSpPr/>
                  <p:nvPr/>
                </p:nvGrpSpPr>
                <p:grpSpPr>
                  <a:xfrm>
                    <a:off x="7488000" y="5446800"/>
                    <a:ext cx="56520" cy="64800"/>
                    <a:chOff x="7488000" y="5446800"/>
                    <a:chExt cx="56520" cy="64800"/>
                  </a:xfrm>
                </p:grpSpPr>
                <p:sp>
                  <p:nvSpPr>
                    <p:cNvPr id="1030" name=""/>
                    <p:cNvSpPr/>
                    <p:nvPr/>
                  </p:nvSpPr>
                  <p:spPr>
                    <a:xfrm>
                      <a:off x="7489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>
                      <a:off x="751788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7488000" y="5486400"/>
                      <a:ext cx="5544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7494120" y="5487840"/>
                    <a:ext cx="62640" cy="133560"/>
                    <a:chOff x="7494120" y="5487840"/>
                    <a:chExt cx="62640" cy="133560"/>
                  </a:xfrm>
                </p:grpSpPr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7494120" y="5575320"/>
                      <a:ext cx="4716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35" name=""/>
                    <p:cNvGrpSpPr/>
                    <p:nvPr/>
                  </p:nvGrpSpPr>
                  <p:grpSpPr>
                    <a:xfrm>
                      <a:off x="7494120" y="5487840"/>
                      <a:ext cx="42120" cy="112680"/>
                      <a:chOff x="7494120" y="5487840"/>
                      <a:chExt cx="42120" cy="112680"/>
                    </a:xfrm>
                  </p:grpSpPr>
                  <p:sp>
                    <p:nvSpPr>
                      <p:cNvPr id="1036" name=""/>
                      <p:cNvSpPr/>
                      <p:nvPr/>
                    </p:nvSpPr>
                    <p:spPr>
                      <a:xfrm>
                        <a:off x="7495200" y="5487840"/>
                        <a:ext cx="4104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7494120" y="5494320"/>
                        <a:ext cx="4104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7522200" y="5487840"/>
                      <a:ext cx="14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753012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750636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41" name=""/>
                <p:cNvSpPr/>
                <p:nvPr/>
              </p:nvSpPr>
              <p:spPr>
                <a:xfrm>
                  <a:off x="7519680" y="5556240"/>
                  <a:ext cx="2484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7565400" y="560232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43" name=""/>
                <p:cNvGrpSpPr/>
                <p:nvPr/>
              </p:nvGrpSpPr>
              <p:grpSpPr>
                <a:xfrm>
                  <a:off x="7514640" y="5503680"/>
                  <a:ext cx="64800" cy="68400"/>
                  <a:chOff x="7514640" y="5503680"/>
                  <a:chExt cx="64800" cy="6840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7514640" y="550368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549200" y="550368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514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522560" y="5548320"/>
                  <a:ext cx="69120" cy="144360"/>
                  <a:chOff x="7522560" y="5548320"/>
                  <a:chExt cx="69120" cy="144360"/>
                </a:xfrm>
              </p:grpSpPr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7522560" y="5548320"/>
                    <a:ext cx="48960" cy="142920"/>
                    <a:chOff x="7522560" y="5548320"/>
                    <a:chExt cx="48960" cy="142920"/>
                  </a:xfrm>
                </p:grpSpPr>
                <p:grpSp>
                  <p:nvGrpSpPr>
                    <p:cNvPr id="1049" name=""/>
                    <p:cNvGrpSpPr/>
                    <p:nvPr/>
                  </p:nvGrpSpPr>
                  <p:grpSpPr>
                    <a:xfrm>
                      <a:off x="7522560" y="5548320"/>
                      <a:ext cx="48960" cy="142920"/>
                      <a:chOff x="7522560" y="5548320"/>
                      <a:chExt cx="48960" cy="142920"/>
                    </a:xfrm>
                  </p:grpSpPr>
                  <p:sp>
                    <p:nvSpPr>
                      <p:cNvPr id="1050" name=""/>
                      <p:cNvSpPr/>
                      <p:nvPr/>
                    </p:nvSpPr>
                    <p:spPr>
                      <a:xfrm>
                        <a:off x="7522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51" name=""/>
                      <p:cNvSpPr/>
                      <p:nvPr/>
                    </p:nvSpPr>
                    <p:spPr>
                      <a:xfrm>
                        <a:off x="7522560" y="555624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753660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53" name=""/>
                  <p:cNvSpPr/>
                  <p:nvPr/>
                </p:nvSpPr>
                <p:spPr>
                  <a:xfrm>
                    <a:off x="755568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565040" y="5549760"/>
                    <a:ext cx="266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7492680" y="5494320"/>
                  <a:ext cx="56520" cy="27000"/>
                  <a:chOff x="7492680" y="5494320"/>
                  <a:chExt cx="56520" cy="2700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7492680" y="5494320"/>
                    <a:ext cx="55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7549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058" name=""/>
                <p:cNvSpPr/>
                <p:nvPr/>
              </p:nvSpPr>
              <p:spPr>
                <a:xfrm>
                  <a:off x="7640280" y="5521320"/>
                  <a:ext cx="6948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84560" y="552780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83120" y="5489640"/>
                  <a:ext cx="52920" cy="136440"/>
                  <a:chOff x="7683120" y="5489640"/>
                  <a:chExt cx="52920" cy="13644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83120" y="5489640"/>
                    <a:ext cx="471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83120" y="5489640"/>
                    <a:ext cx="266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83120" y="5519520"/>
                    <a:ext cx="4572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064" name=""/>
                  <p:cNvGrpSpPr/>
                  <p:nvPr/>
                </p:nvGrpSpPr>
                <p:grpSpPr>
                  <a:xfrm>
                    <a:off x="7688880" y="5521320"/>
                    <a:ext cx="47160" cy="104760"/>
                    <a:chOff x="7688880" y="5521320"/>
                    <a:chExt cx="47160" cy="104760"/>
                  </a:xfrm>
                </p:grpSpPr>
                <p:grpSp>
                  <p:nvGrpSpPr>
                    <p:cNvPr id="1065" name=""/>
                    <p:cNvGrpSpPr/>
                    <p:nvPr/>
                  </p:nvGrpSpPr>
                  <p:grpSpPr>
                    <a:xfrm>
                      <a:off x="7688880" y="5521320"/>
                      <a:ext cx="36000" cy="104760"/>
                      <a:chOff x="7688880" y="5521320"/>
                      <a:chExt cx="36000" cy="104760"/>
                    </a:xfrm>
                  </p:grpSpPr>
                  <p:grpSp>
                    <p:nvGrpSpPr>
                      <p:cNvPr id="1066" name=""/>
                      <p:cNvGrpSpPr/>
                      <p:nvPr/>
                    </p:nvGrpSpPr>
                    <p:grpSpPr>
                      <a:xfrm>
                        <a:off x="7688880" y="5521320"/>
                        <a:ext cx="33120" cy="103320"/>
                        <a:chOff x="7688880" y="5521320"/>
                        <a:chExt cx="33120" cy="103320"/>
                      </a:xfrm>
                    </p:grpSpPr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>
                          <a:off x="7688880" y="5521320"/>
                          <a:ext cx="33120" cy="2520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>
                          <a:off x="7688880" y="5526000"/>
                          <a:ext cx="33120" cy="9864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069" name=""/>
                      <p:cNvSpPr/>
                      <p:nvPr/>
                    </p:nvSpPr>
                    <p:spPr>
                      <a:xfrm>
                        <a:off x="7698240" y="5521320"/>
                        <a:ext cx="2664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70" name=""/>
                      <p:cNvSpPr/>
                      <p:nvPr/>
                    </p:nvSpPr>
                    <p:spPr>
                      <a:xfrm>
                        <a:off x="7690320" y="5522760"/>
                        <a:ext cx="26640" cy="10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7709400" y="5540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72" name=""/>
                <p:cNvSpPr/>
                <p:nvPr/>
              </p:nvSpPr>
              <p:spPr>
                <a:xfrm>
                  <a:off x="7640280" y="5597640"/>
                  <a:ext cx="13284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7740360" y="5446800"/>
                  <a:ext cx="57600" cy="174600"/>
                  <a:chOff x="7740360" y="5446800"/>
                  <a:chExt cx="57600" cy="174600"/>
                </a:xfrm>
              </p:grpSpPr>
              <p:grpSp>
                <p:nvGrpSpPr>
                  <p:cNvPr id="1074" name=""/>
                  <p:cNvGrpSpPr/>
                  <p:nvPr/>
                </p:nvGrpSpPr>
                <p:grpSpPr>
                  <a:xfrm>
                    <a:off x="7740360" y="5446800"/>
                    <a:ext cx="56160" cy="64800"/>
                    <a:chOff x="7740360" y="5446800"/>
                    <a:chExt cx="56160" cy="64800"/>
                  </a:xfrm>
                </p:grpSpPr>
                <p:sp>
                  <p:nvSpPr>
                    <p:cNvPr id="1075" name=""/>
                    <p:cNvSpPr/>
                    <p:nvPr/>
                  </p:nvSpPr>
                  <p:spPr>
                    <a:xfrm>
                      <a:off x="7741440" y="5446800"/>
                      <a:ext cx="5508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>
                      <a:off x="7741440" y="544680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740360" y="5486400"/>
                      <a:ext cx="55080" cy="252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7742880" y="5487840"/>
                    <a:ext cx="55080" cy="133560"/>
                    <a:chOff x="7742880" y="5487840"/>
                    <a:chExt cx="55080" cy="13356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742880" y="5575320"/>
                      <a:ext cx="4572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080" name=""/>
                    <p:cNvGrpSpPr/>
                    <p:nvPr/>
                  </p:nvGrpSpPr>
                  <p:grpSpPr>
                    <a:xfrm>
                      <a:off x="7747560" y="5487840"/>
                      <a:ext cx="40680" cy="112680"/>
                      <a:chOff x="7747560" y="5487840"/>
                      <a:chExt cx="40680" cy="112680"/>
                    </a:xfrm>
                  </p:grpSpPr>
                  <p:sp>
                    <p:nvSpPr>
                      <p:cNvPr id="1081" name=""/>
                      <p:cNvSpPr/>
                      <p:nvPr/>
                    </p:nvSpPr>
                    <p:spPr>
                      <a:xfrm>
                        <a:off x="7747560" y="5487840"/>
                        <a:ext cx="40680" cy="25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82" name=""/>
                      <p:cNvSpPr/>
                      <p:nvPr/>
                    </p:nvSpPr>
                    <p:spPr>
                      <a:xfrm>
                        <a:off x="7747560" y="5494320"/>
                        <a:ext cx="40680" cy="10620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7760160" y="5487840"/>
                      <a:ext cx="10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7750440" y="5489640"/>
                      <a:ext cx="2664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7771320" y="551340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086" name=""/>
                <p:cNvSpPr/>
                <p:nvPr/>
              </p:nvSpPr>
              <p:spPr>
                <a:xfrm>
                  <a:off x="7762320" y="555624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7710120" y="5602320"/>
                  <a:ext cx="2484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088" name=""/>
                <p:cNvGrpSpPr/>
                <p:nvPr/>
              </p:nvGrpSpPr>
              <p:grpSpPr>
                <a:xfrm>
                  <a:off x="7703640" y="5503680"/>
                  <a:ext cx="65880" cy="68400"/>
                  <a:chOff x="7703640" y="5503680"/>
                  <a:chExt cx="65880" cy="68400"/>
                </a:xfrm>
              </p:grpSpPr>
              <p:sp>
                <p:nvSpPr>
                  <p:cNvPr id="1089" name=""/>
                  <p:cNvSpPr/>
                  <p:nvPr/>
                </p:nvSpPr>
                <p:spPr>
                  <a:xfrm>
                    <a:off x="7705080" y="5503680"/>
                    <a:ext cx="644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705080" y="5503680"/>
                    <a:ext cx="313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703640" y="5546520"/>
                    <a:ext cx="6480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092" name=""/>
                <p:cNvGrpSpPr/>
                <p:nvPr/>
              </p:nvGrpSpPr>
              <p:grpSpPr>
                <a:xfrm>
                  <a:off x="7711560" y="5548320"/>
                  <a:ext cx="56520" cy="144360"/>
                  <a:chOff x="7711560" y="5548320"/>
                  <a:chExt cx="56520" cy="144360"/>
                </a:xfrm>
              </p:grpSpPr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7711560" y="5548320"/>
                    <a:ext cx="56520" cy="142920"/>
                    <a:chOff x="7711560" y="5548320"/>
                    <a:chExt cx="56520" cy="142920"/>
                  </a:xfrm>
                </p:grpSpPr>
                <p:grpSp>
                  <p:nvGrpSpPr>
                    <p:cNvPr id="1094" name=""/>
                    <p:cNvGrpSpPr/>
                    <p:nvPr/>
                  </p:nvGrpSpPr>
                  <p:grpSpPr>
                    <a:xfrm>
                      <a:off x="7711560" y="5548320"/>
                      <a:ext cx="48960" cy="142920"/>
                      <a:chOff x="7711560" y="5548320"/>
                      <a:chExt cx="48960" cy="142920"/>
                    </a:xfrm>
                  </p:grpSpPr>
                  <p:sp>
                    <p:nvSpPr>
                      <p:cNvPr id="1095" name=""/>
                      <p:cNvSpPr/>
                      <p:nvPr/>
                    </p:nvSpPr>
                    <p:spPr>
                      <a:xfrm>
                        <a:off x="7711560" y="5548320"/>
                        <a:ext cx="48960" cy="2520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>
                        <a:off x="7713000" y="5556240"/>
                        <a:ext cx="471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741440" y="5575320"/>
                      <a:ext cx="266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098" name=""/>
                  <p:cNvSpPr/>
                  <p:nvPr/>
                </p:nvSpPr>
                <p:spPr>
                  <a:xfrm>
                    <a:off x="7728840" y="5548320"/>
                    <a:ext cx="1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7717680" y="5549760"/>
                    <a:ext cx="1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7681320" y="5494320"/>
                  <a:ext cx="56880" cy="27000"/>
                  <a:chOff x="7681320" y="5494320"/>
                  <a:chExt cx="56880" cy="2700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7681320" y="549432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738200" y="549432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grpSp>
          <p:nvGrpSpPr>
            <p:cNvPr id="1103" name=""/>
            <p:cNvGrpSpPr/>
            <p:nvPr/>
          </p:nvGrpSpPr>
          <p:grpSpPr>
            <a:xfrm>
              <a:off x="8283600" y="5305320"/>
              <a:ext cx="406440" cy="635040"/>
              <a:chOff x="8283600" y="5305320"/>
              <a:chExt cx="406440" cy="635040"/>
            </a:xfrm>
          </p:grpSpPr>
          <p:sp>
            <p:nvSpPr>
              <p:cNvPr id="1104" name=""/>
              <p:cNvSpPr/>
              <p:nvPr/>
            </p:nvSpPr>
            <p:spPr>
              <a:xfrm>
                <a:off x="8283600" y="5305320"/>
                <a:ext cx="406440" cy="6350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305560" y="5330880"/>
                <a:ext cx="358920" cy="590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364600" y="5343480"/>
                <a:ext cx="245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FORTEZZA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397720" y="5387760"/>
                <a:ext cx="190800" cy="1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0240" rIns="30240" tIns="15840" bIns="15840" anchor="t">
                <a:spAutoFit/>
              </a:bodyPr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rypto 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  </a:t>
                </a: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Card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8359560" y="5749920"/>
                <a:ext cx="243000" cy="1476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0240" rIns="30240" tIns="15840" bIns="1584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Group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101520"/>
                    <a:tab algn="l" pos="203040"/>
                    <a:tab algn="l" pos="304920"/>
                    <a:tab algn="l" pos="406440"/>
                    <a:tab algn="l" pos="507960"/>
                    <a:tab algn="l" pos="609480"/>
                    <a:tab algn="l" pos="711360"/>
                    <a:tab algn="l" pos="812880"/>
                    <a:tab algn="l" pos="914400"/>
                    <a:tab algn="l" pos="1015920"/>
                    <a:tab algn="l" pos="1117440"/>
                    <a:tab algn="l" pos="1219320"/>
                    <a:tab algn="l" pos="1320840"/>
                    <a:tab algn="l" pos="1422360"/>
                    <a:tab algn="l" pos="1523880"/>
                    <a:tab algn="l" pos="1625760"/>
                    <a:tab algn="l" pos="1727280"/>
                    <a:tab algn="l" pos="1828800"/>
                    <a:tab algn="l" pos="1930320"/>
                    <a:tab algn="l" pos="2031840"/>
                  </a:tabLst>
                </a:pPr>
                <a:r>
                  <a:rPr b="0" lang="en-US" sz="300" spc="-1" strike="noStrike">
                    <a:solidFill>
                      <a:srgbClr val="eaeaea"/>
                    </a:solidFill>
                    <a:latin typeface="Book Antiqua"/>
                  </a:rPr>
                  <a:t>Technologies</a:t>
                </a:r>
                <a:endParaRPr b="0" lang="en-US" sz="3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09" name=""/>
              <p:cNvGrpSpPr/>
              <p:nvPr/>
            </p:nvGrpSpPr>
            <p:grpSpPr>
              <a:xfrm>
                <a:off x="8326440" y="5456160"/>
                <a:ext cx="311040" cy="246240"/>
                <a:chOff x="8326440" y="5456160"/>
                <a:chExt cx="311040" cy="24624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841356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43" y="0"/>
                      </a:lnTo>
                      <a:lnTo>
                        <a:pt x="4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842328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12" name=""/>
                <p:cNvGrpSpPr/>
                <p:nvPr/>
              </p:nvGrpSpPr>
              <p:grpSpPr>
                <a:xfrm>
                  <a:off x="8393040" y="5499000"/>
                  <a:ext cx="63360" cy="136440"/>
                  <a:chOff x="8393040" y="5499000"/>
                  <a:chExt cx="63360" cy="136440"/>
                </a:xfrm>
              </p:grpSpPr>
              <p:sp>
                <p:nvSpPr>
                  <p:cNvPr id="1113" name=""/>
                  <p:cNvSpPr/>
                  <p:nvPr/>
                </p:nvSpPr>
                <p:spPr>
                  <a:xfrm>
                    <a:off x="8394480" y="5499000"/>
                    <a:ext cx="460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0">
                        <a:moveTo>
                          <a:pt x="14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28" y="19"/>
                        </a:lnTo>
                        <a:lnTo>
                          <a:pt x="22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841824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0" y="0"/>
                        </a:moveTo>
                        <a:lnTo>
                          <a:pt x="8" y="13"/>
                        </a:lnTo>
                        <a:lnTo>
                          <a:pt x="16" y="19"/>
                        </a:lnTo>
                        <a:lnTo>
                          <a:pt x="11" y="19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839304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8399520" y="5530680"/>
                    <a:ext cx="56880" cy="104760"/>
                    <a:chOff x="8399520" y="5530680"/>
                    <a:chExt cx="56880" cy="104760"/>
                  </a:xfrm>
                </p:grpSpPr>
                <p:grpSp>
                  <p:nvGrpSpPr>
                    <p:cNvPr id="1117" name=""/>
                    <p:cNvGrpSpPr/>
                    <p:nvPr/>
                  </p:nvGrpSpPr>
                  <p:grpSpPr>
                    <a:xfrm>
                      <a:off x="8399520" y="5530680"/>
                      <a:ext cx="56880" cy="104760"/>
                      <a:chOff x="8399520" y="5530680"/>
                      <a:chExt cx="56880" cy="104760"/>
                    </a:xfrm>
                  </p:grpSpPr>
                  <p:grpSp>
                    <p:nvGrpSpPr>
                      <p:cNvPr id="1118" name=""/>
                      <p:cNvGrpSpPr/>
                      <p:nvPr/>
                    </p:nvGrpSpPr>
                    <p:grpSpPr>
                      <a:xfrm>
                        <a:off x="8399520" y="5530680"/>
                        <a:ext cx="34920" cy="103320"/>
                        <a:chOff x="8399520" y="5530680"/>
                        <a:chExt cx="34920" cy="103320"/>
                      </a:xfrm>
                    </p:grpSpPr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>
                          <a:off x="8399520" y="5530680"/>
                          <a:ext cx="349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8399520" y="5535720"/>
                          <a:ext cx="349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21" name=""/>
                      <p:cNvSpPr/>
                      <p:nvPr/>
                    </p:nvSpPr>
                    <p:spPr>
                      <a:xfrm>
                        <a:off x="842148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5"/>
                            </a:lnTo>
                            <a:lnTo>
                              <a:pt x="0" y="6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22" name=""/>
                      <p:cNvSpPr/>
                      <p:nvPr/>
                    </p:nvSpPr>
                    <p:spPr>
                      <a:xfrm>
                        <a:off x="842940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0" y="0"/>
                            </a:moveTo>
                            <a:lnTo>
                              <a:pt x="16" y="0"/>
                            </a:lnTo>
                            <a:lnTo>
                              <a:pt x="16" y="64"/>
                            </a:lnTo>
                            <a:lnTo>
                              <a:pt x="0" y="6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840888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24" name=""/>
                <p:cNvSpPr/>
                <p:nvPr/>
              </p:nvSpPr>
              <p:spPr>
                <a:xfrm>
                  <a:off x="835020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0" y="3"/>
                      </a:moveTo>
                      <a:lnTo>
                        <a:pt x="43" y="3"/>
                      </a:lnTo>
                      <a:lnTo>
                        <a:pt x="43" y="0"/>
                      </a:lnTo>
                      <a:lnTo>
                        <a:pt x="46" y="0"/>
                      </a:lnTo>
                      <a:lnTo>
                        <a:pt x="46" y="3"/>
                      </a:lnTo>
                      <a:lnTo>
                        <a:pt x="49" y="3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2" y="3"/>
                      </a:lnTo>
                      <a:lnTo>
                        <a:pt x="55" y="3"/>
                      </a:lnTo>
                      <a:lnTo>
                        <a:pt x="55" y="0"/>
                      </a:lnTo>
                      <a:lnTo>
                        <a:pt x="58" y="0"/>
                      </a:lnTo>
                      <a:lnTo>
                        <a:pt x="58" y="3"/>
                      </a:lnTo>
                      <a:lnTo>
                        <a:pt x="61" y="3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4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lnTo>
                        <a:pt x="71" y="0"/>
                      </a:lnTo>
                      <a:lnTo>
                        <a:pt x="71" y="3"/>
                      </a:lnTo>
                      <a:lnTo>
                        <a:pt x="74" y="3"/>
                      </a:lnTo>
                      <a:lnTo>
                        <a:pt x="74" y="0"/>
                      </a:lnTo>
                      <a:lnTo>
                        <a:pt x="77" y="0"/>
                      </a:lnTo>
                      <a:lnTo>
                        <a:pt x="77" y="3"/>
                      </a:lnTo>
                      <a:lnTo>
                        <a:pt x="80" y="3"/>
                      </a:lnTo>
                      <a:lnTo>
                        <a:pt x="80" y="0"/>
                      </a:lnTo>
                      <a:lnTo>
                        <a:pt x="83" y="0"/>
                      </a:lnTo>
                      <a:lnTo>
                        <a:pt x="83" y="58"/>
                      </a:lnTo>
                      <a:lnTo>
                        <a:pt x="0" y="58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25" name=""/>
                <p:cNvGrpSpPr/>
                <p:nvPr/>
              </p:nvGrpSpPr>
              <p:grpSpPr>
                <a:xfrm>
                  <a:off x="8326440" y="5456160"/>
                  <a:ext cx="69840" cy="174600"/>
                  <a:chOff x="8326440" y="5456160"/>
                  <a:chExt cx="69840" cy="174600"/>
                </a:xfrm>
              </p:grpSpPr>
              <p:grpSp>
                <p:nvGrpSpPr>
                  <p:cNvPr id="1126" name=""/>
                  <p:cNvGrpSpPr/>
                  <p:nvPr/>
                </p:nvGrpSpPr>
                <p:grpSpPr>
                  <a:xfrm>
                    <a:off x="8326440" y="5456160"/>
                    <a:ext cx="56880" cy="65160"/>
                    <a:chOff x="8326440" y="5456160"/>
                    <a:chExt cx="56880" cy="65160"/>
                  </a:xfrm>
                </p:grpSpPr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8327880" y="5456160"/>
                      <a:ext cx="554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9" y="18"/>
                          </a:lnTo>
                          <a:lnTo>
                            <a:pt x="0" y="26"/>
                          </a:lnTo>
                          <a:lnTo>
                            <a:pt x="34" y="26"/>
                          </a:lnTo>
                          <a:lnTo>
                            <a:pt x="26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8356680" y="5456160"/>
                      <a:ext cx="266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0" y="0"/>
                          </a:moveTo>
                          <a:lnTo>
                            <a:pt x="8" y="18"/>
                          </a:lnTo>
                          <a:lnTo>
                            <a:pt x="16" y="26"/>
                          </a:lnTo>
                          <a:lnTo>
                            <a:pt x="11" y="26"/>
                          </a:lnTo>
                          <a:lnTo>
                            <a:pt x="6" y="1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832644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8332560" y="5497560"/>
                    <a:ext cx="63720" cy="133200"/>
                    <a:chOff x="8332560" y="5497560"/>
                    <a:chExt cx="63720" cy="13320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8332560" y="5584680"/>
                      <a:ext cx="478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8332560" y="5497560"/>
                      <a:ext cx="42840" cy="112680"/>
                      <a:chOff x="8332560" y="5497560"/>
                      <a:chExt cx="42840" cy="11268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8334360" y="5497560"/>
                        <a:ext cx="4104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34" name=""/>
                      <p:cNvSpPr/>
                      <p:nvPr/>
                    </p:nvSpPr>
                    <p:spPr>
                      <a:xfrm>
                        <a:off x="833256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8361360" y="5497560"/>
                      <a:ext cx="144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836928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70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834552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2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38" name=""/>
                <p:cNvSpPr/>
                <p:nvPr/>
              </p:nvSpPr>
              <p:spPr>
                <a:xfrm>
                  <a:off x="8358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8404200" y="5611680"/>
                  <a:ext cx="2520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40" name=""/>
                <p:cNvGrpSpPr/>
                <p:nvPr/>
              </p:nvGrpSpPr>
              <p:grpSpPr>
                <a:xfrm>
                  <a:off x="8353440" y="5513400"/>
                  <a:ext cx="64800" cy="68040"/>
                  <a:chOff x="8353440" y="5513400"/>
                  <a:chExt cx="64800" cy="6804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>
                    <a:off x="8353440" y="5513400"/>
                    <a:ext cx="6480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21" y="0"/>
                        </a:moveTo>
                        <a:lnTo>
                          <a:pt x="10" y="20"/>
                        </a:lnTo>
                        <a:lnTo>
                          <a:pt x="0" y="28"/>
                        </a:lnTo>
                        <a:lnTo>
                          <a:pt x="40" y="28"/>
                        </a:lnTo>
                        <a:lnTo>
                          <a:pt x="30" y="19"/>
                        </a:lnTo>
                        <a:lnTo>
                          <a:pt x="21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8388360" y="5513400"/>
                    <a:ext cx="298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9">
                        <a:moveTo>
                          <a:pt x="0" y="0"/>
                        </a:moveTo>
                        <a:lnTo>
                          <a:pt x="9" y="19"/>
                        </a:lnTo>
                        <a:lnTo>
                          <a:pt x="18" y="28"/>
                        </a:lnTo>
                        <a:lnTo>
                          <a:pt x="13" y="28"/>
                        </a:lnTo>
                        <a:lnTo>
                          <a:pt x="7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8353440" y="5556240"/>
                    <a:ext cx="6480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8361360" y="5557680"/>
                  <a:ext cx="69840" cy="144720"/>
                  <a:chOff x="8361360" y="5557680"/>
                  <a:chExt cx="69840" cy="144720"/>
                </a:xfrm>
              </p:grpSpPr>
              <p:grpSp>
                <p:nvGrpSpPr>
                  <p:cNvPr id="1145" name=""/>
                  <p:cNvGrpSpPr/>
                  <p:nvPr/>
                </p:nvGrpSpPr>
                <p:grpSpPr>
                  <a:xfrm>
                    <a:off x="8361360" y="5557680"/>
                    <a:ext cx="48960" cy="142920"/>
                    <a:chOff x="8361360" y="5557680"/>
                    <a:chExt cx="48960" cy="142920"/>
                  </a:xfrm>
                </p:grpSpPr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8361360" y="5557680"/>
                      <a:ext cx="48960" cy="142920"/>
                      <a:chOff x="8361360" y="5557680"/>
                      <a:chExt cx="48960" cy="14292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8361360" y="5557680"/>
                        <a:ext cx="4896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8361360" y="5565600"/>
                        <a:ext cx="4896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837540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13" y="16"/>
                          </a:lnTo>
                          <a:lnTo>
                            <a:pt x="16" y="16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50" name=""/>
                  <p:cNvSpPr/>
                  <p:nvPr/>
                </p:nvSpPr>
                <p:spPr>
                  <a:xfrm>
                    <a:off x="8394480" y="5557680"/>
                    <a:ext cx="18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8404200" y="5559480"/>
                    <a:ext cx="270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0">
                        <a:moveTo>
                          <a:pt x="0" y="0"/>
                        </a:moveTo>
                        <a:lnTo>
                          <a:pt x="16" y="1"/>
                        </a:lnTo>
                        <a:lnTo>
                          <a:pt x="16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52" name=""/>
                <p:cNvGrpSpPr/>
                <p:nvPr/>
              </p:nvGrpSpPr>
              <p:grpSpPr>
                <a:xfrm>
                  <a:off x="8331120" y="5503680"/>
                  <a:ext cx="57240" cy="27000"/>
                  <a:chOff x="8331120" y="5503680"/>
                  <a:chExt cx="57240" cy="2700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8331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838836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8478720" y="5530680"/>
                  <a:ext cx="69840" cy="9396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4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43" y="58"/>
                      </a:lnTo>
                      <a:lnTo>
                        <a:pt x="43" y="3"/>
                      </a:lnTo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8523360" y="5537160"/>
                  <a:ext cx="25200" cy="7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8521560" y="5499000"/>
                  <a:ext cx="54000" cy="136440"/>
                  <a:chOff x="8521560" y="5499000"/>
                  <a:chExt cx="54000" cy="13644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8521560" y="5499000"/>
                    <a:ext cx="475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0">
                        <a:moveTo>
                          <a:pt x="14" y="0"/>
                        </a:moveTo>
                        <a:lnTo>
                          <a:pt x="22" y="13"/>
                        </a:lnTo>
                        <a:lnTo>
                          <a:pt x="29" y="19"/>
                        </a:lnTo>
                        <a:lnTo>
                          <a:pt x="0" y="19"/>
                        </a:lnTo>
                        <a:lnTo>
                          <a:pt x="7" y="13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8521560" y="5499000"/>
                    <a:ext cx="27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0">
                        <a:moveTo>
                          <a:pt x="16" y="0"/>
                        </a:moveTo>
                        <a:lnTo>
                          <a:pt x="7" y="13"/>
                        </a:lnTo>
                        <a:lnTo>
                          <a:pt x="0" y="19"/>
                        </a:lnTo>
                        <a:lnTo>
                          <a:pt x="4" y="19"/>
                        </a:lnTo>
                        <a:lnTo>
                          <a:pt x="9" y="14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8521560" y="5529240"/>
                    <a:ext cx="46080" cy="2556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440" bIns="-28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grpSp>
                <p:nvGrpSpPr>
                  <p:cNvPr id="1161" name=""/>
                  <p:cNvGrpSpPr/>
                  <p:nvPr/>
                </p:nvGrpSpPr>
                <p:grpSpPr>
                  <a:xfrm>
                    <a:off x="8528040" y="5530680"/>
                    <a:ext cx="47520" cy="104760"/>
                    <a:chOff x="8528040" y="5530680"/>
                    <a:chExt cx="47520" cy="104760"/>
                  </a:xfrm>
                </p:grpSpPr>
                <p:grpSp>
                  <p:nvGrpSpPr>
                    <p:cNvPr id="1162" name=""/>
                    <p:cNvGrpSpPr/>
                    <p:nvPr/>
                  </p:nvGrpSpPr>
                  <p:grpSpPr>
                    <a:xfrm>
                      <a:off x="8528040" y="5530680"/>
                      <a:ext cx="36360" cy="104760"/>
                      <a:chOff x="8528040" y="5530680"/>
                      <a:chExt cx="36360" cy="104760"/>
                    </a:xfrm>
                  </p:grpSpPr>
                  <p:grpSp>
                    <p:nvGrpSpPr>
                      <p:cNvPr id="1163" name=""/>
                      <p:cNvGrpSpPr/>
                      <p:nvPr/>
                    </p:nvGrpSpPr>
                    <p:grpSpPr>
                      <a:xfrm>
                        <a:off x="8528040" y="5530680"/>
                        <a:ext cx="33120" cy="103320"/>
                        <a:chOff x="8528040" y="5530680"/>
                        <a:chExt cx="33120" cy="103320"/>
                      </a:xfrm>
                    </p:grpSpPr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>
                          <a:off x="8528040" y="5530680"/>
                          <a:ext cx="33120" cy="2556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>
                          <a:off x="8528040" y="5535720"/>
                          <a:ext cx="33120" cy="9828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Book Antiqua"/>
                          </a:endParaRPr>
                        </a:p>
                      </p:txBody>
                    </p:sp>
                  </p:grpSp>
                  <p:sp>
                    <p:nvSpPr>
                      <p:cNvPr id="1166" name=""/>
                      <p:cNvSpPr/>
                      <p:nvPr/>
                    </p:nvSpPr>
                    <p:spPr>
                      <a:xfrm>
                        <a:off x="8537400" y="5530680"/>
                        <a:ext cx="27000" cy="10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6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6" y="6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67" name=""/>
                      <p:cNvSpPr/>
                      <p:nvPr/>
                    </p:nvSpPr>
                    <p:spPr>
                      <a:xfrm>
                        <a:off x="8529480" y="5532480"/>
                        <a:ext cx="27000" cy="10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65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64"/>
                            </a:lnTo>
                            <a:lnTo>
                              <a:pt x="16" y="6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8548560" y="5549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69" name=""/>
                <p:cNvSpPr/>
                <p:nvPr/>
              </p:nvSpPr>
              <p:spPr>
                <a:xfrm>
                  <a:off x="8478720" y="5607000"/>
                  <a:ext cx="133200" cy="93600"/>
                </a:xfrm>
                <a:custGeom>
                  <a:avLst/>
                  <a:gdLst/>
                  <a:ahLst/>
                  <a:rect l="l" t="t" r="r" b="b"/>
                  <a:pathLst>
                    <a:path w="84" h="59">
                      <a:moveTo>
                        <a:pt x="83" y="3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1" y="0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5" y="3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19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8"/>
                      </a:lnTo>
                      <a:lnTo>
                        <a:pt x="83" y="58"/>
                      </a:lnTo>
                      <a:lnTo>
                        <a:pt x="83" y="3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70" name=""/>
                <p:cNvGrpSpPr/>
                <p:nvPr/>
              </p:nvGrpSpPr>
              <p:grpSpPr>
                <a:xfrm>
                  <a:off x="8578800" y="5456160"/>
                  <a:ext cx="58680" cy="174600"/>
                  <a:chOff x="8578800" y="5456160"/>
                  <a:chExt cx="58680" cy="17460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8578800" y="5456160"/>
                    <a:ext cx="57240" cy="65160"/>
                    <a:chOff x="8578800" y="5456160"/>
                    <a:chExt cx="57240" cy="6516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8580240" y="5456160"/>
                      <a:ext cx="558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7">
                          <a:moveTo>
                            <a:pt x="17" y="0"/>
                          </a:moveTo>
                          <a:lnTo>
                            <a:pt x="26" y="18"/>
                          </a:lnTo>
                          <a:lnTo>
                            <a:pt x="34" y="26"/>
                          </a:lnTo>
                          <a:lnTo>
                            <a:pt x="0" y="26"/>
                          </a:lnTo>
                          <a:lnTo>
                            <a:pt x="8" y="18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8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580240" y="5456160"/>
                      <a:ext cx="2700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27">
                          <a:moveTo>
                            <a:pt x="16" y="0"/>
                          </a:moveTo>
                          <a:lnTo>
                            <a:pt x="7" y="18"/>
                          </a:lnTo>
                          <a:lnTo>
                            <a:pt x="0" y="26"/>
                          </a:lnTo>
                          <a:lnTo>
                            <a:pt x="5" y="26"/>
                          </a:lnTo>
                          <a:lnTo>
                            <a:pt x="10" y="19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a05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>
                      <a:off x="8578800" y="5495760"/>
                      <a:ext cx="55440" cy="2556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440" bIns="-28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grpSp>
                <p:nvGrpSpPr>
                  <p:cNvPr id="1175" name=""/>
                  <p:cNvGrpSpPr/>
                  <p:nvPr/>
                </p:nvGrpSpPr>
                <p:grpSpPr>
                  <a:xfrm>
                    <a:off x="8582040" y="5497560"/>
                    <a:ext cx="55440" cy="133200"/>
                    <a:chOff x="8582040" y="5497560"/>
                    <a:chExt cx="55440" cy="133200"/>
                  </a:xfrm>
                </p:grpSpPr>
                <p:sp>
                  <p:nvSpPr>
                    <p:cNvPr id="1176" name=""/>
                    <p:cNvSpPr/>
                    <p:nvPr/>
                  </p:nvSpPr>
                  <p:spPr>
                    <a:xfrm>
                      <a:off x="8582040" y="5584680"/>
                      <a:ext cx="46080" cy="460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680" bIns="-13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grpSp>
                  <p:nvGrpSpPr>
                    <p:cNvPr id="1177" name=""/>
                    <p:cNvGrpSpPr/>
                    <p:nvPr/>
                  </p:nvGrpSpPr>
                  <p:grpSpPr>
                    <a:xfrm>
                      <a:off x="8586720" y="5497560"/>
                      <a:ext cx="41400" cy="112680"/>
                      <a:chOff x="8586720" y="5497560"/>
                      <a:chExt cx="41400" cy="112680"/>
                    </a:xfrm>
                  </p:grpSpPr>
                  <p:sp>
                    <p:nvSpPr>
                      <p:cNvPr id="1178" name=""/>
                      <p:cNvSpPr/>
                      <p:nvPr/>
                    </p:nvSpPr>
                    <p:spPr>
                      <a:xfrm>
                        <a:off x="8586720" y="5497560"/>
                        <a:ext cx="41400" cy="2520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79" name=""/>
                      <p:cNvSpPr/>
                      <p:nvPr/>
                    </p:nvSpPr>
                    <p:spPr>
                      <a:xfrm>
                        <a:off x="8586720" y="5503680"/>
                        <a:ext cx="41400" cy="1065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599320" y="5497560"/>
                      <a:ext cx="180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71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589960" y="5499000"/>
                      <a:ext cx="2700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7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70"/>
                          </a:lnTo>
                          <a:lnTo>
                            <a:pt x="16" y="7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610480" y="552276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3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</p:grpSp>
            <p:sp>
              <p:nvSpPr>
                <p:cNvPr id="1183" name=""/>
                <p:cNvSpPr/>
                <p:nvPr/>
              </p:nvSpPr>
              <p:spPr>
                <a:xfrm>
                  <a:off x="8601120" y="5565600"/>
                  <a:ext cx="25200" cy="13500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8548560" y="5611680"/>
                  <a:ext cx="25560" cy="8892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8542080" y="5513400"/>
                  <a:ext cx="66960" cy="68040"/>
                  <a:chOff x="8542080" y="5513400"/>
                  <a:chExt cx="66960" cy="680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8543880" y="5513400"/>
                    <a:ext cx="651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19" y="0"/>
                        </a:moveTo>
                        <a:lnTo>
                          <a:pt x="30" y="20"/>
                        </a:lnTo>
                        <a:lnTo>
                          <a:pt x="40" y="28"/>
                        </a:lnTo>
                        <a:lnTo>
                          <a:pt x="0" y="28"/>
                        </a:lnTo>
                        <a:lnTo>
                          <a:pt x="10" y="19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8543880" y="5513400"/>
                    <a:ext cx="31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9">
                        <a:moveTo>
                          <a:pt x="19" y="0"/>
                        </a:moveTo>
                        <a:lnTo>
                          <a:pt x="9" y="19"/>
                        </a:lnTo>
                        <a:lnTo>
                          <a:pt x="0" y="28"/>
                        </a:lnTo>
                        <a:lnTo>
                          <a:pt x="6" y="28"/>
                        </a:lnTo>
                        <a:lnTo>
                          <a:pt x="12" y="2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8542080" y="5556240"/>
                    <a:ext cx="65160" cy="252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0" bIns="-28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8550000" y="5557680"/>
                  <a:ext cx="57240" cy="144720"/>
                  <a:chOff x="8550000" y="5557680"/>
                  <a:chExt cx="57240" cy="144720"/>
                </a:xfrm>
              </p:grpSpPr>
              <p:grpSp>
                <p:nvGrpSpPr>
                  <p:cNvPr id="1190" name=""/>
                  <p:cNvGrpSpPr/>
                  <p:nvPr/>
                </p:nvGrpSpPr>
                <p:grpSpPr>
                  <a:xfrm>
                    <a:off x="8550000" y="5557680"/>
                    <a:ext cx="57240" cy="142920"/>
                    <a:chOff x="8550000" y="5557680"/>
                    <a:chExt cx="57240" cy="142920"/>
                  </a:xfrm>
                </p:grpSpPr>
                <p:grpSp>
                  <p:nvGrpSpPr>
                    <p:cNvPr id="1191" name=""/>
                    <p:cNvGrpSpPr/>
                    <p:nvPr/>
                  </p:nvGrpSpPr>
                  <p:grpSpPr>
                    <a:xfrm>
                      <a:off x="8550000" y="5557680"/>
                      <a:ext cx="49320" cy="142920"/>
                      <a:chOff x="8550000" y="5557680"/>
                      <a:chExt cx="49320" cy="142920"/>
                    </a:xfrm>
                  </p:grpSpPr>
                  <p:sp>
                    <p:nvSpPr>
                      <p:cNvPr id="1192" name=""/>
                      <p:cNvSpPr/>
                      <p:nvPr/>
                    </p:nvSpPr>
                    <p:spPr>
                      <a:xfrm>
                        <a:off x="8550000" y="5557680"/>
                        <a:ext cx="49320" cy="255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  <p:sp>
                    <p:nvSpPr>
                      <p:cNvPr id="1193" name=""/>
                      <p:cNvSpPr/>
                      <p:nvPr/>
                    </p:nvSpPr>
                    <p:spPr>
                      <a:xfrm>
                        <a:off x="8551800" y="5565600"/>
                        <a:ext cx="47520" cy="135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Book Antiqua"/>
                        </a:endParaRPr>
                      </a:p>
                    </p:txBody>
                  </p:sp>
                </p:grp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8580240" y="558468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16" y="16"/>
                          </a:lnTo>
                          <a:lnTo>
                            <a:pt x="2" y="16"/>
                          </a:lnTo>
                          <a:lnTo>
                            <a:pt x="0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p:txBody>
                </p:sp>
              </p:grpSp>
              <p:sp>
                <p:nvSpPr>
                  <p:cNvPr id="1195" name=""/>
                  <p:cNvSpPr/>
                  <p:nvPr/>
                </p:nvSpPr>
                <p:spPr>
                  <a:xfrm>
                    <a:off x="8567640" y="5557680"/>
                    <a:ext cx="1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90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8556480" y="5559480"/>
                    <a:ext cx="180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90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89"/>
                        </a:lnTo>
                        <a:lnTo>
                          <a:pt x="0" y="8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8520120" y="5503680"/>
                  <a:ext cx="56880" cy="27000"/>
                  <a:chOff x="8520120" y="5503680"/>
                  <a:chExt cx="56880" cy="2700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8520120" y="5503680"/>
                    <a:ext cx="554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7">
                        <a:moveTo>
                          <a:pt x="34" y="0"/>
                        </a:moveTo>
                        <a:lnTo>
                          <a:pt x="29" y="1"/>
                        </a:lnTo>
                        <a:lnTo>
                          <a:pt x="26" y="1"/>
                        </a:lnTo>
                        <a:lnTo>
                          <a:pt x="24" y="4"/>
                        </a:lnTo>
                        <a:lnTo>
                          <a:pt x="22" y="5"/>
                        </a:lnTo>
                        <a:lnTo>
                          <a:pt x="20" y="7"/>
                        </a:lnTo>
                        <a:lnTo>
                          <a:pt x="17" y="10"/>
                        </a:lnTo>
                        <a:lnTo>
                          <a:pt x="12" y="13"/>
                        </a:lnTo>
                        <a:lnTo>
                          <a:pt x="9" y="14"/>
                        </a:lnTo>
                        <a:lnTo>
                          <a:pt x="4" y="14"/>
                        </a:lnTo>
                        <a:lnTo>
                          <a:pt x="0" y="14"/>
                        </a:lnTo>
                        <a:lnTo>
                          <a:pt x="3" y="16"/>
                        </a:lnTo>
                        <a:lnTo>
                          <a:pt x="8" y="14"/>
                        </a:lnTo>
                        <a:lnTo>
                          <a:pt x="13" y="14"/>
                        </a:lnTo>
                        <a:lnTo>
                          <a:pt x="19" y="13"/>
                        </a:lnTo>
                        <a:lnTo>
                          <a:pt x="24" y="10"/>
                        </a:lnTo>
                        <a:lnTo>
                          <a:pt x="26" y="8"/>
                        </a:lnTo>
                        <a:lnTo>
                          <a:pt x="29" y="7"/>
                        </a:lnTo>
                        <a:lnTo>
                          <a:pt x="32" y="7"/>
                        </a:lnTo>
                        <a:lnTo>
                          <a:pt x="34" y="7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8577000" y="5503680"/>
                    <a:ext cx="0" cy="1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Book Antiqua"/>
                    </a:endParaRPr>
                  </a:p>
                </p:txBody>
              </p:sp>
            </p:grpSp>
          </p:grpSp>
        </p:grpSp>
        <p:sp>
          <p:nvSpPr>
            <p:cNvPr id="1200" name=""/>
            <p:cNvSpPr/>
            <p:nvPr/>
          </p:nvSpPr>
          <p:spPr>
            <a:xfrm>
              <a:off x="7315200" y="3809880"/>
              <a:ext cx="1473120" cy="122580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15200" y="5124600"/>
              <a:ext cx="1473120" cy="90144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238880" y="2457360"/>
              <a:ext cx="1625760" cy="3664080"/>
            </a:xfrm>
            <a:prstGeom prst="rect">
              <a:avLst/>
            </a:prstGeom>
            <a:noFill/>
            <a:ln w="12600">
              <a:solidFill>
                <a:srgbClr val="ffff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48400" y="414828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10600" y="4224240"/>
              <a:ext cx="46332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72440" y="431964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7388280" y="450216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267760" y="4148280"/>
              <a:ext cx="46332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29600" y="4224240"/>
              <a:ext cx="463680" cy="62568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191440" y="4319640"/>
              <a:ext cx="463680" cy="625320"/>
            </a:xfrm>
            <a:prstGeom prst="octagon">
              <a:avLst>
                <a:gd name="adj" fmla="val 29282"/>
              </a:avLst>
            </a:prstGeom>
            <a:solidFill>
              <a:srgbClr val="081d58"/>
            </a:solidFill>
            <a:ln w="12600">
              <a:solidFill>
                <a:srgbClr val="ffff99"/>
              </a:solidFill>
              <a:miter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8206920" y="4505400"/>
              <a:ext cx="456840" cy="369000"/>
            </a:xfrm>
            <a:prstGeom prst="octagon">
              <a:avLst>
                <a:gd name="adj" fmla="val 29282"/>
              </a:avLst>
            </a:prstGeom>
            <a:noFill/>
            <a:ln w="0">
              <a:noFill/>
            </a:ln>
            <a:effectLst>
              <a:outerShdw dist="17819" dir="2700000" blurRad="0" rotWithShape="0">
                <a:srgbClr val="081d5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en-US" sz="1400" spc="-1" strike="noStrike">
                  <a:solidFill>
                    <a:srgbClr val="eaeaea"/>
                  </a:solidFill>
                  <a:latin typeface="Arial"/>
                </a:rPr>
                <a:t>CA</a:t>
              </a: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security should a PKI provide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The primary purpose is to establish TRUST</a:t>
            </a:r>
            <a:br>
              <a:rPr sz="3000"/>
            </a:b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who I say I am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hold the private key that corresponds to the public key in my certificate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I am allowed to be a part of the community</a:t>
            </a:r>
            <a:endParaRPr b="1" lang="en-US" sz="3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Key and Certificate Gener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6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7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8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9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0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1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2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Trusted Registration &amp; Establishment Proces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Privilege Manag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Order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Key and Certificate Gene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tribu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ertificate Repository/Directo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key, Renew and Updat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Public Key Infrastructure Oper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ccounting/Tr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mpromise Management &amp;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Revoc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ud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ch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ata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Disaster Recover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ustomer Support/Technical Assistanc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boar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8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Operational Challenges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623000" cy="44193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8280" rIns="98280" tIns="49320" bIns="49320" anchor="t">
            <a:normAutofit/>
          </a:bodyPr>
          <a:p>
            <a:pPr marL="369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istributed Operations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rusted Registration &amp; Establish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A establishment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801720" indent="-308160">
              <a:lnSpc>
                <a:spcPct val="110000"/>
              </a:lnSpc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r registration</a:t>
            </a:r>
            <a:endParaRPr b="1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ivilege Management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69720" indent="-369720">
              <a:lnSpc>
                <a:spcPct val="11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mpromise Management &amp; Certificate Revocation</a:t>
            </a:r>
            <a:endParaRPr b="1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992880" y="1295280"/>
            <a:ext cx="7137720" cy="5814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000066"/>
              </a:gs>
              <a:gs pos="100000">
                <a:srgbClr val="0000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cc"/>
                </a:solidFill>
                <a:latin typeface="Arial"/>
              </a:rPr>
              <a:t>PKI Operations must be trustworth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2T17:51:26Z</dcterms:created>
  <dc:creator>User</dc:creator>
  <dc:description/>
  <dc:language>en-US</dc:language>
  <cp:lastModifiedBy>User</cp:lastModifiedBy>
  <cp:lastPrinted>1998-09-21T16:21:02Z</cp:lastPrinted>
  <dcterms:modified xsi:type="dcterms:W3CDTF">2000-01-18T00:52:17Z</dcterms:modified>
  <cp:revision>123</cp:revision>
  <dc:subject/>
  <dc:title>FORTEZZA  Security Management       Infrastructure Operations</dc:title>
</cp:coreProperties>
</file>