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wmf" ContentType="image/x-wmf"/>
  <Override PartName="/ppt/media/image22.jpeg" ContentType="image/jpeg"/>
  <Override PartName="/ppt/media/image11.wmf" ContentType="image/x-wmf"/>
  <Override PartName="/ppt/media/image20.jpeg" ContentType="image/jpeg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3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2EA5-A8D6-4E35-8FC8-2127F77C3D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518000" cy="3387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447560" y="5327640"/>
            <a:ext cx="3917880" cy="29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D81C-C00D-4711-B4AB-DFA5E9A222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615-07CC-46C7-AAA7-E959D96B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C28-3129-4BB8-9475-FCB4227C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562-9B5A-4567-9015-5034B9A3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AE5-825A-4DC4-B73A-788C09B1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F9C6-9D34-4711-AECD-79AE820C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8054-7CFA-4919-B725-F7C26E6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21B7-5F3B-4075-B82A-7D2FD87F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73EC-61A5-4FF1-94A1-23925836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38A-1859-4D1A-B5E3-BB7D4B1A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B21E-8FB0-4F83-8326-E9488448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BD4C-4B70-44F6-8AE9-D6C790F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C94-B356-455E-B724-80B600F6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7AB4-7A5D-4A82-8FA4-27B7B1B9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2391-56DA-46AD-802E-F301E858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5660-DDAA-4F2E-BACA-82739F9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DBBE-CAF5-4CE2-AFAB-B30F93CD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CEFA-A0C2-41B9-8D63-CA8F107D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42D-C111-41D4-94D2-01EB57C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7D4-DA4A-4856-965D-ACD864BE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992-CE82-42DB-9578-E0FD960A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DDC-91BD-4F05-B98A-0D009F60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3B3-54F9-49AA-8D3F-5D873C9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44F-B805-46D5-A5CD-760F73CB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4B1-33EB-42BC-A07E-7FD3175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2B95-1DF8-4EB5-8821-39942F8E4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6A02-BFE2-47A3-96D1-E5DF21B84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3712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1st Century Internet Trend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99840" y="32763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Vint Cer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MCI World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January 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8080" y="990360"/>
            <a:ext cx="776592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net - Recent Statisti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170160"/>
            <a:ext cx="1523880" cy="5349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3320" y="2292480"/>
            <a:ext cx="8597880" cy="379728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txBody>
          <a:bodyPr lIns="87480" rIns="87480" tIns="87480" bIns="8748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6 M Level 2 Domains (NSI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75 Million Hosts (VC est. Jan 2000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12/246 IP countries (NW June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01 Million Users (NUA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(950 Million Telephone Terminations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rs on the Internet - Nov 1999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/US - 112.4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- 47.1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a/Pac - 33.61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n Am - 5.29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 - 1.7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-east - 0.88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- 201.0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4832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00" y="0"/>
            <a:ext cx="9129600" cy="6394320"/>
          </a:xfrm>
          <a:prstGeom prst="rect">
            <a:avLst/>
          </a:prstGeom>
          <a:solidFill>
            <a:srgbClr val="000066">
              <a:alpha val="50000"/>
            </a:srgbClr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1023840"/>
          <a:ext cx="733284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23840"/>
                    <a:ext cx="7332840" cy="5224680"/>
                  </a:xfrm>
                  <a:prstGeom prst="rect">
                    <a:avLst/>
                  </a:prstGeom>
                  <a:ln w="50760">
                    <a:solidFill>
                      <a:srgbClr val="2a004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362320" y="2743200"/>
            <a:ext cx="2971800" cy="1219320"/>
          </a:xfrm>
          <a:prstGeom prst="wedgeRoundRectCallout">
            <a:avLst>
              <a:gd name="adj1" fmla="val 31037"/>
              <a:gd name="adj2" fmla="val 139842"/>
              <a:gd name="adj3" fmla="val 16667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Internet Hosts (000s) 1989-2006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0920" y="782640"/>
            <a:ext cx="193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26280" y="308916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ranet/Internet Mark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63760" y="1685880"/>
          <a:ext cx="74214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1685880"/>
                    <a:ext cx="74214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198080" y="5989680"/>
            <a:ext cx="280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Zona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Transactions ($Billions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7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s and services traded between companies from $8 billion this year to $327 billion in 200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818240" y="1036800"/>
          <a:ext cx="4122720" cy="57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8240" y="1036800"/>
                    <a:ext cx="4122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219320" y="556272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 Forrester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Commerce in 200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e sales will be between $1.8 trillion and $3.2 trillion in 20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s include business-to-business and business-to-consumer sales and EDI orders placed on the Internet, but exclude the value of financial transactions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606240"/>
            <a:ext cx="708660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and MultiMed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41911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multicast “video”, telephony and “radio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of Internet traffic on cable, direct broadcast satellite, radio and broadcast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quality of service support, VOIP e.g. MCI WorldCom’s “Click ‘n Connec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 Performance Network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WDM Backbone - Electro-optical or all-optical switching (lamdas now, packets mayb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BFRs (Juniper M160, Cisco 12000, Avici, Lucent, …)  w/MPLS traffic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e-derived Q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Backbone Architect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r (IP lay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M/Frame Relay (traffic enginee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DM (DWDM, Solitons), Radio,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M/FR and SONET may b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wer Service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f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ming, Dynamic DN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Friends may come and go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but enemies accumulat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fe Lesson #11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er Performance Last Ho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ubscriber Loops: 0.5 -25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ble Modems: 0.5 -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dio links (blimps?, ground 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 or Radio LANs: 0.2 - 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reless Intern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Internet cell phones,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on” net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demand for IP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tooth”, Wireless LANs, LMDS and MMDS, Digital Broadcast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Radio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ochet (128 kb/s), 3G cellular (2 Mb/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-enabled Devi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appli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 - 3 M, 1998 - 6 M, 2002 - 56 M (I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TV, Palm-Pilot, Nokia 9000,Sony, Nintendo, Sega games (video con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tor (and the bathroom sc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obiles, household appliances (turning a box of soap into a serv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” glass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-server on a chip (see next sl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MASS Web server on a chip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r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AM, 14 July 1999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P/IP code itself fits in about 256 bytes (1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 12C509A, running at 4MH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LC256 i2c EEP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 1.0 and RFC 1122 compl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ernity.cs.umass.ed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80/index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he_fridge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504960" cy="525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98520" y="2209680"/>
            <a:ext cx="239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rnet-enab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frig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6960" y="3733920"/>
            <a:ext cx="253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s, Ra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deo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ci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opping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electrolux%20logo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495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Network infrastru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e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top to remote VPN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s (public, corporat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abl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Monitoring (patterns of attack, rule-based traffic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uthentication for command and control infrastructure, network management, information integ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 applet hotels (“just because I am paranoid doesn’t mean they aren’t out to get me…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2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ignatures on control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ppl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alls are not su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my within: inside attacks 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 registration w/DH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user to server: encrypted tunnels allow users on foreign LANS to gain safe access (Guest Po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3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PA-sponsored R&amp;D at Lincoln Labs (Communications Department)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alarm fil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Operating System state transition analysis - not just pattern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 probing of internal systems for known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all configuration consistency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enes in 5+ yea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 well established w/IP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 boxes still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flexible firewalls (they are not enoug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/end securit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L/IP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level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wireless music box has no imaginable commercial value.  Who would pay for a message sent to nobody in particular?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1520" y="4419720"/>
            <a:ext cx="715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David Sarnoff's associates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to his urgings for invest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radio in the 1920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Security and Authentication Scenario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rt Card Scenario starting with ATM smar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liance 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reless scenario (home, mobile, international roaming…satellit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licy Issu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yptography and ex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Signatures/Certificate issu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x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emarks and Copyr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ability and Dispute Re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vergence (TV, Radio, Telephon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gulatory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sorship/Voluntary Filte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905120" y="1752480"/>
            <a:ext cx="6553080" cy="3477240"/>
            <a:chOff x="1905120" y="1752480"/>
            <a:chExt cx="6553080" cy="3477240"/>
          </a:xfrm>
        </p:grpSpPr>
        <p:sp>
          <p:nvSpPr>
            <p:cNvPr id="246" name=""/>
            <p:cNvSpPr/>
            <p:nvPr/>
          </p:nvSpPr>
          <p:spPr>
            <a:xfrm>
              <a:off x="1905120" y="1752480"/>
              <a:ext cx="6553080" cy="2438640"/>
            </a:xfrm>
            <a:prstGeom prst="rightArrow">
              <a:avLst>
                <a:gd name="adj1" fmla="val 50000"/>
                <a:gd name="adj2" fmla="val 67180"/>
              </a:avLst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2209680"/>
              <a:ext cx="4854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Mistral"/>
                </a:rPr>
                <a:t>Future look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981080"/>
              <a:ext cx="30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22953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4080" y="1981080"/>
              <a:ext cx="506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2a004e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Our 25 year mission: to go 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no network has gone befo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ace: the final fronti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29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012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earth" descr=""/>
          <p:cNvPicPr/>
          <p:nvPr/>
        </p:nvPicPr>
        <p:blipFill>
          <a:blip r:embed="rId1"/>
          <a:stretch/>
        </p:blipFill>
        <p:spPr>
          <a:xfrm>
            <a:off x="9907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goldsto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mars%20orbit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848720" y="0"/>
            <a:ext cx="167616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0"/>
            <a:ext cx="167652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mars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sojourn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mars%20land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640K ought to be enough for anybody.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00" y="374976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Bill Gates, 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mars%20r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mars%20on%20foo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mars%20habit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habitat%20interi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nterplanet%20overview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1143000"/>
            <a:ext cx="3886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End-to-end information flow across the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Layered architecture for evolvability and interoper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P-like protocol suite tailored to operate over long round trip light ti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ntegrated communications and navigation 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2971800"/>
            <a:ext cx="2895480" cy="289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1752480"/>
            <a:ext cx="2895480" cy="289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ponents of the Interplanetary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5800" y="3429000"/>
            <a:ext cx="2235240" cy="2235240"/>
            <a:chOff x="685800" y="3429000"/>
            <a:chExt cx="2235240" cy="2235240"/>
          </a:xfrm>
        </p:grpSpPr>
        <p:graphicFrame>
          <p:nvGraphicFramePr>
            <p:cNvPr id="273" name=""/>
            <p:cNvGraphicFramePr/>
            <p:nvPr/>
          </p:nvGraphicFramePr>
          <p:xfrm>
            <a:off x="685800" y="3429000"/>
            <a:ext cx="2235240" cy="223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3429000"/>
                      <a:ext cx="2235240" cy="22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1295280" y="3962520"/>
            <a:ext cx="954360" cy="87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3962520"/>
                      <a:ext cx="954360" cy="87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7" name=""/>
          <p:cNvSpPr/>
          <p:nvPr/>
        </p:nvSpPr>
        <p:spPr>
          <a:xfrm rot="19920000">
            <a:off x="3124080" y="3048120"/>
            <a:ext cx="2438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Long-haul Interplanet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2040" y="984240"/>
            <a:ext cx="2298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Proximity communications via in-situ relay and positioning networ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20960" y="2058840"/>
            <a:ext cx="2968560" cy="1773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00200" y="2057400"/>
            <a:ext cx="2970360" cy="2362320"/>
            <a:chOff x="1600200" y="2057400"/>
            <a:chExt cx="2970360" cy="2362320"/>
          </a:xfrm>
        </p:grpSpPr>
        <p:sp>
          <p:nvSpPr>
            <p:cNvPr id="281" name=""/>
            <p:cNvSpPr/>
            <p:nvPr/>
          </p:nvSpPr>
          <p:spPr>
            <a:xfrm>
              <a:off x="1600200" y="2057400"/>
              <a:ext cx="2970360" cy="2362320"/>
            </a:xfrm>
            <a:custGeom>
              <a:avLst/>
              <a:gdLst/>
              <a:ahLst/>
              <a:rect l="l" t="t" r="r" b="b"/>
              <a:pathLst>
                <a:path w="1871" h="1488">
                  <a:moveTo>
                    <a:pt x="919" y="0"/>
                  </a:moveTo>
                  <a:lnTo>
                    <a:pt x="845" y="4"/>
                  </a:lnTo>
                  <a:lnTo>
                    <a:pt x="788" y="17"/>
                  </a:lnTo>
                  <a:lnTo>
                    <a:pt x="764" y="23"/>
                  </a:lnTo>
                  <a:lnTo>
                    <a:pt x="746" y="34"/>
                  </a:lnTo>
                  <a:lnTo>
                    <a:pt x="739" y="43"/>
                  </a:lnTo>
                  <a:lnTo>
                    <a:pt x="734" y="53"/>
                  </a:lnTo>
                  <a:lnTo>
                    <a:pt x="734" y="182"/>
                  </a:lnTo>
                  <a:lnTo>
                    <a:pt x="734" y="258"/>
                  </a:lnTo>
                  <a:lnTo>
                    <a:pt x="739" y="268"/>
                  </a:lnTo>
                  <a:lnTo>
                    <a:pt x="746" y="278"/>
                  </a:lnTo>
                  <a:lnTo>
                    <a:pt x="764" y="288"/>
                  </a:lnTo>
                  <a:lnTo>
                    <a:pt x="788" y="295"/>
                  </a:lnTo>
                  <a:lnTo>
                    <a:pt x="845" y="307"/>
                  </a:lnTo>
                  <a:lnTo>
                    <a:pt x="919" y="311"/>
                  </a:lnTo>
                  <a:lnTo>
                    <a:pt x="0" y="1487"/>
                  </a:lnTo>
                  <a:lnTo>
                    <a:pt x="1206" y="311"/>
                  </a:lnTo>
                  <a:lnTo>
                    <a:pt x="1678" y="311"/>
                  </a:lnTo>
                  <a:lnTo>
                    <a:pt x="1752" y="307"/>
                  </a:lnTo>
                  <a:lnTo>
                    <a:pt x="1814" y="295"/>
                  </a:lnTo>
                  <a:lnTo>
                    <a:pt x="1838" y="288"/>
                  </a:lnTo>
                  <a:lnTo>
                    <a:pt x="1858" y="278"/>
                  </a:lnTo>
                  <a:lnTo>
                    <a:pt x="1863" y="268"/>
                  </a:lnTo>
                  <a:lnTo>
                    <a:pt x="1870" y="258"/>
                  </a:lnTo>
                  <a:lnTo>
                    <a:pt x="1870" y="182"/>
                  </a:lnTo>
                  <a:lnTo>
                    <a:pt x="1870" y="53"/>
                  </a:lnTo>
                  <a:lnTo>
                    <a:pt x="1863" y="43"/>
                  </a:lnTo>
                  <a:lnTo>
                    <a:pt x="1858" y="34"/>
                  </a:lnTo>
                  <a:lnTo>
                    <a:pt x="1838" y="23"/>
                  </a:lnTo>
                  <a:lnTo>
                    <a:pt x="1814" y="17"/>
                  </a:lnTo>
                  <a:lnTo>
                    <a:pt x="1752" y="4"/>
                  </a:lnTo>
                  <a:lnTo>
                    <a:pt x="1678" y="0"/>
                  </a:lnTo>
                  <a:lnTo>
                    <a:pt x="1206" y="0"/>
                  </a:lnTo>
                  <a:lnTo>
                    <a:pt x="919" y="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9440" y="2117880"/>
              <a:ext cx="1347480" cy="3744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8077320" y="2666880"/>
          <a:ext cx="62388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77320" y="26668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813040" y="2127240"/>
            <a:ext cx="1711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arth’s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447920" y="2743200"/>
          <a:ext cx="623880" cy="6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7432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09480" y="5334120"/>
          <a:ext cx="623880" cy="6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53341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590920" y="5105520"/>
          <a:ext cx="623880" cy="60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51055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52280" y="3352680"/>
          <a:ext cx="623880" cy="60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280" y="33526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172200" y="2362320"/>
          <a:ext cx="1650960" cy="15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362320"/>
                    <a:ext cx="165096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6114960" y="2496960"/>
            <a:ext cx="308160" cy="570240"/>
            <a:chOff x="6114960" y="2496960"/>
            <a:chExt cx="308160" cy="570240"/>
          </a:xfrm>
        </p:grpSpPr>
        <p:sp>
          <p:nvSpPr>
            <p:cNvPr id="297" name=""/>
            <p:cNvSpPr/>
            <p:nvPr/>
          </p:nvSpPr>
          <p:spPr>
            <a:xfrm>
              <a:off x="6114960" y="2543040"/>
              <a:ext cx="277920" cy="34128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173" y="0"/>
                  </a:moveTo>
                  <a:lnTo>
                    <a:pt x="174" y="12"/>
                  </a:lnTo>
                  <a:lnTo>
                    <a:pt x="174" y="36"/>
                  </a:lnTo>
                  <a:lnTo>
                    <a:pt x="172" y="59"/>
                  </a:lnTo>
                  <a:lnTo>
                    <a:pt x="165" y="83"/>
                  </a:lnTo>
                  <a:lnTo>
                    <a:pt x="162" y="103"/>
                  </a:lnTo>
                  <a:lnTo>
                    <a:pt x="152" y="124"/>
                  </a:lnTo>
                  <a:lnTo>
                    <a:pt x="146" y="136"/>
                  </a:lnTo>
                  <a:lnTo>
                    <a:pt x="136" y="153"/>
                  </a:lnTo>
                  <a:lnTo>
                    <a:pt x="129" y="161"/>
                  </a:lnTo>
                  <a:lnTo>
                    <a:pt x="123" y="168"/>
                  </a:lnTo>
                  <a:lnTo>
                    <a:pt x="114" y="176"/>
                  </a:lnTo>
                  <a:lnTo>
                    <a:pt x="97" y="189"/>
                  </a:lnTo>
                  <a:lnTo>
                    <a:pt x="83" y="198"/>
                  </a:lnTo>
                  <a:lnTo>
                    <a:pt x="67" y="206"/>
                  </a:lnTo>
                  <a:lnTo>
                    <a:pt x="50" y="211"/>
                  </a:lnTo>
                  <a:lnTo>
                    <a:pt x="31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173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4960" y="2543040"/>
              <a:ext cx="285840" cy="352440"/>
            </a:xfrm>
            <a:custGeom>
              <a:avLst/>
              <a:gdLst/>
              <a:ahLst/>
              <a:rect l="l" t="t" r="r" b="b"/>
              <a:pathLst>
                <a:path w="180" h="222">
                  <a:moveTo>
                    <a:pt x="177" y="0"/>
                  </a:moveTo>
                  <a:lnTo>
                    <a:pt x="179" y="111"/>
                  </a:lnTo>
                  <a:lnTo>
                    <a:pt x="89" y="219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2543040"/>
              <a:ext cx="284400" cy="352440"/>
            </a:xfrm>
            <a:custGeom>
              <a:avLst/>
              <a:gdLst/>
              <a:ahLst/>
              <a:rect l="l" t="t" r="r" b="b"/>
              <a:pathLst>
                <a:path w="179" h="222">
                  <a:moveTo>
                    <a:pt x="177" y="0"/>
                  </a:moveTo>
                  <a:lnTo>
                    <a:pt x="178" y="12"/>
                  </a:lnTo>
                  <a:lnTo>
                    <a:pt x="178" y="37"/>
                  </a:lnTo>
                  <a:lnTo>
                    <a:pt x="176" y="62"/>
                  </a:lnTo>
                  <a:lnTo>
                    <a:pt x="169" y="86"/>
                  </a:lnTo>
                  <a:lnTo>
                    <a:pt x="165" y="107"/>
                  </a:lnTo>
                  <a:lnTo>
                    <a:pt x="155" y="129"/>
                  </a:lnTo>
                  <a:lnTo>
                    <a:pt x="149" y="141"/>
                  </a:lnTo>
                  <a:lnTo>
                    <a:pt x="139" y="156"/>
                  </a:lnTo>
                  <a:lnTo>
                    <a:pt x="132" y="165"/>
                  </a:lnTo>
                  <a:lnTo>
                    <a:pt x="125" y="173"/>
                  </a:lnTo>
                  <a:lnTo>
                    <a:pt x="116" y="182"/>
                  </a:lnTo>
                  <a:lnTo>
                    <a:pt x="99" y="194"/>
                  </a:lnTo>
                  <a:lnTo>
                    <a:pt x="85" y="203"/>
                  </a:lnTo>
                  <a:lnTo>
                    <a:pt x="68" y="211"/>
                  </a:lnTo>
                  <a:lnTo>
                    <a:pt x="51" y="216"/>
                  </a:lnTo>
                  <a:lnTo>
                    <a:pt x="31" y="220"/>
                  </a:lnTo>
                  <a:lnTo>
                    <a:pt x="11" y="220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99280" y="2863800"/>
              <a:ext cx="74520" cy="4464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0"/>
                  </a:moveTo>
                  <a:lnTo>
                    <a:pt x="46" y="0"/>
                  </a:lnTo>
                  <a:lnTo>
                    <a:pt x="46" y="26"/>
                  </a:lnTo>
                  <a:lnTo>
                    <a:pt x="1" y="27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99280" y="2865600"/>
              <a:ext cx="8100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1"/>
                  </a:move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1540000">
              <a:off x="6316200" y="2795760"/>
              <a:ext cx="33480" cy="410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229080" y="2629080"/>
              <a:ext cx="8388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61120" y="291636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97" y="86"/>
                  </a:moveTo>
                  <a:lnTo>
                    <a:pt x="46" y="0"/>
                  </a:lnTo>
                  <a:lnTo>
                    <a:pt x="0" y="88"/>
                  </a:lnTo>
                  <a:lnTo>
                    <a:pt x="97" y="86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59680" y="2916360"/>
              <a:ext cx="163440" cy="150840"/>
            </a:xfrm>
            <a:custGeom>
              <a:avLst/>
              <a:gdLst/>
              <a:ahLst/>
              <a:rect l="l" t="t" r="r" b="b"/>
              <a:pathLst>
                <a:path w="103" h="95">
                  <a:moveTo>
                    <a:pt x="102" y="92"/>
                  </a:move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116760" y="2496960"/>
              <a:ext cx="28260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6629400" y="2971800"/>
          <a:ext cx="660240" cy="6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297180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553080" y="2666880"/>
          <a:ext cx="952560" cy="51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2666880"/>
                    <a:ext cx="952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324480" y="2971800"/>
          <a:ext cx="43200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2971800"/>
                    <a:ext cx="43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238880" y="3048120"/>
          <a:ext cx="355680" cy="35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238880" y="3048120"/>
                    <a:ext cx="3556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6554880" y="3352680"/>
            <a:ext cx="1904760" cy="1905120"/>
            <a:chOff x="6554880" y="3352680"/>
            <a:chExt cx="1904760" cy="1905120"/>
          </a:xfrm>
        </p:grpSpPr>
        <p:sp>
          <p:nvSpPr>
            <p:cNvPr id="316" name=""/>
            <p:cNvSpPr/>
            <p:nvPr/>
          </p:nvSpPr>
          <p:spPr>
            <a:xfrm>
              <a:off x="6554880" y="3352680"/>
              <a:ext cx="1904760" cy="1905120"/>
            </a:xfrm>
            <a:custGeom>
              <a:avLst/>
              <a:gdLst/>
              <a:ahLst/>
              <a:rect l="l" t="t" r="r" b="b"/>
              <a:pathLst>
                <a:path w="1200" h="1200">
                  <a:moveTo>
                    <a:pt x="1096" y="1199"/>
                  </a:moveTo>
                  <a:lnTo>
                    <a:pt x="1134" y="1195"/>
                  </a:lnTo>
                  <a:lnTo>
                    <a:pt x="1166" y="1182"/>
                  </a:lnTo>
                  <a:lnTo>
                    <a:pt x="1189" y="1159"/>
                  </a:lnTo>
                  <a:lnTo>
                    <a:pt x="1199" y="1133"/>
                  </a:lnTo>
                  <a:lnTo>
                    <a:pt x="1199" y="965"/>
                  </a:lnTo>
                  <a:lnTo>
                    <a:pt x="1199" y="863"/>
                  </a:lnTo>
                  <a:lnTo>
                    <a:pt x="1189" y="837"/>
                  </a:lnTo>
                  <a:lnTo>
                    <a:pt x="1166" y="814"/>
                  </a:lnTo>
                  <a:lnTo>
                    <a:pt x="1134" y="797"/>
                  </a:lnTo>
                  <a:lnTo>
                    <a:pt x="1096" y="792"/>
                  </a:lnTo>
                  <a:lnTo>
                    <a:pt x="834" y="792"/>
                  </a:lnTo>
                  <a:lnTo>
                    <a:pt x="0" y="0"/>
                  </a:lnTo>
                  <a:lnTo>
                    <a:pt x="676" y="792"/>
                  </a:lnTo>
                  <a:lnTo>
                    <a:pt x="632" y="797"/>
                  </a:lnTo>
                  <a:lnTo>
                    <a:pt x="600" y="814"/>
                  </a:lnTo>
                  <a:lnTo>
                    <a:pt x="578" y="837"/>
                  </a:lnTo>
                  <a:lnTo>
                    <a:pt x="572" y="863"/>
                  </a:lnTo>
                  <a:lnTo>
                    <a:pt x="572" y="965"/>
                  </a:lnTo>
                  <a:lnTo>
                    <a:pt x="572" y="1133"/>
                  </a:lnTo>
                  <a:lnTo>
                    <a:pt x="578" y="1159"/>
                  </a:lnTo>
                  <a:lnTo>
                    <a:pt x="600" y="1182"/>
                  </a:lnTo>
                  <a:lnTo>
                    <a:pt x="632" y="1195"/>
                  </a:lnTo>
                  <a:lnTo>
                    <a:pt x="676" y="1199"/>
                  </a:lnTo>
                  <a:lnTo>
                    <a:pt x="834" y="1199"/>
                  </a:lnTo>
                  <a:lnTo>
                    <a:pt x="1096" y="1199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70800" y="4672080"/>
              <a:ext cx="779400" cy="52704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232760" y="4565520"/>
            <a:ext cx="153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908320" y="2174760"/>
            <a:ext cx="376200" cy="604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5908320" y="2098440"/>
            <a:ext cx="2281320" cy="757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432560" y="3012840"/>
            <a:ext cx="757440" cy="299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397240" y="3274560"/>
            <a:ext cx="593280" cy="840240"/>
            <a:chOff x="2397240" y="3274560"/>
            <a:chExt cx="593280" cy="840240"/>
          </a:xfrm>
        </p:grpSpPr>
        <p:sp>
          <p:nvSpPr>
            <p:cNvPr id="323" name=""/>
            <p:cNvSpPr/>
            <p:nvPr/>
          </p:nvSpPr>
          <p:spPr>
            <a:xfrm>
              <a:off x="2643120" y="3325680"/>
              <a:ext cx="339840" cy="622440"/>
            </a:xfrm>
            <a:custGeom>
              <a:avLst/>
              <a:gdLst/>
              <a:ahLst/>
              <a:rect l="l" t="t" r="r" b="b"/>
              <a:pathLst>
                <a:path w="214" h="392">
                  <a:moveTo>
                    <a:pt x="30" y="0"/>
                  </a:moveTo>
                  <a:lnTo>
                    <a:pt x="23" y="17"/>
                  </a:lnTo>
                  <a:lnTo>
                    <a:pt x="12" y="49"/>
                  </a:lnTo>
                  <a:lnTo>
                    <a:pt x="5" y="84"/>
                  </a:lnTo>
                  <a:lnTo>
                    <a:pt x="5" y="120"/>
                  </a:lnTo>
                  <a:lnTo>
                    <a:pt x="0" y="148"/>
                  </a:lnTo>
                  <a:lnTo>
                    <a:pt x="7" y="182"/>
                  </a:lnTo>
                  <a:lnTo>
                    <a:pt x="11" y="203"/>
                  </a:lnTo>
                  <a:lnTo>
                    <a:pt x="20" y="229"/>
                  </a:lnTo>
                  <a:lnTo>
                    <a:pt x="27" y="245"/>
                  </a:lnTo>
                  <a:lnTo>
                    <a:pt x="34" y="260"/>
                  </a:lnTo>
                  <a:lnTo>
                    <a:pt x="45" y="275"/>
                  </a:lnTo>
                  <a:lnTo>
                    <a:pt x="67" y="302"/>
                  </a:lnTo>
                  <a:lnTo>
                    <a:pt x="85" y="321"/>
                  </a:lnTo>
                  <a:lnTo>
                    <a:pt x="109" y="341"/>
                  </a:lnTo>
                  <a:lnTo>
                    <a:pt x="133" y="357"/>
                  </a:lnTo>
                  <a:lnTo>
                    <a:pt x="164" y="373"/>
                  </a:lnTo>
                  <a:lnTo>
                    <a:pt x="196" y="385"/>
                  </a:lnTo>
                  <a:lnTo>
                    <a:pt x="213" y="391"/>
                  </a:lnTo>
                  <a:lnTo>
                    <a:pt x="30" y="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90920" y="3322800"/>
              <a:ext cx="387360" cy="637920"/>
            </a:xfrm>
            <a:custGeom>
              <a:avLst/>
              <a:gdLst/>
              <a:ahLst/>
              <a:rect l="l" t="t" r="r" b="b"/>
              <a:pathLst>
                <a:path w="244" h="402">
                  <a:moveTo>
                    <a:pt x="55" y="0"/>
                  </a:moveTo>
                  <a:lnTo>
                    <a:pt x="0" y="150"/>
                  </a:lnTo>
                  <a:lnTo>
                    <a:pt x="99" y="348"/>
                  </a:lnTo>
                  <a:lnTo>
                    <a:pt x="243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0520" y="3322800"/>
              <a:ext cx="347760" cy="637920"/>
            </a:xfrm>
            <a:custGeom>
              <a:avLst/>
              <a:gdLst/>
              <a:ahLst/>
              <a:rect l="l" t="t" r="r" b="b"/>
              <a:pathLst>
                <a:path w="219" h="402">
                  <a:moveTo>
                    <a:pt x="30" y="0"/>
                  </a:moveTo>
                  <a:lnTo>
                    <a:pt x="24" y="17"/>
                  </a:lnTo>
                  <a:lnTo>
                    <a:pt x="12" y="49"/>
                  </a:lnTo>
                  <a:lnTo>
                    <a:pt x="5" y="85"/>
                  </a:lnTo>
                  <a:lnTo>
                    <a:pt x="5" y="122"/>
                  </a:lnTo>
                  <a:lnTo>
                    <a:pt x="0" y="152"/>
                  </a:lnTo>
                  <a:lnTo>
                    <a:pt x="7" y="187"/>
                  </a:lnTo>
                  <a:lnTo>
                    <a:pt x="11" y="208"/>
                  </a:lnTo>
                  <a:lnTo>
                    <a:pt x="20" y="235"/>
                  </a:lnTo>
                  <a:lnTo>
                    <a:pt x="27" y="251"/>
                  </a:lnTo>
                  <a:lnTo>
                    <a:pt x="34" y="266"/>
                  </a:lnTo>
                  <a:lnTo>
                    <a:pt x="47" y="282"/>
                  </a:lnTo>
                  <a:lnTo>
                    <a:pt x="69" y="309"/>
                  </a:lnTo>
                  <a:lnTo>
                    <a:pt x="87" y="329"/>
                  </a:lnTo>
                  <a:lnTo>
                    <a:pt x="111" y="350"/>
                  </a:lnTo>
                  <a:lnTo>
                    <a:pt x="136" y="366"/>
                  </a:lnTo>
                  <a:lnTo>
                    <a:pt x="168" y="383"/>
                  </a:lnTo>
                  <a:lnTo>
                    <a:pt x="201" y="395"/>
                  </a:lnTo>
                  <a:lnTo>
                    <a:pt x="218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48080" y="3772080"/>
              <a:ext cx="14112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88" y="28"/>
                  </a:moveTo>
                  <a:lnTo>
                    <a:pt x="13" y="0"/>
                  </a:lnTo>
                  <a:lnTo>
                    <a:pt x="0" y="37"/>
                  </a:lnTo>
                  <a:lnTo>
                    <a:pt x="75" y="64"/>
                  </a:lnTo>
                  <a:lnTo>
                    <a:pt x="88" y="28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32240" y="3767040"/>
              <a:ext cx="158400" cy="119160"/>
            </a:xfrm>
            <a:custGeom>
              <a:avLst/>
              <a:gdLst/>
              <a:ahLst/>
              <a:rect l="l" t="t" r="r" b="b"/>
              <a:pathLst>
                <a:path w="100" h="75">
                  <a:moveTo>
                    <a:pt x="99" y="3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40000">
              <a:off x="2623680" y="3698640"/>
              <a:ext cx="58680" cy="60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711520" y="3546360"/>
              <a:ext cx="185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14520" y="3865680"/>
              <a:ext cx="252360" cy="236520"/>
            </a:xfrm>
            <a:custGeom>
              <a:avLst/>
              <a:gdLst/>
              <a:ahLst/>
              <a:rect l="l" t="t" r="r" b="b"/>
              <a:pathLst>
                <a:path w="159" h="149">
                  <a:moveTo>
                    <a:pt x="0" y="90"/>
                  </a:moveTo>
                  <a:lnTo>
                    <a:pt x="123" y="0"/>
                  </a:lnTo>
                  <a:lnTo>
                    <a:pt x="158" y="148"/>
                  </a:lnTo>
                  <a:lnTo>
                    <a:pt x="0" y="9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97240" y="3863880"/>
              <a:ext cx="266760" cy="250920"/>
            </a:xfrm>
            <a:custGeom>
              <a:avLst/>
              <a:gdLst/>
              <a:ahLst/>
              <a:rect l="l" t="t" r="r" b="b"/>
              <a:pathLst>
                <a:path w="168" h="158">
                  <a:moveTo>
                    <a:pt x="0" y="97"/>
                  </a:move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2653920" y="3274560"/>
              <a:ext cx="336600" cy="73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3" name=""/>
          <p:cNvGraphicFramePr/>
          <p:nvPr/>
        </p:nvGraphicFramePr>
        <p:xfrm>
          <a:off x="5638680" y="1828800"/>
          <a:ext cx="62388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38680" y="18288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3556080" y="507060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124680" y="1628640"/>
            <a:ext cx="628560" cy="400320"/>
          </a:xfrm>
          <a:prstGeom prst="line">
            <a:avLst/>
          </a:prstGeom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960720" y="3170160"/>
            <a:ext cx="2230560" cy="2319480"/>
            <a:chOff x="3960720" y="3170160"/>
            <a:chExt cx="2230560" cy="2319480"/>
          </a:xfrm>
        </p:grpSpPr>
        <p:sp>
          <p:nvSpPr>
            <p:cNvPr id="338" name=""/>
            <p:cNvSpPr/>
            <p:nvPr/>
          </p:nvSpPr>
          <p:spPr>
            <a:xfrm>
              <a:off x="3960720" y="3170160"/>
              <a:ext cx="2230560" cy="2319480"/>
            </a:xfrm>
            <a:custGeom>
              <a:avLst/>
              <a:gdLst/>
              <a:ahLst/>
              <a:rect l="l" t="t" r="r" b="b"/>
              <a:pathLst>
                <a:path w="1405" h="1461">
                  <a:moveTo>
                    <a:pt x="175" y="1460"/>
                  </a:moveTo>
                  <a:lnTo>
                    <a:pt x="106" y="1454"/>
                  </a:lnTo>
                  <a:lnTo>
                    <a:pt x="50" y="1432"/>
                  </a:lnTo>
                  <a:lnTo>
                    <a:pt x="13" y="1405"/>
                  </a:lnTo>
                  <a:lnTo>
                    <a:pt x="7" y="1388"/>
                  </a:lnTo>
                  <a:lnTo>
                    <a:pt x="0" y="1372"/>
                  </a:lnTo>
                  <a:lnTo>
                    <a:pt x="0" y="1150"/>
                  </a:lnTo>
                  <a:lnTo>
                    <a:pt x="0" y="1018"/>
                  </a:lnTo>
                  <a:lnTo>
                    <a:pt x="7" y="1001"/>
                  </a:lnTo>
                  <a:lnTo>
                    <a:pt x="13" y="984"/>
                  </a:lnTo>
                  <a:lnTo>
                    <a:pt x="50" y="957"/>
                  </a:lnTo>
                  <a:lnTo>
                    <a:pt x="106" y="935"/>
                  </a:lnTo>
                  <a:lnTo>
                    <a:pt x="175" y="929"/>
                  </a:lnTo>
                  <a:lnTo>
                    <a:pt x="618" y="929"/>
                  </a:lnTo>
                  <a:lnTo>
                    <a:pt x="1404" y="0"/>
                  </a:lnTo>
                  <a:lnTo>
                    <a:pt x="880" y="929"/>
                  </a:lnTo>
                  <a:lnTo>
                    <a:pt x="949" y="935"/>
                  </a:lnTo>
                  <a:lnTo>
                    <a:pt x="1005" y="957"/>
                  </a:lnTo>
                  <a:lnTo>
                    <a:pt x="1042" y="984"/>
                  </a:lnTo>
                  <a:lnTo>
                    <a:pt x="1048" y="1001"/>
                  </a:lnTo>
                  <a:lnTo>
                    <a:pt x="1055" y="1018"/>
                  </a:lnTo>
                  <a:lnTo>
                    <a:pt x="1055" y="1150"/>
                  </a:lnTo>
                  <a:lnTo>
                    <a:pt x="1055" y="1372"/>
                  </a:lnTo>
                  <a:lnTo>
                    <a:pt x="1048" y="1388"/>
                  </a:lnTo>
                  <a:lnTo>
                    <a:pt x="1042" y="1405"/>
                  </a:lnTo>
                  <a:lnTo>
                    <a:pt x="1005" y="1432"/>
                  </a:lnTo>
                  <a:lnTo>
                    <a:pt x="949" y="1454"/>
                  </a:lnTo>
                  <a:lnTo>
                    <a:pt x="880" y="1460"/>
                  </a:lnTo>
                  <a:lnTo>
                    <a:pt x="618" y="1460"/>
                  </a:lnTo>
                  <a:lnTo>
                    <a:pt x="175" y="146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6240" y="4727520"/>
              <a:ext cx="136872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679840" y="4048200"/>
            <a:ext cx="2885760" cy="1441440"/>
            <a:chOff x="2679840" y="4048200"/>
            <a:chExt cx="2885760" cy="1441440"/>
          </a:xfrm>
        </p:grpSpPr>
        <p:sp>
          <p:nvSpPr>
            <p:cNvPr id="341" name=""/>
            <p:cNvSpPr/>
            <p:nvPr/>
          </p:nvSpPr>
          <p:spPr>
            <a:xfrm>
              <a:off x="2679840" y="4048200"/>
              <a:ext cx="2885760" cy="1441440"/>
            </a:xfrm>
            <a:custGeom>
              <a:avLst/>
              <a:gdLst/>
              <a:ahLst/>
              <a:rect l="l" t="t" r="r" b="b"/>
              <a:pathLst>
                <a:path w="1818" h="908">
                  <a:moveTo>
                    <a:pt x="937" y="907"/>
                  </a:moveTo>
                  <a:lnTo>
                    <a:pt x="869" y="901"/>
                  </a:lnTo>
                  <a:lnTo>
                    <a:pt x="813" y="879"/>
                  </a:lnTo>
                  <a:lnTo>
                    <a:pt x="791" y="868"/>
                  </a:lnTo>
                  <a:lnTo>
                    <a:pt x="774" y="852"/>
                  </a:lnTo>
                  <a:lnTo>
                    <a:pt x="768" y="835"/>
                  </a:lnTo>
                  <a:lnTo>
                    <a:pt x="763" y="819"/>
                  </a:lnTo>
                  <a:lnTo>
                    <a:pt x="763" y="597"/>
                  </a:lnTo>
                  <a:lnTo>
                    <a:pt x="0" y="0"/>
                  </a:lnTo>
                  <a:lnTo>
                    <a:pt x="763" y="465"/>
                  </a:lnTo>
                  <a:lnTo>
                    <a:pt x="768" y="448"/>
                  </a:lnTo>
                  <a:lnTo>
                    <a:pt x="774" y="431"/>
                  </a:lnTo>
                  <a:lnTo>
                    <a:pt x="791" y="415"/>
                  </a:lnTo>
                  <a:lnTo>
                    <a:pt x="813" y="404"/>
                  </a:lnTo>
                  <a:lnTo>
                    <a:pt x="869" y="382"/>
                  </a:lnTo>
                  <a:lnTo>
                    <a:pt x="937" y="376"/>
                  </a:lnTo>
                  <a:lnTo>
                    <a:pt x="1200" y="376"/>
                  </a:lnTo>
                  <a:lnTo>
                    <a:pt x="1638" y="376"/>
                  </a:lnTo>
                  <a:lnTo>
                    <a:pt x="1710" y="382"/>
                  </a:lnTo>
                  <a:lnTo>
                    <a:pt x="1767" y="404"/>
                  </a:lnTo>
                  <a:lnTo>
                    <a:pt x="1789" y="415"/>
                  </a:lnTo>
                  <a:lnTo>
                    <a:pt x="1806" y="431"/>
                  </a:lnTo>
                  <a:lnTo>
                    <a:pt x="1811" y="448"/>
                  </a:lnTo>
                  <a:lnTo>
                    <a:pt x="1817" y="465"/>
                  </a:lnTo>
                  <a:lnTo>
                    <a:pt x="1817" y="597"/>
                  </a:lnTo>
                  <a:lnTo>
                    <a:pt x="1817" y="819"/>
                  </a:lnTo>
                  <a:lnTo>
                    <a:pt x="1811" y="835"/>
                  </a:lnTo>
                  <a:lnTo>
                    <a:pt x="1806" y="852"/>
                  </a:lnTo>
                  <a:lnTo>
                    <a:pt x="1789" y="868"/>
                  </a:lnTo>
                  <a:lnTo>
                    <a:pt x="1767" y="879"/>
                  </a:lnTo>
                  <a:lnTo>
                    <a:pt x="1710" y="901"/>
                  </a:lnTo>
                  <a:lnTo>
                    <a:pt x="1638" y="907"/>
                  </a:lnTo>
                  <a:lnTo>
                    <a:pt x="1200" y="907"/>
                  </a:lnTo>
                  <a:lnTo>
                    <a:pt x="937" y="907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0280" y="4727520"/>
              <a:ext cx="136836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887640" y="4718160"/>
            <a:ext cx="1710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planet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net Gatew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planetary Internet Statu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the Mars Miss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Mars Orbit and Areosynchronous satellites by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control &amp; confidentialit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 Outposts by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Manned Mars station 2030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Interplanetary backbone 204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erf’s Slides and other information are found at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8480" y="205740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wcom.com/cerfsu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isoc.org/intern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4880" y="3962520"/>
            <a:ext cx="796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lso se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gip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nua.or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idc.com/telb/projectatlas.htm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bits should be enough address space for Intern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360" y="3581280"/>
            <a:ext cx="327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Vint Cerf, 197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e08000"/>
              </a:gs>
              <a:gs pos="100000">
                <a:srgbClr val="422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692280"/>
            <a:ext cx="9055080" cy="6157800"/>
          </a:xfrm>
          <a:custGeom>
            <a:avLst/>
            <a:gdLst>
              <a:gd name="textAreaLeft" fmla="*/ 2067120 w 9055080"/>
              <a:gd name="textAreaRight" fmla="*/ 6987960 w 9055080"/>
              <a:gd name="textAreaTop" fmla="*/ 1405800 h 6157800"/>
              <a:gd name="textAreaBottom" fmla="*/ 4752000 h 615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e14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96560" y="1864800"/>
            <a:ext cx="7162920" cy="35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rgest net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s in the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s TCP/IP protocols and packet switching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ns on any communi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ions substr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08240" y="-36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Internet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aug96%20-%20IP%20on%20everything" descr=""/>
          <p:cNvPicPr/>
          <p:nvPr/>
        </p:nvPicPr>
        <p:blipFill>
          <a:blip r:embed="rId1"/>
          <a:stretch/>
        </p:blipFill>
        <p:spPr>
          <a:xfrm>
            <a:off x="25909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philosophical analog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al Power and fractional horsepower motors - doing work for us 24 hours/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nd computers (processing power) doing work for us - distributing and processing information, performing logical tasks 24 hours/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“GOLDRUSH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12960" y="5224320"/>
          <a:ext cx="7858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5224320"/>
                    <a:ext cx="7858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029360" y="4610160"/>
          <a:ext cx="1532160" cy="14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9360" y="4610160"/>
                    <a:ext cx="153216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4114800" y="4514760"/>
            <a:ext cx="1235160" cy="1279440"/>
            <a:chOff x="4114800" y="4514760"/>
            <a:chExt cx="1235160" cy="1279440"/>
          </a:xfrm>
        </p:grpSpPr>
        <p:graphicFrame>
          <p:nvGraphicFramePr>
            <p:cNvPr id="148" name=""/>
            <p:cNvGraphicFramePr/>
            <p:nvPr/>
          </p:nvGraphicFramePr>
          <p:xfrm>
            <a:off x="4114800" y="4514760"/>
            <a:ext cx="1055520" cy="104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14800" y="4514760"/>
                      <a:ext cx="10555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4203720" y="4630680"/>
            <a:ext cx="1057320" cy="104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03720" y="4630680"/>
                      <a:ext cx="10573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4294080" y="4746600"/>
            <a:ext cx="1055880" cy="104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94080" y="4746600"/>
                      <a:ext cx="105588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" name=""/>
          <p:cNvGrpSpPr/>
          <p:nvPr/>
        </p:nvGrpSpPr>
        <p:grpSpPr>
          <a:xfrm>
            <a:off x="4300560" y="1852560"/>
            <a:ext cx="2044800" cy="835200"/>
            <a:chOff x="4300560" y="1852560"/>
            <a:chExt cx="2044800" cy="835200"/>
          </a:xfrm>
        </p:grpSpPr>
        <p:graphicFrame>
          <p:nvGraphicFramePr>
            <p:cNvPr id="155" name=""/>
            <p:cNvGraphicFramePr/>
            <p:nvPr/>
          </p:nvGraphicFramePr>
          <p:xfrm>
            <a:off x="4300560" y="1865160"/>
            <a:ext cx="2044800" cy="822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0560" y="1865160"/>
                      <a:ext cx="2044800" cy="8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7" name=""/>
            <p:cNvGrpSpPr/>
            <p:nvPr/>
          </p:nvGrpSpPr>
          <p:grpSpPr>
            <a:xfrm>
              <a:off x="4667400" y="1852560"/>
              <a:ext cx="1335960" cy="303840"/>
              <a:chOff x="4667400" y="1852560"/>
              <a:chExt cx="1335960" cy="303840"/>
            </a:xfrm>
          </p:grpSpPr>
          <p:sp>
            <p:nvSpPr>
              <p:cNvPr id="158" name=""/>
              <p:cNvSpPr/>
              <p:nvPr/>
            </p:nvSpPr>
            <p:spPr>
              <a:xfrm>
                <a:off x="4667400" y="1852560"/>
                <a:ext cx="132696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69200" y="1881360"/>
                <a:ext cx="1334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SUPPLY STOR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0" name=""/>
          <p:cNvGraphicFramePr/>
          <p:nvPr/>
        </p:nvGraphicFramePr>
        <p:xfrm>
          <a:off x="3398760" y="2800440"/>
          <a:ext cx="3046320" cy="185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98760" y="2800440"/>
                    <a:ext cx="30463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426960" y="1614600"/>
            <a:ext cx="360684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6400800" y="2728800"/>
            <a:ext cx="2043000" cy="1719360"/>
            <a:chOff x="6400800" y="2728800"/>
            <a:chExt cx="2043000" cy="1719360"/>
          </a:xfrm>
        </p:grpSpPr>
        <p:graphicFrame>
          <p:nvGraphicFramePr>
            <p:cNvPr id="164" name=""/>
            <p:cNvGraphicFramePr/>
            <p:nvPr/>
          </p:nvGraphicFramePr>
          <p:xfrm>
            <a:off x="6400800" y="2728800"/>
            <a:ext cx="2043000" cy="17193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400800" y="2728800"/>
                      <a:ext cx="2043000" cy="17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" name=""/>
            <p:cNvGrpSpPr/>
            <p:nvPr/>
          </p:nvGrpSpPr>
          <p:grpSpPr>
            <a:xfrm>
              <a:off x="6777000" y="3605040"/>
              <a:ext cx="1327320" cy="300600"/>
              <a:chOff x="6777000" y="3605040"/>
              <a:chExt cx="1327320" cy="300600"/>
            </a:xfrm>
          </p:grpSpPr>
          <p:sp>
            <p:nvSpPr>
              <p:cNvPr id="167" name=""/>
              <p:cNvSpPr/>
              <p:nvPr/>
            </p:nvSpPr>
            <p:spPr>
              <a:xfrm>
                <a:off x="6777000" y="3605040"/>
                <a:ext cx="132732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13000" y="3630600"/>
                <a:ext cx="1265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WESTERN IN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4871880" y="4751280"/>
          <a:ext cx="1177920" cy="1217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71880" y="4751280"/>
                    <a:ext cx="11779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21320" y="5029200"/>
          <a:ext cx="826920" cy="830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21320" y="5029200"/>
                    <a:ext cx="8269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735920" y="725400"/>
            <a:ext cx="69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California: 1848. It was go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 years later…it’s Internet and the stock market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4T00:59:17Z</dcterms:created>
  <dc:creator>Vint Cerf</dc:creator>
  <dc:description/>
  <dc:language>en-US</dc:language>
  <cp:lastModifiedBy>Vint Cerf</cp:lastModifiedBy>
  <cp:lastPrinted>1997-08-29T17:39:48Z</cp:lastPrinted>
  <dcterms:modified xsi:type="dcterms:W3CDTF">2000-01-18T02:59:18Z</dcterms:modified>
  <cp:revision>90</cp:revision>
  <dc:subject>Telecom Italia</dc:subject>
  <dc:title>Sweden is special</dc:title>
</cp:coreProperties>
</file>