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D983-5B0A-4AD0-ADE6-B1A57427E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392360"/>
            <a:ext cx="5121000" cy="41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99 i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nouncing RSA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ird annual RSA Security a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1680" y="4392360"/>
            <a:ext cx="5121000" cy="41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99 i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nouncing RSA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ird annual RSA Security a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685-021A-4653-BFD6-0D67EEF2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8B1-BDDF-41AC-BDC4-2C2883D3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1B7-712B-478D-B395-F3DBF558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3C8-7981-4260-A920-E23B57DE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892-BDC3-4B7B-AC37-87EFB546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532-D78D-4DA0-8D5F-28E83947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24F-E977-4776-A2B1-5E0A22D2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CA5-E9A6-46B7-B6C8-9E8057A8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29E-C969-4710-AC04-155CE75A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C90-2E34-49E0-B2B9-F967B0BE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23B-F515-4039-9345-273FD7A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A99-0CD8-4630-B64A-802297FE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v3_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3F93-0167-4C1D-9368-EE9756C4A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v2_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514600" y="2057400"/>
            <a:ext cx="40593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960" y="383760"/>
            <a:ext cx="8345160" cy="40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Partnerships that Define the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-Security Landscap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061720"/>
            <a:ext cx="4291200" cy="39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teams with Intel, Microsoft, Cisco, Novell and Lotus to strengthen e-Securit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BT sign glob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on reseller 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AIG Roll-ou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Business insurance all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Capital accelerates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e-Bus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McGraw-Hill launc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genda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43400" y="131436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 Flatow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&amp; Executive Produc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 Friday - N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k Campagnoni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Technology Offic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 Inform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Denniger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irman &amp; CE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view Associ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Coviello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ident and CE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5840" y="344520"/>
            <a:ext cx="709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-Business in the New Millenn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2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ategy and Announc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0" y="549576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tt Schn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. Vice President, RSA Security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41972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5627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genda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695760" y="0"/>
            <a:ext cx="5448240" cy="6858000"/>
            <a:chOff x="3695760" y="0"/>
            <a:chExt cx="5448240" cy="6858000"/>
          </a:xfrm>
        </p:grpSpPr>
        <p:pic>
          <p:nvPicPr>
            <p:cNvPr id="95" name="Agendabg1" descr=""/>
            <p:cNvPicPr/>
            <p:nvPr/>
          </p:nvPicPr>
          <p:blipFill>
            <a:blip r:embed="rId2"/>
            <a:stretch/>
          </p:blipFill>
          <p:spPr>
            <a:xfrm>
              <a:off x="3695760" y="0"/>
              <a:ext cx="5448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962520" y="228600"/>
              <a:ext cx="506736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gen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343400" y="190512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’s wireless road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industry partner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ves toward industry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digitalasset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digitalassets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e-Busi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3760" y="1914120"/>
            <a:ext cx="380988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ed e-Business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281240"/>
            <a:ext cx="3809880" cy="69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2971800"/>
            <a:ext cx="3809880" cy="104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 information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ellphone" descr=""/>
          <p:cNvPicPr/>
          <p:nvPr/>
        </p:nvPicPr>
        <p:blipFill>
          <a:blip r:embed="rId3"/>
          <a:stretch/>
        </p:blipFill>
        <p:spPr>
          <a:xfrm>
            <a:off x="523800" y="1533600"/>
            <a:ext cx="2092320" cy="1646280"/>
          </a:xfrm>
          <a:prstGeom prst="rect">
            <a:avLst/>
          </a:prstGeom>
          <a:ln w="0">
            <a:noFill/>
          </a:ln>
        </p:spPr>
      </p:pic>
      <p:pic>
        <p:nvPicPr>
          <p:cNvPr id="105" name="passport" descr=""/>
          <p:cNvPicPr/>
          <p:nvPr/>
        </p:nvPicPr>
        <p:blipFill>
          <a:blip r:embed="rId4"/>
          <a:stretch/>
        </p:blipFill>
        <p:spPr>
          <a:xfrm>
            <a:off x="2425680" y="3618000"/>
            <a:ext cx="2149560" cy="1463760"/>
          </a:xfrm>
          <a:prstGeom prst="rect">
            <a:avLst/>
          </a:prstGeom>
          <a:ln w="0">
            <a:noFill/>
          </a:ln>
        </p:spPr>
      </p:pic>
      <p:pic>
        <p:nvPicPr>
          <p:cNvPr id="106" name="receipt" descr=""/>
          <p:cNvPicPr/>
          <p:nvPr/>
        </p:nvPicPr>
        <p:blipFill>
          <a:blip r:embed="rId5"/>
          <a:stretch/>
        </p:blipFill>
        <p:spPr>
          <a:xfrm>
            <a:off x="522360" y="3621240"/>
            <a:ext cx="1474560" cy="220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2120" y="1163520"/>
            <a:ext cx="8602920" cy="0"/>
          </a:xfrm>
          <a:prstGeom prst="line">
            <a:avLst/>
          </a:prstGeom>
          <a:ln w="3492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212400"/>
            <a:ext cx="7543800" cy="67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Product Strategy 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Optimized for Wire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2040" y="5052960"/>
            <a:ext cx="37148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suance and management of wireless and wired certificates for the 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2040" y="3338640"/>
            <a:ext cx="37670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bedded authentication solutions and management systems for handheld and cellula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2040" y="1908000"/>
            <a:ext cx="40719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and encryption engines for handheld and cellula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safe%20logo%20grey" descr=""/>
          <p:cNvPicPr/>
          <p:nvPr/>
        </p:nvPicPr>
        <p:blipFill>
          <a:blip r:embed="rId1"/>
          <a:stretch/>
        </p:blipFill>
        <p:spPr>
          <a:xfrm>
            <a:off x="561960" y="1925640"/>
            <a:ext cx="3817800" cy="973080"/>
          </a:xfrm>
          <a:prstGeom prst="rect">
            <a:avLst/>
          </a:prstGeom>
          <a:ln w="0">
            <a:noFill/>
          </a:ln>
        </p:spPr>
      </p:pic>
      <p:pic>
        <p:nvPicPr>
          <p:cNvPr id="113" name="securid%20logo%20grey" descr=""/>
          <p:cNvPicPr/>
          <p:nvPr/>
        </p:nvPicPr>
        <p:blipFill>
          <a:blip r:embed="rId2"/>
          <a:stretch/>
        </p:blipFill>
        <p:spPr>
          <a:xfrm>
            <a:off x="561960" y="3503520"/>
            <a:ext cx="4065480" cy="981000"/>
          </a:xfrm>
          <a:prstGeom prst="rect">
            <a:avLst/>
          </a:prstGeom>
          <a:ln w="0">
            <a:noFill/>
          </a:ln>
        </p:spPr>
      </p:pic>
      <p:pic>
        <p:nvPicPr>
          <p:cNvPr id="114" name="keon%20logo%20grey" descr=""/>
          <p:cNvPicPr/>
          <p:nvPr/>
        </p:nvPicPr>
        <p:blipFill>
          <a:blip r:embed="rId3"/>
          <a:stretch/>
        </p:blipFill>
        <p:spPr>
          <a:xfrm>
            <a:off x="561960" y="5057640"/>
            <a:ext cx="33796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ll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20" y="568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662200"/>
            <a:ext cx="3809880" cy="31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P / WT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TLS certif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KCS #15 Crypto information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security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81360" y="2619360"/>
            <a:ext cx="4191120" cy="340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k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ic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795320"/>
            <a:ext cx="3933720" cy="62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81360" y="1800360"/>
            <a:ext cx="425772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000"/>
                </a:solidFill>
                <a:latin typeface="Arial"/>
              </a:rPr>
              <a:t>Business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greek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960" y="338040"/>
            <a:ext cx="84978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640" y="1816200"/>
            <a:ext cx="7489800" cy="47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SA Wireless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7280" y="2538360"/>
            <a:ext cx="7567560" cy="37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wireless protocol software and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BSAFE SSL-C 1.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BSAFE WT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Security teams wit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Sign on wireless tools and manage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tificate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icsson to secure wireless commun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6" name="endslide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14480" y="228600"/>
              <a:ext cx="891540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" name="endslid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237960"/>
            <a:ext cx="7543800" cy="68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1600" y="2776680"/>
            <a:ext cx="7381800" cy="331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the roadblocks to deploymen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world use, and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ing PKI with strong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ing interoperability between Keon, applications, and other infrastructur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ing the tools to build the nex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ion of e-busines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7640" y="1708200"/>
            <a:ext cx="7739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ng PKI deployment for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day’s e-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greekbg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120" y="2595240"/>
            <a:ext cx="7029720" cy="33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Keon Certificate Server 5.5 – secure, automated certificate registration with One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Keon Standalone Desktop turns PCs into secure “Digital Vaul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BSAFE Cert-C allows developers to build secure PKI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and ValiCert team on OCSP initi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37960"/>
            <a:ext cx="7543800" cy="68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640" y="1816200"/>
            <a:ext cx="7489800" cy="47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SA PKI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5T23:06:48Z</dcterms:created>
  <dc:creator>Rick Mack</dc:creator>
  <dc:description/>
  <dc:language>en-US</dc:language>
  <cp:lastModifiedBy>User</cp:lastModifiedBy>
  <cp:lastPrinted>2000-01-06T14:01:10Z</cp:lastPrinted>
  <dcterms:modified xsi:type="dcterms:W3CDTF">2000-01-17T20:12:49Z</dcterms:modified>
  <cp:revision>472</cp:revision>
  <dc:subject/>
  <dc:title>RSA Security</dc:title>
</cp:coreProperties>
</file>