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009-269E-49A3-92CE-B9EAAB3D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ABB-02A0-465D-AFD5-70003896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3CF-30A3-4BA7-83AD-2896681F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1212-0CEF-4C00-B5D8-99236A98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AED-1BDA-428C-B88B-5DCBBBBB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79D-3C4E-46DD-A2C7-CF12D6A2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E27-056B-4EA9-B723-EB12DFF7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12D-BF0A-4CD3-B859-AAB7D57F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E673-9D4A-4168-8BBC-DBAE6278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D84-D64F-4302-AAFE-AF0D440B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321-646A-46A0-90CA-38A14DD3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E4B-644F-41C7-B2EC-E9F1570D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F311-F60F-4E43-ABDE-CEC335E60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KCS Workshop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KCS #12 / PFX Comment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ke Rams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ef (Applied) Cryptogra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talk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/7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42900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m I yapping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ing PKCS #12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y 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atible implementations (mostly resolv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ways to do the same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-derived symmetric keys lump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ngle source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 I doing this righ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 the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private keys 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xisting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re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mpatible implem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he spec said, what Vendor M did and what Vendor N d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I put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edPrivateKey vs. Encrypted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ck, do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metric key 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ngs in PKCS #5, not lumped in with PKCS #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within ASN.1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there are no shortcuts for dictionary or other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ish th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a completed PKCS #12, not PKCS #12 plus email th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v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h, we need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3840" y="213372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ke C. Ramsdel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blaker@deming.co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://www.worldtalk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6T02:00:29Z</dcterms:created>
  <dc:creator>Blake C. Ramsdell</dc:creator>
  <dc:description/>
  <dc:language>en-US</dc:language>
  <cp:lastModifiedBy>Shari Oto</cp:lastModifiedBy>
  <cp:lastPrinted>1998-10-07T16:02:56Z</cp:lastPrinted>
  <dcterms:modified xsi:type="dcterms:W3CDTF">1998-10-07T17:19:46Z</dcterms:modified>
  <cp:revision>7</cp:revision>
  <dc:subject/>
  <dc:title>PKCS #12 / PFX Commentary</dc:title>
</cp:coreProperties>
</file>