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7F25-5116-4732-838D-24EBBBB9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449-E1AE-43EC-B3EE-7D0389DB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2861-AFCF-4D13-A47F-1B8055FB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6F61-C766-480B-9C2A-A3724F7A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058-A470-4D36-83E7-44B33010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E603-244D-44E0-A295-73CBAAD5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4E7-28EF-4301-8775-AB9E5A41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F736-5978-4D79-8CDD-BD3264E0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A29-5D5F-45BE-BA7A-F88DD6B0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F5A-3B34-4737-940A-9FCB8528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DD8-2E8C-48AD-BE08-ECEC0537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823-F323-4A29-9E2C-B6E41E86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B0D5-154C-494C-B29B-6FBD662F8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3: Elliptic Curve Cryptography Standar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t Kali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7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P Consider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C in general is not patented, but specific choices may be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QV key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compression (ap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validation (ap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profile is intended to be unencumbered, though some implementation techniques may be pat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choices appropri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rofile too gener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would fewer choice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necess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EEE P1363 Profile for PKCS 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uld be a better tit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lan and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iptic curve cryptography is emerging as a new public-key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tandardization underw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I X9.62,.63, IEEE P1363, ISO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13: a profile of existing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us: in preparation, this is a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CC: Primary Choic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finit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ic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inite Fiel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d characteristic: GF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GF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e.g.,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characteristic: GF(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field represent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generally faster (esp. in hardware), odd leverages existing modular arithmetic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Agreement 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e-Hel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fied” Diffie-Hel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Q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H basic, “unified” more flexible, MQV more efficient for joint static/ephem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363, X9.63 draft have all th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ignature 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yberg-Ruep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no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SA “standard,” NR allows message recovery, Schnorr more “provab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363 has first two, X9.62 has D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ncryption 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gamal (= DH + multipl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/MIM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heng-Seberry, Bellare-Rogaway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gamal basic, S/MIME enhanced, ZS and BR “provable”,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S, BR submitted to P1363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 in X9.63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int Represen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ompressed: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mpressed: only one bi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mpacted: one less bi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ly (with algorithm chan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, processing tradeof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363 supports uncompresse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om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Pro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F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GF(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ith rat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DH, ECDSA, P1363a 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ompressed, with P1363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parameter and key generation, validation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Burt Kaliski</dc:creator>
  <dc:description/>
  <dc:language>en-US</dc:language>
  <cp:lastModifiedBy>Burt Kaliski</cp:lastModifiedBy>
  <cp:lastPrinted>1998-08-07T15:04:05Z</cp:lastPrinted>
  <dcterms:modified xsi:type="dcterms:W3CDTF">1998-10-05T17:10:35Z</dcterms:modified>
  <cp:revision>178</cp:revision>
  <dc:subject/>
  <dc:title>PKCS #13: Elliptic Curve Cryptography Standard</dc:title>
</cp:coreProperties>
</file>