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860-1B4E-4C4A-8C3E-40D170A6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CE42-2B43-4B06-829D-8D85FA9E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67FD-C686-4005-BF2B-4320F1CE8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3AF0-2457-4384-B2A0-63C45AEE0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D51-95E3-483C-B016-1EDCF1F2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7D8-AB8E-4398-A2D2-6394BF24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50F3-2C94-4087-91C4-57CC649F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063F-909C-4C08-9856-1D79DD9C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3C0A-D8DE-4C02-A6DB-84369051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D1D-792A-4B42-965E-9671F39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029F-D95D-465B-BFED-75F2B330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68C-F9FC-4FC5-88AB-DE1F7656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Data Security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fld id="{FAD7B947-16D7-46AE-BA75-284DA974F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4A61-E66D-4517-B4BB-F942A6CDC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4: Pseudo-Random Number Gener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. Baldwin - RSA Engine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dwin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W. Gray, III - 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gray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KCS Workshop ’98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ctober 7-9,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eta-Criteri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New Algorithm Must Be Bette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n Existing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Measure Be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haps Multiple Sets of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Conflicting Se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pher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ort Regu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e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nentiation-Based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dware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Full Digest, Not Hash-Com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Security Checklis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Passes Randomness Te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Minimum Cycle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Brute Force State Gues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Output 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3DES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256-Bit AES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Use of Seed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Security Checklis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oid Known Cryptanalytic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Against Cipher or Digest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ing Att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mit Forward and Backward Atta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tacker Control of Some Seed Does Not Help Mu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Conservative Securit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en Security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Studied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Known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pted Properties of Primi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Intellectual Propert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Well-Defined Own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ge Of Ownershi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Patents On Any 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Primitives Not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Constr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s On Whole PR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ll-Understood Licensing Te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Discriminatory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riteria - API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he Full Set of Operations for a PR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Initial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“Random”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New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ve and Restore Stat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 Test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for Needs-More-See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Bytes Output Since Last S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ructure of PRNG Algorithm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 Seed Material to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One Block of Output From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 State Without New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 (May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ve &amp; Restore State (Mayb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-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-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omparing PRNG &amp; KDF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755720" y="1571760"/>
          <a:ext cx="6519960" cy="385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5720" y="1571760"/>
                    <a:ext cx="6519960" cy="38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| = Concate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x | = Bit Size of “x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 = Unsigned Integer Ad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 = Unsigned Integer Multi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^ =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or = Exclusive-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 =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X1 .. Xn = Seed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= Y1 .. Ym = Output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(z) = Digest of value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(k, m) = Encrypt block m with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bcRes(k, M) = CBC Residue of message M with key 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(PRF) Family of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SAFE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SL K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via MD5, SHA1, RIPEMD-1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 or 160 Bit Bottlene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DES needs 168-Bit Ke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Output by Diges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Digest (Gutmann, Yarr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er Addition of Digested Seed (BSAFE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 (State || Seed) (BSAFE 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 = Initial S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S1 || S2 = Internal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S | = 256 Bits,  | S1 | = | S2 | =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 = D(Pad1 || X) truncated to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2 = D(Pad2 || X) truncated to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ract Up To 256 Bits of Entrop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HMAC (S, S || j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: Yj = HMAC (S,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D (S xor Pad1 || D (S xor Pad2 || S|| j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j = D (S xor Pad1 || D (S xor Pad2 || j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| = 192 Bits (Room for End Pad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is just:  j = j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put Diagram for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07320" y="151596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hows Alternative: Yj = HMAC (S,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364968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4880" y="3100320"/>
            <a:ext cx="504720" cy="297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4880" y="3122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76680" y="2282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41560" y="2739960"/>
            <a:ext cx="0" cy="224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54160" y="327024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78160" y="340200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95640" y="36655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85880" y="385920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536904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4880" y="4819680"/>
            <a:ext cx="504720" cy="2970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4880" y="48420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4160" y="49896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8160" y="5121360"/>
            <a:ext cx="0" cy="247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197080" y="5373720"/>
            <a:ext cx="4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85880" y="5578560"/>
            <a:ext cx="309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38400" y="417672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90760" y="45036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025800" y="2455920"/>
            <a:ext cx="72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8160" y="2782800"/>
            <a:ext cx="0" cy="309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087720" y="37051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51000" y="54259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24200" y="3835440"/>
            <a:ext cx="5446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24200" y="5567400"/>
            <a:ext cx="1967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55920" y="3649680"/>
            <a:ext cx="81612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48160" y="370512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1240" y="5381640"/>
            <a:ext cx="815760" cy="407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883120" y="543708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12880" y="2306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14760" y="2819520"/>
            <a:ext cx="0" cy="82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025720" y="29764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8920" y="27874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00480" y="27273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1640" y="44607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25720" y="46832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94120" y="306216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ad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911840" y="3378240"/>
            <a:ext cx="0" cy="258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06800" y="3344760"/>
            <a:ext cx="82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6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84640" y="3848040"/>
            <a:ext cx="8161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00760" y="3859200"/>
            <a:ext cx="0" cy="152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54760" y="384012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83280" y="44323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ad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37360" y="4775040"/>
            <a:ext cx="0" cy="581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32680" y="47433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31120" y="5603760"/>
            <a:ext cx="977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159680" y="502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05560" y="561024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18080" y="557208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1560" y="2147760"/>
            <a:ext cx="26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S | = | j | = 256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7320" y="263196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F = SHA1-H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3465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89320" y="50547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12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62000" y="565956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0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Goal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gh Consensus on 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 Discussion of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up Interested Participants For Furthe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Digest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, X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 = D(S xor Pad1 || Xk) truncated to 1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2 = D(S xor Pad2 || Xk) truncated to 1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ad1 | = | Pad2 | = 512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as Initial Seeding With S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enefits of Digest-PRNG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State Avoids 3DES Key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Cycle Length of 2^192 Block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Output Cycle Length May Be S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fits From Literature on H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iterature (Krawczyk, Bellare, Rogaw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rawbacks of Digest-PRNG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lgorithm, No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Not Avoid Back-Tracking Atta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oofs of Security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d Re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Upd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er Than BSAFE’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X for Output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New Digest-PRNG Algorithm #2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ing developed by Jim G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able” Security 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Hash Compression Function Rather than Full Digest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ill Under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9.1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are, Rogaway,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ed to MAC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awczyk, Davis, Meyer, and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Often Unspec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pher-Based Digest (MDC2, Davies-Meyer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= Key and Message-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 Encrypting Par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 Single Block 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-Residue of Large Counter (Micro-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lock-Cipher Family PR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Message-Block and/or Key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Encryption (X9.17, 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end Counter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Rogaway and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64-bit block 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Keys Of At Least 128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A, RC5, 3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Generalize to AES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) = Davies-Meyer One-Way H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H(Prefix1 || X)  --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= S = S1 || S2  =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Prefix2 || X)  -- 128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Prefix1 | = | Prefix2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tivation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da-san:  Ask why 3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: Increase System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: Users and Developers Feel Saf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: Lawyers Are Happier  :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ly Accepted Good Business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r Intellectual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99840" y="1523520"/>
            <a:ext cx="7110360" cy="447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j = CbcRes (GK, 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K = H(K || j &gt;&gt; d) = Generatio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” sets key change rate. 0 &lt; d &lt;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Res = 64-bit CBC Resid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bcRes (K, S1 || S2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Enc (K, S2 xor Enc (K, S1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S1 | = | S2 | = 64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&gt;&gt; d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 State (LC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= S + C modulo 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 is 128-Bit Pr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Care to Avoid Timing Att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 CbcRes Key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2^d Output B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K = H(K || j &gt;&gt; 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j &gt;&gt; d | = 64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roposed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 State With New Seed, X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) = Davies-Meyer Ha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 = H(Prefix1 || K || X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H(Prefix2 || M || X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Benefits of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 State Avoids 3DES Key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 Cycle Length of P (~2^128) Bl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Cycle May Be S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t Faster Than Digest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Literature (Rogaway, Bellare, Dav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rawbacks of Block-Cipher-PRNG Algorithm #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Protection Against Back 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Algorithm, No Direct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-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-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-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and Block-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 Encrypting Part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rypt Single Block 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BC-Residue of Large Counter (Micro-BSAF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gest and Block 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 and/or Key b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Constant (Rogaw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FSR or LC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Encryption (X9.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ive Has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tream Cipher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Key Stream Cip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C4, PIKE, SEAL, VESTA, A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Stream Cip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Non-Purposes for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“Entropy” Gathering Recommend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Ensure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be: state save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Algorithm Famili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lock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est and B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 Cip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ular Exponent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view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Modular Exponentiation PRNG Famil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d Reduction Using 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Function of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arity, LSB, O(log log n) Bit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rate 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ature for BBS, ACGS, and B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tivation, Purpose and 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a an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est, Block Cipher,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 Cipher, Modular-Expone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ZapfDingbats BT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ZapfDingbats BT"/>
                <a:ea typeface="ZapfDingbats BT"/>
              </a:rPr>
              <a:t>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 of Criteria &amp; Famil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Discussion of Criteri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Documenting BSAFE Enoug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Cipher-Based PRNGs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Patent-Free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NG Construct and/or Primit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Re-Seeding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Digest Function Internals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Purposes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stablish Accepted 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nsure Correc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 V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Ensure Str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te Literature (Provable Proper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Focus for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Purposes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: Document Evaluation Crite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be: Evaluate Different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Not: Repeat RIPE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: Input to Other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ossible Scope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Document the BSAFE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alog All Know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broke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One Ideal PRNG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ect a Few Goo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for Each Major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Criteria for Good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urrent Scope For PKCS #14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 a Few Good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ing BSAFE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May 19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Existing Lit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Construct OK With Proo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te Preliminar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terature &amp; RSA Bullet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ob Baldwin</cp:lastModifiedBy>
  <cp:lastPrinted>1998-10-01T16:58:14Z</cp:lastPrinted>
  <dcterms:modified xsi:type="dcterms:W3CDTF">1998-10-09T21:22:50Z</dcterms:modified>
  <cp:revision>274</cp:revision>
  <dc:subject/>
  <dc:title>Emerging Standards for Public-Key Cryptography</dc:title>
</cp:coreProperties>
</file>