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76A-E9EC-4E02-9BAA-7A45344E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7C1-F77E-45B9-979E-80830E0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1F0-7464-45E7-884F-0A390B1D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981-AA0B-43B8-8097-D0CCA873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322-9BBF-4F90-B79F-B16A4BB5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573-1DE5-45D8-AEE1-2C745610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565-F958-4B83-BB64-54B7DBBF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C38-AF03-4E67-91CC-C7A704C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EFA-A65F-4AF4-8FE9-D25D1AE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AE9-5D6B-4A66-9687-8D393266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815-6515-48BA-91D4-ACE0736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788-9EE3-4E0C-AA5C-C809A6DE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B26E-89A6-45EC-A6C3-C12C6B99A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: Password-Based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9, 1998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minor 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Cryptography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ublished 10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modular encryp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dular message authentic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Key Derivation Fun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KDF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pute block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H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utput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MAC widely implemented, “provably secure” under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viewed as a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increases cost, preserves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length through vary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encryp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such as IV select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ssage Authentica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S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message authentic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ddressing the Limit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model /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still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support wider 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practical problem for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pporting Techniqu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, DES-EDE3, RC2, RC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 CBC mode with PKCS #5 v1.5 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-EDE2, DESX, RC4 to be ad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deriv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BKD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kdf2 ::= pkcs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KDF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 (1..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eyLength [0] INTEGER DEFAULT 16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hFunc [1] AlgID {{pbkdf2Hashs}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EFAULT sha1Identifier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IDs as in v1.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2AndDES-CBC ::= pkcs-5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5AndDES-CBC ::= pkcs-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SHA1AndRC2-CBC ::= pkcs-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Parameter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 SIZE (8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es2 ::= pkcs-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S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es2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nc AlgID {{pbes2En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MAC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mac1 ::= pkcs-5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MAC1-params ::= 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mac1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c AlgID {{pbmac1Ma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pper” and usag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ssword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with a passwor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,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peculiar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s are not convention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are they very “rando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-based key deri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BKD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vents dictionary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licates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conventional crypto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Encryption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ed 11/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5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erate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sh with password to derive key, I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as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ad message and encry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-CBC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t to recip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imitations of v1.5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wo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padding, assumes CB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mal model or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hanc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Data Security 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2-CBC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2 password-based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Workshop ’97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PKCS #5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New key derivation function to b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Modular encryption, message authentic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for underlying scheme (e.g., IV)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urt Kaliski</cp:lastModifiedBy>
  <cp:lastPrinted>1998-08-07T15:04:05Z</cp:lastPrinted>
  <dcterms:modified xsi:type="dcterms:W3CDTF">1998-10-13T15:25:00Z</dcterms:modified>
  <cp:revision>185</cp:revision>
  <dc:subject/>
  <dc:title>Emerging Standards for Public-Key Cryptography</dc:title>
</cp:coreProperties>
</file>