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907588" cy="6858000"/>
  <p:notesSz cx="6727825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50760" y="786960"/>
            <a:ext cx="7963200" cy="4475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11280" y="679320"/>
            <a:ext cx="8642160" cy="5778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610560" y="6464160"/>
            <a:ext cx="14950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Bruno Struif, GMD-TK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676360" y="6515280"/>
            <a:ext cx="7149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spAutoFit/>
          </a:bodyPr>
          <a:p>
            <a:pPr algn="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3FF59F5E-09CA-435E-993F-8568FCA3EC5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914400" y="533520"/>
            <a:ext cx="1522440" cy="24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1000" spc="-1" strike="noStrike">
                <a:solidFill>
                  <a:srgbClr val="000000"/>
                </a:solidFill>
                <a:latin typeface="Arial"/>
              </a:rPr>
              <a:t>SmartCard-Techni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Logo" descr=""/>
          <p:cNvPicPr/>
          <p:nvPr/>
        </p:nvPicPr>
        <p:blipFill>
          <a:blip r:embed="rId2"/>
          <a:stretch/>
        </p:blipFill>
        <p:spPr>
          <a:xfrm>
            <a:off x="8763120" y="380880"/>
            <a:ext cx="753840" cy="83844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459080" y="3886200"/>
            <a:ext cx="7018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7720" y="1828800"/>
            <a:ext cx="840924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rman Digital Signature Card and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fice Identity Car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nd 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KCS #15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357560" y="4114800"/>
            <a:ext cx="70783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runo Struif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M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German National Research Center for Information Technolog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Darmstad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762120" y="1981080"/>
            <a:ext cx="838188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User Authentic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escribes PINs and passwords, but no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The German Digital Signature law allows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t is technically already feasible to implement 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iometric feature matching algorithms in car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SO/IEC will add an amendment to 7816-4 with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respect to biometric user authent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3200" spc="-1" strike="noStrike">
                <a:solidFill>
                  <a:srgbClr val="fc0128"/>
                </a:solidFill>
                <a:latin typeface="Times New Roman"/>
              </a:rPr>
              <a:t>VERIFY Command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143000" y="2057400"/>
            <a:ext cx="754380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2590920" y="2209680"/>
          <a:ext cx="6072120" cy="2179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90920" y="2209680"/>
                    <a:ext cx="6072120" cy="217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6" name=""/>
          <p:cNvSpPr/>
          <p:nvPr/>
        </p:nvSpPr>
        <p:spPr>
          <a:xfrm>
            <a:off x="1386000" y="4572000"/>
            <a:ext cx="617472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rivate PC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is presented as plain val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f a digital signature is made on a public customer service terminal,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then the PIN shall be presented as cryptogram 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followed by a cryptographic checks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371600" y="1981080"/>
            <a:ext cx="708660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586520" y="2057400"/>
            <a:ext cx="67140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Authentication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in    PKCS15AuthenticationObject { PKCSPin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   PKCS15AuthenticationObject { PKCSBioAttributes }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Attributes  ::=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Flags            PKCS15BioFlag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Subject         PKCS15BioSubjec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Type             PKCS15BioType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bioReference     [0] PKCSReference DEFAULT 0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astBioChange   GeneralizedTime 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path                    PKCS15Path OPTIONAL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 -- For future extensions }</a:t>
            </a:r>
            <a:br>
              <a:rPr sz="2000"/>
            </a:br>
            <a:r>
              <a:rPr b="0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1905120" y="1905120"/>
            <a:ext cx="5715000" cy="43434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2356920" y="1981080"/>
            <a:ext cx="421488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15BioFlags  ::= BIT STRING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ocal                     (1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change-disabled   (2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unblock-disabled (3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nitialized             (4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5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6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served               (7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disable-allowed     (8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authentic               (9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enciphered           (10)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828800" y="2133720"/>
            <a:ext cx="6705720" cy="39621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349000" y="2133720"/>
            <a:ext cx="570816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KCSBioSubject  ::= CHOI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ingerPrint                [0] Finger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voicePrint                  [1] Voi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irisPrint                     [2] Iris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facePrint                    [3] Face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retinaPrint                 [4] RetinaPrint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handGeometry          [5] HandGeometry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writeDynamics          [6] Writ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keystrokeDynamics  [7] Keystroke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lipDynamics              [8] LipDynamics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... -- For future extens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Proposal for integration</a:t>
            </a:r>
            <a:br>
              <a:rPr sz="3200"/>
            </a:b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of bio objects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1219320" y="2057400"/>
            <a:ext cx="7391160" cy="3962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1892880" y="2438280"/>
            <a:ext cx="66744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Print ::=  SEQUENCE {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handID      HandID,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fingerID    Finger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    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ndID ::= ENUMERATED {righthand (0), lefthand (1) }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FingerID ::= ENUMRATED { thumb(0), pointer finger (1),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middle finger (2), ring finger (3), little finger (4) }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Access to objec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523880" y="1752480"/>
            <a:ext cx="746784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6705720" y="2209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63760" y="2438280"/>
            <a:ext cx="1416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ublic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6705720" y="3352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824160" y="3581280"/>
            <a:ext cx="149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ivate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6705720" y="4495680"/>
            <a:ext cx="167616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6768000" y="4724280"/>
            <a:ext cx="1610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„</a:t>
            </a: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ntity Object“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4724280" y="2514600"/>
            <a:ext cx="19814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866320" y="2314440"/>
            <a:ext cx="162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ccess is fre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876920" y="3733920"/>
            <a:ext cx="18288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815920" y="2895480"/>
            <a:ext cx="1945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bject has to b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esen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(PIN, password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biometric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5029200" y="4876920"/>
            <a:ext cx="16765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815920" y="4648320"/>
            <a:ext cx="2369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proced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has to be perform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Management of Access Right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990720" y="1600200"/>
            <a:ext cx="7924680" cy="4724280"/>
          </a:xfrm>
          <a:prstGeom prst="rect">
            <a:avLst/>
          </a:prstGeom>
          <a:solidFill>
            <a:srgbClr val="ffff00"/>
          </a:solidFill>
          <a:ln w="1260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1523880" y="2286000"/>
            <a:ext cx="1600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1447560" y="1828800"/>
            <a:ext cx="17535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lementary 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ecur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ttribu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Fi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ont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1523880" y="3124080"/>
            <a:ext cx="1600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187160" y="2057400"/>
            <a:ext cx="45514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Exampl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Rea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or ´x.02´ and User AU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Upda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EXT AUTH (asym) wit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´x.01´ and 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X = Prefix denoting the AID or the entit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ssigning the role 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19320" y="4876920"/>
            <a:ext cx="359748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M = Access Mo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C = Security Condi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CHA = Cert. Holder Authoris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(Prefix, Role ID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SM = Secure Messag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Hashin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2362320" y="1752480"/>
            <a:ext cx="58672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2" name=""/>
          <p:cNvGraphicFramePr/>
          <p:nvPr/>
        </p:nvGraphicFramePr>
        <p:xfrm>
          <a:off x="3048120" y="2286000"/>
          <a:ext cx="4429080" cy="323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8120" y="2286000"/>
                    <a:ext cx="4429080" cy="323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600200" y="1752480"/>
            <a:ext cx="6553080" cy="44197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2666520" y="2057400"/>
            <a:ext cx="5257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PKCS15 distinguish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509Attribute 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spki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pgp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wtlsCertificates</a:t>
            </a: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- x9-68Certificates</a:t>
            </a:r>
            <a:br>
              <a:rPr sz="2800"/>
            </a:br>
            <a:br>
              <a:rPr sz="2800"/>
            </a:b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but no cvCertificates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1752480" y="1828800"/>
            <a:ext cx="5410440" cy="3352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General Configuration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133720" y="2514600"/>
            <a:ext cx="1904760" cy="1905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495680" y="3581280"/>
            <a:ext cx="914400" cy="8384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038480" y="39625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498560" y="2971800"/>
            <a:ext cx="99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a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ermi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11480" y="2057400"/>
            <a:ext cx="52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5943600" y="2666880"/>
            <a:ext cx="990720" cy="609480"/>
            <a:chOff x="5943600" y="2666880"/>
            <a:chExt cx="990720" cy="609480"/>
          </a:xfrm>
        </p:grpSpPr>
        <p:sp>
          <p:nvSpPr>
            <p:cNvPr id="54" name=""/>
            <p:cNvSpPr/>
            <p:nvPr/>
          </p:nvSpPr>
          <p:spPr>
            <a:xfrm>
              <a:off x="5943600" y="266688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6096240" y="2819160"/>
              <a:ext cx="152280" cy="1526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249600" y="281916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" name=""/>
          <p:cNvGrpSpPr/>
          <p:nvPr/>
        </p:nvGrpSpPr>
        <p:grpSpPr>
          <a:xfrm>
            <a:off x="5943600" y="3505320"/>
            <a:ext cx="990360" cy="609480"/>
            <a:chOff x="5943600" y="3505320"/>
            <a:chExt cx="990360" cy="609480"/>
          </a:xfrm>
        </p:grpSpPr>
        <p:sp>
          <p:nvSpPr>
            <p:cNvPr id="58" name=""/>
            <p:cNvSpPr/>
            <p:nvPr/>
          </p:nvSpPr>
          <p:spPr>
            <a:xfrm>
              <a:off x="5943600" y="3505320"/>
              <a:ext cx="99036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5880" y="3657600"/>
              <a:ext cx="152280" cy="15192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249240" y="365760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5943600" y="4343400"/>
            <a:ext cx="990720" cy="609480"/>
            <a:chOff x="5943600" y="4343400"/>
            <a:chExt cx="990720" cy="609480"/>
          </a:xfrm>
        </p:grpSpPr>
        <p:sp>
          <p:nvSpPr>
            <p:cNvPr id="62" name=""/>
            <p:cNvSpPr/>
            <p:nvPr/>
          </p:nvSpPr>
          <p:spPr>
            <a:xfrm>
              <a:off x="5943600" y="4343400"/>
              <a:ext cx="990720" cy="609480"/>
            </a:xfrm>
            <a:prstGeom prst="flowChartAlternateProcess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095880" y="4495680"/>
              <a:ext cx="152640" cy="15228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6249600" y="4495680"/>
              <a:ext cx="654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ICC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5" name=""/>
          <p:cNvSpPr/>
          <p:nvPr/>
        </p:nvSpPr>
        <p:spPr>
          <a:xfrm>
            <a:off x="2362320" y="2895480"/>
            <a:ext cx="1523880" cy="1371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30440" y="3024360"/>
            <a:ext cx="1323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373392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668680" y="3429000"/>
            <a:ext cx="102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KCS#1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f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643720" y="1981080"/>
            <a:ext cx="1491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Different 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with PKCS#1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334640" y="2957400"/>
            <a:ext cx="1756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martcard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providing t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same service,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but possibl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in a different wa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99840" y="5334120"/>
            <a:ext cx="81694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knows to deal with a card application, no directory files are necess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63de8"/>
                </a:solidFill>
                <a:latin typeface="Times New Roman"/>
              </a:rPr>
              <a:t>- If a PC application does not know how to deal with a card application, it needs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Verifiable Certificate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1295280" y="1447920"/>
            <a:ext cx="7467840" cy="48006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1447920" y="1676520"/>
            <a:ext cx="6933960" cy="761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CPI      CAR        CHR      CHA      OID        PK       SIG.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 flipV="1">
            <a:off x="20574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29718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V="1">
            <a:off x="39625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 flipV="1">
            <a:off x="480060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>
            <a:off x="556272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324480" y="1676520"/>
            <a:ext cx="0" cy="7617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521360" y="2514600"/>
            <a:ext cx="70952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PI = Certificate Profile Ident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AR = Certification Authority Reference (Authority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R = Certificate Holder Reference (Subject Key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CHA = Certificate Holder Authorisation (Authority || Role Identifier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OID  = Object Identifier of PK Algorith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PK = Public Key of Certificate Hol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Times New Roman"/>
              </a:rPr>
              <a:t>- SIG.CA = Signature of Certificate Issuing 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1371600" y="1752480"/>
            <a:ext cx="7327800" cy="4178520"/>
          </a:xfrm>
          <a:prstGeom prst="rect">
            <a:avLst/>
          </a:prstGeom>
          <a:solidFill>
            <a:srgbClr val="eaec5e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496520" y="1828800"/>
            <a:ext cx="6720840" cy="392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Template tags for all security servi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(e.g. user authentication service, digital signature service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entity authentication service, key cipherment servic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Instruction set mapping ISM (regular comman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ommand to perform (if command is different form that in IS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Object Id of the algorith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Algorithm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reference (as used by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Key file id (some cards select the key file containing the key to be us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file id (if present then the file contains the certificate 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reference (used e.g. if the certificate is not stored in the car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Certificate qualifier (e.g. X.509 certificate,  ICC certifica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- DO PIN usage policy (present if the security service is PIN protecte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283120" y="914400"/>
            <a:ext cx="490500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</a:t>
            </a:r>
            <a:r>
              <a:rPr b="1" lang="de-DE" sz="16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Descript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ecurity Service Descriptors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supported algorithms, DSI schemas, hash func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user authentication metho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where to find certific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Indication of implementation varia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Times New Roman"/>
              </a:rPr>
              <a:t>Support of migr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065240" y="1890720"/>
            <a:ext cx="7232400" cy="39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For each security service provided by the card exists one or more SSD 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Inside an SSS template is one DO mandatory: the DO „command to perform“</a:t>
            </a:r>
            <a:br>
              <a:rPr sz="1600"/>
            </a:b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VERIFY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Use e.g. for CHANGE RD: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command class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reference is present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usage option is present, e.g. old PIN required/not required in the command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IN length is present possibly with padding</a:t>
            </a:r>
            <a:br>
              <a:rPr sz="1600"/>
            </a:b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  - presentation form is present: plain value or with SM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990720" y="1752480"/>
            <a:ext cx="7848360" cy="42674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SSD construction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033720" y="1946160"/>
            <a:ext cx="18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747080" y="2514600"/>
            <a:ext cx="64245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Use e.g. for digital signature function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MANAGE SECURITY ENVIRONMENT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 to perform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HASH command, if needed, is presente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The PERFORM SECURITY OPERATION comman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 is presented for the digital signature compu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- Different methods for Dig. Sig. Input construction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 can be denoted by the DO OID or the DO AlgID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E.g. PKCS#1 or ISO 9796-2 r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he FIDs of related certificate files are giv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"/>
          <p:cNvSpPr/>
          <p:nvPr/>
        </p:nvSpPr>
        <p:spPr>
          <a:xfrm>
            <a:off x="990720" y="1981080"/>
            <a:ext cx="8001000" cy="41148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990360" y="2133360"/>
            <a:ext cx="784836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he usage of PKCS#15 require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DF(PKCS15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ODF) for getting the pointer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O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AODF) for getting the PIN informatio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AODF)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 (PrKDF) for getting the signature key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rK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CDF) for getting the certificat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CDF)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selection of EF(PuKDF) for getting the root CA PuK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ing EF(PuKDF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762120" y="1828800"/>
            <a:ext cx="830556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Working with PKCS#15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To do this all is not very efficient. Therefor: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ad the information once from the card and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tore it under a card reference, e.g. the ICC Serial Number ICCSN</a:t>
            </a:r>
            <a:br>
              <a:rPr sz="2000"/>
            </a:b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keep the information outside the card and store in the card th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card profile identifier pointing to the outside information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Open problem: there is no indication whether the PKCS15 files are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reocrd-oriented or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transpare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990360" y="685800"/>
            <a:ext cx="7962840" cy="660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File Structure of DF.SIG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2362320" y="1295280"/>
            <a:ext cx="4800600" cy="51055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68" name=""/>
          <p:cNvGraphicFramePr/>
          <p:nvPr/>
        </p:nvGraphicFramePr>
        <p:xfrm>
          <a:off x="3352680" y="1447920"/>
          <a:ext cx="3270240" cy="482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3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352680" y="1447920"/>
                    <a:ext cx="3270240" cy="482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838080" y="1905120"/>
            <a:ext cx="8077320" cy="40384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Is PKCS#15 powerful enough?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046520" y="1981080"/>
            <a:ext cx="7727400" cy="40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Some challenges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have a hash function or no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different signature algorithm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cards may support a different set of Digital Signature Input forma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be configurated in such a way that it allow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either after PIN presentation an unlimited number of DS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- or requires PIN presentation before each 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ETSI PIN management commands instead of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 ISO-commands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- a card may support a proprietary command for a certain </a:t>
            </a:r>
            <a:br>
              <a:rPr sz="2000"/>
            </a:br>
            <a:r>
              <a:rPr b="1" lang="de-DE" sz="2000" spc="-1" strike="noStrike">
                <a:solidFill>
                  <a:srgbClr val="000000"/>
                </a:solidFill>
                <a:latin typeface="Times New Roman"/>
              </a:rPr>
              <a:t>  security servic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2286000" y="1981080"/>
            <a:ext cx="5181480" cy="37339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1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971800" y="2666880"/>
            <a:ext cx="3886200" cy="2514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3276720" y="3048120"/>
            <a:ext cx="3431520" cy="1396800"/>
            <a:chOff x="3276720" y="3048120"/>
            <a:chExt cx="3431520" cy="1396800"/>
          </a:xfrm>
        </p:grpSpPr>
        <p:sp>
          <p:nvSpPr>
            <p:cNvPr id="79" name=""/>
            <p:cNvSpPr/>
            <p:nvPr/>
          </p:nvSpPr>
          <p:spPr>
            <a:xfrm>
              <a:off x="5676840" y="3771720"/>
              <a:ext cx="103140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11520" y="3178080"/>
              <a:ext cx="761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H="1">
              <a:off x="3979800" y="3469680"/>
              <a:ext cx="609120" cy="409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902120" y="354636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68600" y="3386880"/>
              <a:ext cx="419040" cy="530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03520" y="3326760"/>
              <a:ext cx="84744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485960" y="3048120"/>
              <a:ext cx="81252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505040" y="3914640"/>
              <a:ext cx="81252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3276720" y="38862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24200" y="3876480"/>
              <a:ext cx="1031760" cy="5590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49680" y="403524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311280" y="4019400"/>
              <a:ext cx="9666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664240" y="3940200"/>
              <a:ext cx="76140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2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95280" y="1523880"/>
            <a:ext cx="7391520" cy="464832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981080" y="1828800"/>
            <a:ext cx="5867640" cy="403848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2133720" y="2286000"/>
            <a:ext cx="5511600" cy="1517760"/>
            <a:chOff x="2133720" y="2286000"/>
            <a:chExt cx="5511600" cy="1517760"/>
          </a:xfrm>
        </p:grpSpPr>
        <p:sp>
          <p:nvSpPr>
            <p:cNvPr id="96" name=""/>
            <p:cNvSpPr/>
            <p:nvPr/>
          </p:nvSpPr>
          <p:spPr>
            <a:xfrm>
              <a:off x="4343400" y="228600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436248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47668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600600" y="32450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21337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247920" y="324504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4863960" y="287028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3951360" y="276552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258520" y="2768040"/>
              <a:ext cx="523800" cy="492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5363280" y="2635560"/>
              <a:ext cx="150516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 flipH="1">
              <a:off x="2979720" y="267048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4360680" y="2444760"/>
              <a:ext cx="1082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226368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340080" y="341640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02160" y="339732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540400" y="3407040"/>
              <a:ext cx="904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6578640" y="341640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3" name=""/>
          <p:cNvSpPr/>
          <p:nvPr/>
        </p:nvSpPr>
        <p:spPr>
          <a:xfrm>
            <a:off x="2450520" y="4038480"/>
            <a:ext cx="39985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EF(ODF) - Object Directoty File - points 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rKDFs) - Private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PuKDFs) - Public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SKDFs) - Secret Key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CDFs) - Certificate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1600" spc="-1" strike="noStrike">
                <a:solidFill>
                  <a:srgbClr val="000000"/>
                </a:solidFill>
                <a:latin typeface="Times New Roman"/>
              </a:rPr>
              <a:t>- EF (DODFs) - Data Object Directory Fi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219320" y="1676520"/>
            <a:ext cx="7467480" cy="441936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ross-References 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133720" y="1828800"/>
            <a:ext cx="586728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590920" y="2057400"/>
            <a:ext cx="4754160" cy="3611160"/>
            <a:chOff x="2590920" y="2057400"/>
            <a:chExt cx="4754160" cy="3611160"/>
          </a:xfrm>
        </p:grpSpPr>
        <p:sp>
          <p:nvSpPr>
            <p:cNvPr id="118" name=""/>
            <p:cNvSpPr/>
            <p:nvPr/>
          </p:nvSpPr>
          <p:spPr>
            <a:xfrm>
              <a:off x="6065280" y="274284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6065280" y="4561560"/>
              <a:ext cx="109692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5425200" y="3533400"/>
              <a:ext cx="1279800" cy="71172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45040" y="3454560"/>
              <a:ext cx="1279800" cy="368640"/>
            </a:xfrm>
            <a:custGeom>
              <a:avLst/>
              <a:gdLst/>
              <a:ahLst/>
              <a:rect l="l" t="t" r="r" b="b"/>
              <a:pathLst>
                <a:path w="2016" h="672">
                  <a:moveTo>
                    <a:pt x="0" y="0"/>
                  </a:moveTo>
                  <a:cubicBezTo>
                    <a:pt x="480" y="240"/>
                    <a:pt x="960" y="480"/>
                    <a:pt x="1296" y="576"/>
                  </a:cubicBezTo>
                  <a:cubicBezTo>
                    <a:pt x="1632" y="672"/>
                    <a:pt x="1896" y="576"/>
                    <a:pt x="2016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4145040" y="3771000"/>
              <a:ext cx="1919880" cy="1186200"/>
            </a:xfrm>
            <a:custGeom>
              <a:avLst/>
              <a:gdLst/>
              <a:ahLst/>
              <a:rect l="l" t="t" r="r" b="b"/>
              <a:pathLst>
                <a:path w="3024" h="2160">
                  <a:moveTo>
                    <a:pt x="0" y="0"/>
                  </a:moveTo>
                  <a:cubicBezTo>
                    <a:pt x="636" y="60"/>
                    <a:pt x="1272" y="120"/>
                    <a:pt x="1584" y="432"/>
                  </a:cubicBezTo>
                  <a:cubicBezTo>
                    <a:pt x="1896" y="744"/>
                    <a:pt x="1632" y="1584"/>
                    <a:pt x="1872" y="1872"/>
                  </a:cubicBezTo>
                  <a:cubicBezTo>
                    <a:pt x="2112" y="2160"/>
                    <a:pt x="2568" y="2160"/>
                    <a:pt x="3024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45040" y="4073760"/>
              <a:ext cx="1005480" cy="1410120"/>
            </a:xfrm>
            <a:custGeom>
              <a:avLst/>
              <a:gdLst/>
              <a:ahLst/>
              <a:rect l="l" t="t" r="r" b="b"/>
              <a:pathLst>
                <a:path w="1584" h="2568">
                  <a:moveTo>
                    <a:pt x="0" y="24"/>
                  </a:moveTo>
                  <a:cubicBezTo>
                    <a:pt x="408" y="12"/>
                    <a:pt x="816" y="0"/>
                    <a:pt x="864" y="312"/>
                  </a:cubicBezTo>
                  <a:cubicBezTo>
                    <a:pt x="912" y="624"/>
                    <a:pt x="264" y="1536"/>
                    <a:pt x="288" y="1896"/>
                  </a:cubicBezTo>
                  <a:cubicBezTo>
                    <a:pt x="312" y="2256"/>
                    <a:pt x="792" y="2376"/>
                    <a:pt x="1008" y="2472"/>
                  </a:cubicBezTo>
                  <a:cubicBezTo>
                    <a:pt x="1224" y="2568"/>
                    <a:pt x="1404" y="2520"/>
                    <a:pt x="1584" y="24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150880" y="5036400"/>
              <a:ext cx="109692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D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071120" y="3365280"/>
              <a:ext cx="273960" cy="1371240"/>
            </a:xfrm>
            <a:custGeom>
              <a:avLst/>
              <a:gdLst/>
              <a:ahLst/>
              <a:rect l="l" t="t" r="r" b="b"/>
              <a:pathLst>
                <a:path w="432" h="2160">
                  <a:moveTo>
                    <a:pt x="0" y="0"/>
                  </a:moveTo>
                  <a:cubicBezTo>
                    <a:pt x="216" y="468"/>
                    <a:pt x="432" y="936"/>
                    <a:pt x="432" y="1296"/>
                  </a:cubicBezTo>
                  <a:cubicBezTo>
                    <a:pt x="432" y="1656"/>
                    <a:pt x="216" y="1908"/>
                    <a:pt x="0" y="216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613920" y="3382920"/>
              <a:ext cx="289440" cy="548280"/>
            </a:xfrm>
            <a:custGeom>
              <a:avLst/>
              <a:gdLst/>
              <a:ahLst/>
              <a:rect l="l" t="t" r="r" b="b"/>
              <a:pathLst>
                <a:path w="456" h="864">
                  <a:moveTo>
                    <a:pt x="0" y="0"/>
                  </a:moveTo>
                  <a:cubicBezTo>
                    <a:pt x="204" y="288"/>
                    <a:pt x="408" y="576"/>
                    <a:pt x="432" y="720"/>
                  </a:cubicBezTo>
                  <a:cubicBezTo>
                    <a:pt x="456" y="864"/>
                    <a:pt x="192" y="840"/>
                    <a:pt x="144" y="86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64880" y="4268880"/>
              <a:ext cx="91404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590920" y="2642400"/>
              <a:ext cx="1554120" cy="16545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u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PrK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C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spcAft>
                  <a:spcPts val="1199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A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DODF pointer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590920" y="328248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590920" y="355680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590920" y="38401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2590920" y="2916720"/>
              <a:ext cx="1554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4968000" y="2102760"/>
              <a:ext cx="1279800" cy="6321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Times New Roman"/>
                </a:rPr>
                <a:t>EF(Pu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145040" y="2651400"/>
              <a:ext cx="1096920" cy="198000"/>
            </a:xfrm>
            <a:custGeom>
              <a:avLst/>
              <a:gdLst/>
              <a:ahLst/>
              <a:rect l="l" t="t" r="r" b="b"/>
              <a:pathLst>
                <a:path w="1728" h="312">
                  <a:moveTo>
                    <a:pt x="0" y="144"/>
                  </a:moveTo>
                  <a:cubicBezTo>
                    <a:pt x="504" y="228"/>
                    <a:pt x="1008" y="312"/>
                    <a:pt x="1296" y="288"/>
                  </a:cubicBezTo>
                  <a:cubicBezTo>
                    <a:pt x="1584" y="264"/>
                    <a:pt x="1656" y="132"/>
                    <a:pt x="1728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65280" y="2057400"/>
              <a:ext cx="1005480" cy="685440"/>
            </a:xfrm>
            <a:custGeom>
              <a:avLst/>
              <a:gdLst/>
              <a:ahLst/>
              <a:rect l="l" t="t" r="r" b="b"/>
              <a:pathLst>
                <a:path w="1536" h="1080">
                  <a:moveTo>
                    <a:pt x="0" y="216"/>
                  </a:moveTo>
                  <a:cubicBezTo>
                    <a:pt x="312" y="108"/>
                    <a:pt x="624" y="0"/>
                    <a:pt x="864" y="72"/>
                  </a:cubicBezTo>
                  <a:cubicBezTo>
                    <a:pt x="1104" y="144"/>
                    <a:pt x="1344" y="480"/>
                    <a:pt x="1440" y="648"/>
                  </a:cubicBezTo>
                  <a:cubicBezTo>
                    <a:pt x="1536" y="816"/>
                    <a:pt x="1488" y="948"/>
                    <a:pt x="1440" y="108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flipV="1">
              <a:off x="4145040" y="3029400"/>
              <a:ext cx="1919880" cy="79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333760" y="2742840"/>
              <a:ext cx="273960" cy="914040"/>
            </a:xfrm>
            <a:custGeom>
              <a:avLst/>
              <a:gdLst/>
              <a:ahLst/>
              <a:rect l="l" t="t" r="r" b="b"/>
              <a:pathLst>
                <a:path w="432" h="1440">
                  <a:moveTo>
                    <a:pt x="432" y="0"/>
                  </a:moveTo>
                  <a:cubicBezTo>
                    <a:pt x="216" y="168"/>
                    <a:pt x="0" y="336"/>
                    <a:pt x="0" y="576"/>
                  </a:cubicBezTo>
                  <a:cubicBezTo>
                    <a:pt x="0" y="816"/>
                    <a:pt x="216" y="1128"/>
                    <a:pt x="432" y="14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1523880" y="1981080"/>
            <a:ext cx="6705720" cy="388620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90360" y="990360"/>
            <a:ext cx="796284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3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752480" y="2209680"/>
            <a:ext cx="6172200" cy="342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1981080" y="2286000"/>
            <a:ext cx="5661000" cy="3098880"/>
            <a:chOff x="1981080" y="2286000"/>
            <a:chExt cx="5661000" cy="3098880"/>
          </a:xfrm>
        </p:grpSpPr>
        <p:sp>
          <p:nvSpPr>
            <p:cNvPr id="142" name=""/>
            <p:cNvSpPr/>
            <p:nvPr/>
          </p:nvSpPr>
          <p:spPr>
            <a:xfrm>
              <a:off x="6610320" y="300996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445000" y="24159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>
              <a:off x="4824360" y="2708280"/>
              <a:ext cx="69840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35600" y="2784240"/>
              <a:ext cx="0" cy="3621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6201360" y="2625480"/>
              <a:ext cx="438120" cy="555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6236280" y="2564640"/>
              <a:ext cx="847800" cy="438120"/>
            </a:xfrm>
            <a:prstGeom prst="line">
              <a:avLst/>
            </a:prstGeom>
            <a:ln w="12600">
              <a:solidFill>
                <a:srgbClr val="000000"/>
              </a:solidFill>
              <a:prstDash val="dash"/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419440" y="2286000"/>
              <a:ext cx="81288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438520" y="3152520"/>
              <a:ext cx="812880" cy="50184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457680" y="3114720"/>
              <a:ext cx="103212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483160" y="3273480"/>
              <a:ext cx="76176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597360" y="3178080"/>
              <a:ext cx="76212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Other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900" spc="-1" strike="noStrike">
                  <a:solidFill>
                    <a:srgbClr val="000000"/>
                  </a:solidFill>
                  <a:latin typeface="Arial"/>
                </a:rPr>
                <a:t>DFs/EFs...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190760" y="314964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20984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32440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644832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981080" y="410832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095280" y="4108320"/>
              <a:ext cx="103212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711680" y="3720240"/>
              <a:ext cx="0" cy="37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 flipH="1">
              <a:off x="3798720" y="3628800"/>
              <a:ext cx="581040" cy="49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87880" y="3612960"/>
              <a:ext cx="542880" cy="511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211720" y="3498840"/>
              <a:ext cx="150480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 flipH="1">
              <a:off x="2827080" y="3533760"/>
              <a:ext cx="140976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24240" y="3308400"/>
              <a:ext cx="1044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211104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187440" y="4279680"/>
              <a:ext cx="8668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349520" y="426060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387760" y="4270320"/>
              <a:ext cx="905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426000" y="4279680"/>
              <a:ext cx="1066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174840" y="4984560"/>
              <a:ext cx="3092400" cy="4003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00320" y="5060880"/>
              <a:ext cx="14511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flipH="1">
              <a:off x="3352320" y="466704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720240" y="466704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>
              <a:off x="4457160" y="4673520"/>
              <a:ext cx="1587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825080" y="4673520"/>
              <a:ext cx="165240" cy="317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5568840" y="4653720"/>
              <a:ext cx="164880" cy="336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943600" y="4654440"/>
              <a:ext cx="171360" cy="324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219320" y="1600200"/>
            <a:ext cx="7467480" cy="449568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4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23880" y="2057400"/>
            <a:ext cx="6782040" cy="3733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1" name=""/>
          <p:cNvGrpSpPr/>
          <p:nvPr/>
        </p:nvGrpSpPr>
        <p:grpSpPr>
          <a:xfrm>
            <a:off x="1676520" y="2362320"/>
            <a:ext cx="6425640" cy="3326760"/>
            <a:chOff x="1676520" y="2362320"/>
            <a:chExt cx="6425640" cy="3326760"/>
          </a:xfrm>
        </p:grpSpPr>
        <p:sp>
          <p:nvSpPr>
            <p:cNvPr id="182" name=""/>
            <p:cNvSpPr/>
            <p:nvPr/>
          </p:nvSpPr>
          <p:spPr>
            <a:xfrm>
              <a:off x="5059800" y="249228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 flipH="1">
              <a:off x="4453560" y="2784240"/>
              <a:ext cx="681840" cy="466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441400" y="2860560"/>
              <a:ext cx="0" cy="361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799240" y="2701800"/>
              <a:ext cx="452880" cy="5234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5034960" y="2362320"/>
              <a:ext cx="793800" cy="5014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028840" y="3228840"/>
              <a:ext cx="793440" cy="5011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869440" y="3203280"/>
              <a:ext cx="100764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072040" y="3349440"/>
              <a:ext cx="74412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6005880" y="3362040"/>
              <a:ext cx="743760" cy="43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561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34720" y="322560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76020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811760" y="41781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59720" y="419076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1676520" y="418464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715120" y="4184640"/>
              <a:ext cx="100800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343760" y="3796560"/>
              <a:ext cx="0" cy="374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 flipH="1">
              <a:off x="3451680" y="3704400"/>
              <a:ext cx="567360" cy="495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710240" y="3688560"/>
              <a:ext cx="530280" cy="510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4831200" y="3574800"/>
              <a:ext cx="1469880" cy="644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 flipH="1">
              <a:off x="2502360" y="3609720"/>
              <a:ext cx="137700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3844080" y="3384360"/>
              <a:ext cx="1016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1803240" y="4336920"/>
              <a:ext cx="744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805120" y="4356000"/>
              <a:ext cx="846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897000" y="4336920"/>
              <a:ext cx="743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874040" y="4340160"/>
              <a:ext cx="883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5838480" y="4362120"/>
              <a:ext cx="10418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7088040" y="3193920"/>
              <a:ext cx="1007640" cy="558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059960" y="3340080"/>
              <a:ext cx="1042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5836680" y="2568240"/>
              <a:ext cx="1637280" cy="637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731640" y="484488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725160" y="489564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171920" y="5327640"/>
              <a:ext cx="924120" cy="3614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171920" y="5384520"/>
              <a:ext cx="9147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1000" spc="-1" strike="noStrike">
                  <a:solidFill>
                    <a:srgbClr val="000000"/>
                  </a:solidFill>
                  <a:latin typeface="Arial"/>
                </a:rPr>
                <a:t>Real object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44960" y="5657760"/>
              <a:ext cx="38887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174560" y="5505120"/>
              <a:ext cx="285912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228640" y="5359320"/>
              <a:ext cx="1786320" cy="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40280" y="4749480"/>
              <a:ext cx="0" cy="920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88960" y="4743360"/>
              <a:ext cx="6120" cy="437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182120" y="4736880"/>
              <a:ext cx="0" cy="767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4318200" y="4736880"/>
              <a:ext cx="6120" cy="27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5223600" y="4736880"/>
              <a:ext cx="6120" cy="622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5373360" y="4730400"/>
              <a:ext cx="5760" cy="1206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293640" y="5180760"/>
              <a:ext cx="329976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4317120" y="5016240"/>
              <a:ext cx="2263680" cy="9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5371560" y="4850640"/>
              <a:ext cx="1203120" cy="90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52520" y="3745440"/>
              <a:ext cx="275760" cy="15649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6653160" y="3727440"/>
              <a:ext cx="499320" cy="112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1219320" y="1752480"/>
            <a:ext cx="7543800" cy="4496040"/>
          </a:xfrm>
          <a:prstGeom prst="rect">
            <a:avLst/>
          </a:prstGeom>
          <a:solidFill>
            <a:srgbClr val="ff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950760" y="786960"/>
            <a:ext cx="7963200" cy="965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de-DE" sz="3200" spc="-1" strike="noStrike">
                <a:solidFill>
                  <a:srgbClr val="fc0128"/>
                </a:solidFill>
                <a:latin typeface="Times New Roman"/>
              </a:rPr>
              <a:t>Card File Structure (5)</a:t>
            </a:r>
            <a:endParaRPr b="1" lang="en-US" sz="3200" spc="-1" strike="noStrike">
              <a:solidFill>
                <a:srgbClr val="fc0128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905120" y="2057400"/>
            <a:ext cx="6476760" cy="3962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2" name=""/>
          <p:cNvGrpSpPr/>
          <p:nvPr/>
        </p:nvGrpSpPr>
        <p:grpSpPr>
          <a:xfrm>
            <a:off x="2133720" y="2286000"/>
            <a:ext cx="6168960" cy="3463560"/>
            <a:chOff x="2133720" y="2286000"/>
            <a:chExt cx="6168960" cy="3463560"/>
          </a:xfrm>
        </p:grpSpPr>
        <p:sp>
          <p:nvSpPr>
            <p:cNvPr id="233" name=""/>
            <p:cNvSpPr/>
            <p:nvPr/>
          </p:nvSpPr>
          <p:spPr>
            <a:xfrm>
              <a:off x="4165560" y="228600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305240" y="2444760"/>
              <a:ext cx="7621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624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F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16556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3052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DIR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060720" y="3162240"/>
              <a:ext cx="1031760" cy="5590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086280" y="3338640"/>
              <a:ext cx="90000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(PKCS#15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578640" y="3152880"/>
              <a:ext cx="1031760" cy="558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71832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295960" y="3152880"/>
              <a:ext cx="1031760" cy="5587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5435640" y="331164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F1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136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133720" y="4444920"/>
              <a:ext cx="7617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90844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854440" y="4449960"/>
              <a:ext cx="84456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TokenInfo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36799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3606840" y="442620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441680" y="4324320"/>
              <a:ext cx="69876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4323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521352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5165640" y="441972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598500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75648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7527960" y="4324320"/>
              <a:ext cx="698400" cy="43200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73520" y="2841840"/>
              <a:ext cx="0" cy="342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3645000" y="2745720"/>
              <a:ext cx="637920" cy="428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063400" y="2745720"/>
              <a:ext cx="701640" cy="422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5207040" y="2555280"/>
              <a:ext cx="1876320" cy="600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3292200" y="3717360"/>
              <a:ext cx="276120" cy="60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502000" y="3613320"/>
              <a:ext cx="666720" cy="743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4054320" y="3622680"/>
              <a:ext cx="1362240" cy="6955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797360" y="3708360"/>
              <a:ext cx="876240" cy="6192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578560" y="3699000"/>
              <a:ext cx="333360" cy="6285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349680" y="3641760"/>
              <a:ext cx="4287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7112160" y="3708360"/>
              <a:ext cx="0" cy="6098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7473240" y="3632400"/>
              <a:ext cx="399960" cy="704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635200" y="4734000"/>
              <a:ext cx="0" cy="7840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2739960" y="5194440"/>
              <a:ext cx="1295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H="1">
              <a:off x="2419200" y="4756320"/>
              <a:ext cx="648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>
              <a:off x="2527200" y="5299200"/>
              <a:ext cx="2270160" cy="6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206800" y="4670640"/>
              <a:ext cx="6120" cy="1076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>
              <a:off x="2305080" y="4737240"/>
              <a:ext cx="6480" cy="669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527200" y="4753080"/>
              <a:ext cx="0" cy="542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743200" y="4702320"/>
              <a:ext cx="0" cy="504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2317680" y="5407200"/>
              <a:ext cx="3260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2635200" y="5515200"/>
              <a:ext cx="371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2419200" y="5635800"/>
              <a:ext cx="4689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flipV="1">
              <a:off x="2209680" y="5743440"/>
              <a:ext cx="5686560" cy="61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H="1" flipV="1">
              <a:off x="4012920" y="4743360"/>
              <a:ext cx="12960" cy="4539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flipH="1" flipV="1">
              <a:off x="4789800" y="4740480"/>
              <a:ext cx="7200" cy="557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flipH="1" flipV="1">
              <a:off x="5564520" y="4732200"/>
              <a:ext cx="7560" cy="671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flipH="1" flipV="1">
              <a:off x="6344280" y="4751640"/>
              <a:ext cx="6480" cy="7603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H="1" flipV="1">
              <a:off x="7098120" y="4751280"/>
              <a:ext cx="7200" cy="8794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H="1" flipV="1">
              <a:off x="7885440" y="4744800"/>
              <a:ext cx="10440" cy="10047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lg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899320" y="4432320"/>
              <a:ext cx="9079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de-DE" sz="800" spc="-1" strike="noStrike">
                  <a:solidFill>
                    <a:srgbClr val="000000"/>
                  </a:solidFill>
                  <a:latin typeface="Arial"/>
                </a:rPr>
                <a:t>EF(PrK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730920" y="4426200"/>
              <a:ext cx="76212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C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477200" y="4426200"/>
              <a:ext cx="825480" cy="21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F(AODF)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11-10T13:33:42Z</dcterms:created>
  <dc:creator>Misniker</dc:creator>
  <dc:description/>
  <dc:language>en-US</dc:language>
  <cp:lastModifiedBy>Magnus Nystrom</cp:lastModifiedBy>
  <cp:lastPrinted>1997-11-11T22:03:13Z</cp:lastPrinted>
  <dcterms:modified xsi:type="dcterms:W3CDTF">1999-09-30T14:57:46Z</dcterms:modified>
  <cp:revision>28</cp:revision>
  <dc:subject/>
  <dc:title>I S D N</dc:title>
</cp:coreProperties>
</file>