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8542-32DD-4CBD-9B61-424CD939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2B0-940B-45FD-96A8-D1F4251F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F925-C1A5-467E-AE88-BBF0CDD1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15F6-0306-4FAA-A55F-F8F227DC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5E69-91CA-4334-88B3-1D84C171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ADD2-2AC1-4134-B6A9-B30A85D0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5531-857C-4459-AD26-1F772AFA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F59A-2143-47BE-8CCD-6107015C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B32E-2533-4B39-A740-628446B9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3C1E-F09B-4981-96BF-0383C7E2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F7A9-639F-40E7-A234-9F59B4D9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F11D-4FDD-42CE-98E4-2568BAF3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7657-9C90-4330-A6DD-BFFF9A0A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AF5C-A84E-4E64-AD7D-A310B5A4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6129-DA2F-44E7-B2BB-866568E5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6D38-E0BD-40B3-9236-1D7AF5B3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1717-D0FD-4ECC-84BD-58BAE275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7A8-840D-444C-8A99-56DDC7DF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54B-813E-486E-A923-D7F7DB51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388-5D95-4939-AED1-944E6FF5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DC74-FCCE-484D-B317-13BF3C2F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DBD-BAF6-4BFC-884D-BCA8C857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4221-0F35-48B8-B1F5-48E8F5D9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61D6-CA99-4F14-A56B-B07A3FC1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2AF4-1B6A-40F6-BD86-85C67822798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E6D8-F35B-41E7-9C99-2BA2E950429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e Representations of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Key Cryptography Standar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PKCS) Using S-Expression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-PKC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4653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Matthew Wood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Carl Ellis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Intel Corporati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1999 PKCS Workshop, Stockholm, Swede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y Define Data Encoding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oss-platform data exchan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sistent stora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eroperability of independently implemented mod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rawbacks of ASN.1 and BER/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ER often includes several different, but equally valid encodings of the same dat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data structures is assumed based on the context where it is found..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thin other data structu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osition within a higher level structu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rsing engine is large and complic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enefits of S-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ngle encoding for any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all data structures is explic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mall, simple parsing engin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ncoded structures are often shorter than their DER encoded ver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digest-info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sha1 #F47D…#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rsa-public-key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public-key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rsa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n #…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e #010001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5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pbes2-params&gt;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es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kcs5-pbkdf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kdf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pecified #...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03E8#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mac-sha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s-c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v #0123456789ABCDEF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11:45:48Z</dcterms:created>
  <dc:creator>Matthew Wood</dc:creator>
  <dc:description/>
  <dc:language>en-US</dc:language>
  <cp:lastModifiedBy>Matthew Wood</cp:lastModifiedBy>
  <dcterms:modified xsi:type="dcterms:W3CDTF">1999-09-26T12:13:52Z</dcterms:modified>
  <cp:revision>7</cp:revision>
  <dc:subject/>
  <dc:title>Alternate Representations of the Public Key Cryptography Standards (PKCS) Using S-Expressions,  S-PKCS</dc:title>
</cp:coreProperties>
</file>