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" name="header-slide-wholepage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RSASecurity_logo-slides" descr=""/>
            <p:cNvPicPr/>
            <p:nvPr/>
          </p:nvPicPr>
          <p:blipFill>
            <a:blip r:embed="rId3"/>
            <a:stretch/>
          </p:blipFill>
          <p:spPr>
            <a:xfrm>
              <a:off x="228600" y="6006960"/>
              <a:ext cx="858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40"/>
            <a:ext cx="9144000" cy="6855120"/>
            <a:chOff x="0" y="1440"/>
            <a:chExt cx="9144000" cy="6855120"/>
          </a:xfrm>
        </p:grpSpPr>
        <p:pic>
          <p:nvPicPr>
            <p:cNvPr id="42" name="header-title-wholepage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403200" y="5872320"/>
              <a:ext cx="1047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KCS Contribution Agreemen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t Kaliski, RSA Labora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Workshop, 28 September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Inp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Laboratories may solicit additional input from other parties on potential patent and trademark coverage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regular part of review of draf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ut “… does not warrant the correctness of completeness of such information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-Making Autho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Laboratories may reject a Contribution not meeting these requirements …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…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all have sole decision-making authority on whether to include a Contribution … in PKCS documents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ut “will rely on review and advice of … security researchers and developers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ributions to 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tthew Wood (Intel): PKCS #11 v2.1 drafts (“proposed amendments”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thers welcome!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ew agreement covering contributions to PKCS proce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milestone in this “informal,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rvendor” standards proce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otivated by Matt Wood’s PKCS #11 v2.1 contribu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anks to Intel, RSA Security’s attorney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(Available from the PKCS Web page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’s a Contribu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rmal submission of document for consideration in the PKCS proce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oposed amendment” or “proposed specification” (i.e., “standard”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.B.: there is no formal PKCS process yet :-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iling list discussions, comments on documents, etc. exclud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line of Agre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tribution outlin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llectual property requiremen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cision-making autho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ribution Outl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67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25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assificat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100" spc="-1" strike="noStrike">
                <a:solidFill>
                  <a:srgbClr val="4d5981"/>
                </a:solidFill>
                <a:latin typeface="Arial"/>
              </a:rPr>
              <a:t>amendment or specification</a:t>
            </a:r>
            <a:endParaRPr b="1" lang="en-US" sz="21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ontributor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ate/Vers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19760" y="1523520"/>
            <a:ext cx="3767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25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bstrac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escript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iscussio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IP Issues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 Requir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oals: openness, acce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pect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sent and copyrigh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tent and trademark identif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licensing polic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dditional inpu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(RSA Laboratories will adhere to these as well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ent and Copyr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tributor agrees to the guidelines for PKCS contributions …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…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rants RSA Laboratories license to make derivative works … [and] to include … in PKCS documents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tent and Trademark Identifi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…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clude text identifying any patents, patent application, trademarks or trademark applications owned by or exclusively licensed to Contributor that may apply to the Contribution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e recent PKCS documents for exampl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representations required about third-party IP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censing Poli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(Derived from IEEE standards policy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ree option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…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ill not enforce …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…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ithout compensation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easonable” and non-discriminator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dcterms:modified xsi:type="dcterms:W3CDTF">1999-09-28T12:29:36Z</dcterms:modified>
  <cp:revision>99</cp:revision>
  <dc:subject/>
  <dc:title>PKCS Contribution Agreement</dc:title>
</cp:coreProperties>
</file>