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3935880"/>
            <a:ext cx="86868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93588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393588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3935880"/>
            <a:ext cx="27968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3935880"/>
            <a:ext cx="27968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3935880"/>
            <a:ext cx="27968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393588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393588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935880"/>
            <a:ext cx="86868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spcAft>
                <a:spcPts val="700"/>
              </a:spcAft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spcAft>
                <a:spcPts val="700"/>
              </a:spcAft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spcAft>
                <a:spcPts val="700"/>
              </a:spcAft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spcAft>
                <a:spcPts val="700"/>
              </a:spcAft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spcAft>
                <a:spcPts val="700"/>
              </a:spcAft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spcAft>
                <a:spcPts val="700"/>
              </a:spcAft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afd00"/>
                </a:solidFill>
                <a:latin typeface="Times New Roman"/>
              </a:rPr>
              <a:t>A PKCS #11 Test Suit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3048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afd00"/>
                </a:solidFill>
                <a:latin typeface="Times New Roman"/>
              </a:rPr>
              <a:t>Peter Gutman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afd00"/>
                </a:solidFill>
                <a:latin typeface="Courier New"/>
              </a:rPr>
              <a:t>http://www.cs.auckland.ac.nz/~pgut001/cryptlib/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Key and Certificate Container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Contain one or more token objects (keys, certificates, CRL’s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Session objects when written to persistent storage become token obje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PKCS #11 devices can act as </a:t>
            </a:r>
            <a:br>
              <a:rPr sz="2400"/>
            </a:b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container obje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Appear as an (often large) </a:t>
            </a:r>
            <a:br>
              <a:rPr sz="2800"/>
            </a:b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collection of encryption </a:t>
            </a:r>
            <a:br>
              <a:rPr sz="2800"/>
            </a:b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contexts or certificate </a:t>
            </a:r>
            <a:br>
              <a:rPr sz="2800"/>
            </a:b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objec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39942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Object Securit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Each objects has an ACL managed by the security kern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Object attributes have their own ACL’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Example attribute: Triple DES ke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attribute label = CRYPT_CTXINFO_KE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type = octet str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permissions = write-o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size = 192 bits min…192 bits max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Kernel checks all data passing in and out of the architectur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Works like PKCS #11 attributes but with strong security check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Interobject Communication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Objects communicate via message-passin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Example: Load a ke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msg.source:</a:t>
            </a: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Subject (thread/process/user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msg.target:</a:t>
            </a: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Encryption context o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msg.type:</a:t>
            </a: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Write attribut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msg.data:</a:t>
            </a: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Attribute, type = Key, value = …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Kernel checks the target object’s AC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Kernel checks the attribute’s AC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Kernel forwards message to target 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Messages are sent via </a:t>
            </a:r>
            <a:r>
              <a:rPr b="0" lang="en-GB" sz="2800" spc="-1" strike="noStrike">
                <a:solidFill>
                  <a:srgbClr val="fafd00"/>
                </a:solidFill>
                <a:latin typeface="Courier New"/>
              </a:rPr>
              <a:t>krnlSendMessa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All cryptlib functionality is implemented this wa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Never trace into the send message calls (you’ll end up stepping through the security kernel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Implementation detail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Architecture design allows various levels of functionality to be encapsulated in separate modules and/or hardwar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Crypto accelerator </a:t>
            </a:r>
            <a:r>
              <a:rPr b="0" lang="en-GB" sz="24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 encryption contex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Crypto device (eg PKCS #11) </a:t>
            </a:r>
            <a:r>
              <a:rPr b="0" lang="en-GB" sz="24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 basic sign/encrypt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Secure coprocessor (eg IBM 4758) </a:t>
            </a:r>
            <a:r>
              <a:rPr b="0" lang="en-GB" sz="24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 certificate/envelope/ session 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3276720"/>
            <a:ext cx="63626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Initialisation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Open device by name (“device::token”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Access slot by name (GetTokenInfo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OpenSession (first CKF_RW_SESSION, then R/O if that fail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for each cryptlib capabilit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Use GetMechanismInfo to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Set up key min, max size for non-default valu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Set up function pointers for encrypt, decrypt, sign, verify, keyge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Initialisation (ctd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Once complete, cryptlib has mappings for all native capabilities to PKCS #11 capabiliti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124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Software D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952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Hardware RS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496548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Basic Operation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Encryption contexts are created via the toke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Courier New"/>
              </a:rPr>
              <a:t>cryptCreateContext( &amp;cryptContext, CRYPT_ALGO_DES, CRYPT_MODE_CBC );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Courier New"/>
              </a:rPr>
              <a:t>cryptEncrypt( cryptContext, “12345678”, 8 );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Courier New"/>
              </a:rPr>
              <a:t>cryptDestroyContext( cryptContext );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Courier New"/>
              </a:rPr>
              <a:t>cryptDeviceCreateContext( cryptDevice, &amp;cryptContext, CRYPT_ALGO_DES, CRYPT_MODE_CBC );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Courier New"/>
              </a:rPr>
              <a:t>cryptEncrypt( cryptContext, “12345678”, 8 );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Courier New"/>
              </a:rPr>
              <a:t>cryptDestroyContext( cryptContext );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Basic Operations (ctd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Most operations are mapped directly to PKCS #11 function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capabilityInfo</a:t>
            </a:r>
            <a:r>
              <a:rPr b="0" lang="en-GB" sz="24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initKey </a:t>
            </a:r>
            <a:r>
              <a:rPr b="0" lang="en-GB" sz="2400" spc="-1" strike="noStrike">
                <a:solidFill>
                  <a:srgbClr val="fafd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CreateObject with pre-set CK_ATTRIBUTE templ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capabilityInfo</a:t>
            </a:r>
            <a:r>
              <a:rPr b="0" lang="en-GB" sz="24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generateKey </a:t>
            </a:r>
            <a:r>
              <a:rPr b="0" lang="en-GB" sz="2400" spc="-1" strike="noStrike">
                <a:solidFill>
                  <a:srgbClr val="fafd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GenerateKey/GenerateKeyPair with pre-set CK_ATTRIBUTE templ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Currently not used for conventional encryption since software is (much) fast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capabilityInfo</a:t>
            </a:r>
            <a:r>
              <a:rPr b="0" lang="en-GB" sz="24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encryptFunction </a:t>
            </a:r>
            <a:r>
              <a:rPr b="0" lang="en-GB" sz="2400" spc="-1" strike="noStrike">
                <a:solidFill>
                  <a:srgbClr val="fafd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Set up CK_MECHANISM if requir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EncryptI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Encryp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Encryption/Signing Issue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Zero-padding/truncation for PKC operation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Decrypt vs unwra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Unwrap key </a:t>
            </a:r>
            <a:r>
              <a:rPr b="0" lang="en-GB" sz="2400" spc="-1" strike="noStrike">
                <a:solidFill>
                  <a:srgbClr val="fafd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 generic secret key 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Read secret key val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Decrypt </a:t>
            </a:r>
            <a:r>
              <a:rPr b="0" lang="en-GB" sz="24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 unwrap + lateral think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By extension, (RSA) signing </a:t>
            </a:r>
            <a:r>
              <a:rPr b="0" lang="en-GB" sz="2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 unwrap + lateral thinkin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Advanced Operation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Device acts as a keyse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Courier New"/>
              </a:rPr>
              <a:t>cryptKeysetOpen( &amp;cryptKeyset, CRYPT_KEYSET_MYSQL, “keyserver” );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Courier New"/>
              </a:rPr>
              <a:t>cryptGetPublicKey( cryptKeyset, &amp;cryptCert, CRYPT_KEYID_NAME, “My key” );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Courier New"/>
              </a:rPr>
              <a:t>cryptKeysetClose( cryptKeyset );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Courier New"/>
              </a:rPr>
              <a:t>cryptDeviceOpen( &amp;cryptDevice, CRYPT_DEVICE_PKCS11, “Datakey” );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Courier New"/>
              </a:rPr>
              <a:t>cryptGetPublicKey( cryptDevice, &amp;cryptCert, CRYPT_KEYID_NAME, “My key” );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Courier New"/>
              </a:rPr>
              <a:t>cryptDeviceClose( cryptDevice );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afd00"/>
                </a:solidFill>
                <a:latin typeface="Times New Roman"/>
              </a:rPr>
              <a:t>Typical Token Us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86000" y="12193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Gimme a private ke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2514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Gener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2438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Fin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2"/>
            <a:endCxn id="43" idx="0"/>
          </p:cNvCxnSpPr>
          <p:nvPr/>
        </p:nvCxnSpPr>
        <p:spPr>
          <a:xfrm>
            <a:off x="4381200" y="1738440"/>
            <a:ext cx="1677240" cy="700200"/>
          </a:xfrm>
          <a:prstGeom prst="straightConnector1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 flipH="1">
            <a:off x="2856960" y="1738440"/>
            <a:ext cx="1524600" cy="776880"/>
          </a:xfrm>
          <a:prstGeom prst="straightConnector1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057400" y="4038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Sign th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4038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Decrypt th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2" idx="2"/>
            <a:endCxn id="46" idx="0"/>
          </p:cNvCxnSpPr>
          <p:nvPr/>
        </p:nvCxnSpPr>
        <p:spPr>
          <a:xfrm>
            <a:off x="2857320" y="3033360"/>
            <a:ext cx="1080" cy="1005480"/>
          </a:xfrm>
          <a:prstGeom prst="straightConnector1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2"/>
            <a:endCxn id="47" idx="0"/>
          </p:cNvCxnSpPr>
          <p:nvPr/>
        </p:nvCxnSpPr>
        <p:spPr>
          <a:xfrm>
            <a:off x="6057720" y="2957040"/>
            <a:ext cx="1080" cy="1081800"/>
          </a:xfrm>
          <a:prstGeom prst="straightConnector1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2" idx="2"/>
            <a:endCxn id="47" idx="0"/>
          </p:cNvCxnSpPr>
          <p:nvPr/>
        </p:nvCxnSpPr>
        <p:spPr>
          <a:xfrm>
            <a:off x="2857680" y="3033360"/>
            <a:ext cx="3201120" cy="1005480"/>
          </a:xfrm>
          <a:prstGeom prst="straightConnector1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2"/>
            <a:endCxn id="46" idx="0"/>
          </p:cNvCxnSpPr>
          <p:nvPr/>
        </p:nvCxnSpPr>
        <p:spPr>
          <a:xfrm flipH="1">
            <a:off x="2857320" y="2957040"/>
            <a:ext cx="3201120" cy="1081800"/>
          </a:xfrm>
          <a:prstGeom prst="straightConnector1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3644280" y="540072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Go awa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6" idx="2"/>
            <a:endCxn id="52" idx="0"/>
          </p:cNvCxnSpPr>
          <p:nvPr/>
        </p:nvCxnSpPr>
        <p:spPr>
          <a:xfrm>
            <a:off x="2857680" y="4557600"/>
            <a:ext cx="1513440" cy="843840"/>
          </a:xfrm>
          <a:prstGeom prst="straightConnector1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7" idx="2"/>
            <a:endCxn id="52" idx="0"/>
          </p:cNvCxnSpPr>
          <p:nvPr/>
        </p:nvCxnSpPr>
        <p:spPr>
          <a:xfrm flipH="1">
            <a:off x="4370040" y="4557600"/>
            <a:ext cx="1688400" cy="843840"/>
          </a:xfrm>
          <a:prstGeom prst="straightConnector1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609480" y="6095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Note: No connection between key fetch and us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Advanced Operations (ctd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Again, operations are mapped to PKCS #11 function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deviceInfo</a:t>
            </a:r>
            <a:r>
              <a:rPr b="0" lang="en-GB" sz="24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setItem </a:t>
            </a:r>
            <a:r>
              <a:rPr b="0" lang="en-GB" sz="2400" spc="-1" strike="noStrike">
                <a:solidFill>
                  <a:srgbClr val="fafd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CreateObject with certificate data and attribu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deviceInfo</a:t>
            </a:r>
            <a:r>
              <a:rPr b="0" lang="en-GB" sz="24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getItem </a:t>
            </a:r>
            <a:r>
              <a:rPr b="0" lang="en-GB" sz="2400" spc="-1" strike="noStrike">
                <a:solidFill>
                  <a:srgbClr val="fafd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Locate object (see later slide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if public key or cer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create cryptlib native 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if private ke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create device 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attach certificate to </a:t>
            </a:r>
            <a:br>
              <a:rPr sz="2400"/>
            </a:b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private key if necessar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36640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Advanced Operations (ctd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deviceInfo</a:t>
            </a:r>
            <a:r>
              <a:rPr b="0" lang="en-GB" sz="24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getItem (ctd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GetAttributeValue to get key size, usage flags, label, et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Set cryptlib attributes and ACL’s based on PKCS #11 attributes (eg decrypt-only, no external acc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deviceInfo</a:t>
            </a:r>
            <a:r>
              <a:rPr b="0" lang="en-GB" sz="24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deleteItem </a:t>
            </a:r>
            <a:r>
              <a:rPr b="0" lang="en-GB" sz="2400" spc="-1" strike="noStrike">
                <a:solidFill>
                  <a:srgbClr val="fafd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Destroy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Finding Key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Public key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Look for a certificate with the given lab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Look for a public key with the given lab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OK, look for any public ke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Look for a private key with the given label, then use the key ID to find the matching certific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Finding Keys (ctd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Private key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27920" indent="-280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Look for a private key with the given lab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Look for a certificate with the given label, then use the key ID to find the matching private ke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Look for a private key marked as a decryption ke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Look for a private key marked as an unwrap ke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Some implementations mark keys as unwrap-only (no decryption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See decryption tricks se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Useful concept: Multiple virtual slo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27920" indent="-280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Encryption key slo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Signing key slo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Nonrepudiation key slo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Key-finding Quirks 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&gt;1 key with a given lab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Mislabelled keys (cert = signature-only, key labelled decrypt-onl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Works for PKCS #11, not for cryptli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No calls allowed between FindObjectsFirst/Find/Fi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FindObjectsFinal is optional, even with v2 driv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Common Bug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Length range check is == rather than &gt;=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Space-padded strings are null-terminat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Query functions return garbage values in some fiel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Many variations on this (key sizes, capabilities, etc etc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This really screws up cryptlib, which adapts to the driver capabilities based on quer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Fields are set to disallowed values (eg all ones in a bitflag value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This DES mechanism does digital signatures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Booby Trap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Reading more than one attribute at a time is dangerou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A single nonpresent attributes can result in no data being returned for any attribu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Read attributes one at a ti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Key generation may be indicated via CKF_GENERATE_KEY_PAIR and/or an xxxGenerateKeyPair mechanis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What does CKF_WRITE_PROTECTED mean anyway?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Perform various experiments to see what you can get away wit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Astound and amaze the driver developers (“Our driver can do RC4?”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Where to get i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cryptlib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http://www.cs.auckland.ac.nz/~pgut001/cryptlib/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Direct link to source cod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ftp://ftp.franken.de/pub/crypt/cryptlib/beta/ cl30beta02.zip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02</a:t>
            </a:r>
            <a:r>
              <a:rPr b="0" lang="en-GB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afd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03</a:t>
            </a:r>
            <a:r>
              <a:rPr b="0" lang="en-GB" sz="2000" spc="-1" strike="noStrike">
                <a:solidFill>
                  <a:srgbClr val="fafd00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04</a:t>
            </a:r>
            <a:r>
              <a:rPr b="0" lang="en-GB" sz="2000" spc="-1" strike="noStrike">
                <a:solidFill>
                  <a:srgbClr val="fafd00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05</a:t>
            </a:r>
            <a:r>
              <a:rPr b="0" lang="en-GB" sz="2000" spc="-1" strike="noStrike">
                <a:solidFill>
                  <a:srgbClr val="fafd00"/>
                </a:solidFill>
                <a:latin typeface="Times New Roman"/>
              </a:rPr>
              <a:t>, ..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Direct link to doc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Courier New"/>
              </a:rPr>
              <a:t>ftp://ftp.franken.de/pub/crypt/cryptlib/beta/ manual.pd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Read the “Installation” section of the docs before using it!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Testing Strateg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General initialis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Open sess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Log on if necessar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if not initialis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Initialise dev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Log 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Low-level te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for each algorithm, mod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Create session 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Load ke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Encrypt/decrypt or has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Actually it currently does the hash in S/W for speed reas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Testing Strategy (ctd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Algorithm correctness tes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Compare cryptlib native object with PKCS #11 token object outpu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cryptlib self-test checks against standard test ve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Encrypt with native object, decrypt with token 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Testing Strategy (ctd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Key generation tes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if not write-protec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Create signature ke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Use signature key to sign CA certific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Update token with certific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Create RSA signature + encryption ke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Use CA key to sign certific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Update token with certific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Fairly simple to extend this to do DSA if requir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Testing Strategy (ctd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Key read tes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Instantiate public-key (= certificate) 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Instantiate private-key 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Uses either previously generated keys (R/W token) or existing keys (R/O token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High-level tes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Generate S/MIME signed mess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Generate S/MIME encrypted mess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Really a test of cryptlib rather than the toke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Configuring cryptlib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Set the driver pat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Courier New"/>
              </a:rPr>
              <a:t>cryptSetAttributeString( CRYPT_UNUSED, CRYPT_OPTION_DEVICE_PKCS11_DVR01, "c:/winnt/system32/cryptoki.dll" );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Courier New"/>
              </a:rPr>
              <a:t>cryptSetAttributeString( CRYPT_UNUSED, CRYPT_OPTION_DEVICE_PKCS11_DVR01, ”/usr/shlib/cryptoki.so" );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Update the config option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Courier New"/>
              </a:rPr>
              <a:t>cryptSetAttribute( CRYPT_UNUSED, CRYPT_OPTION_CONFIGCHANGED, TRUE );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Restart cryptlib to load the new driv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Windows users may want to reboot their machine three or four times as wel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cryptlib Architectur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cryptlib is based on objects and attributes like PKCS #1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Security kernel enforces ACL’s fo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Each 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Each attribute read/written/deleted for each 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443376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Times New Roman"/>
              </a:rPr>
              <a:t>Action Object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Equivalent to PKCS #11 session objec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Encryption contexts encapsulate the functionality of a security algorith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DES 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RSA 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SHA-1 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Times New Roman"/>
              </a:rPr>
              <a:t>HMAC-SHA 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Often associated with another object, </a:t>
            </a:r>
            <a:br>
              <a:rPr sz="2800"/>
            </a:b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eg public key context with </a:t>
            </a:r>
            <a:br>
              <a:rPr sz="2800"/>
            </a:br>
            <a:r>
              <a:rPr b="0" lang="en-GB" sz="2800" spc="-1" strike="noStrike">
                <a:solidFill>
                  <a:srgbClr val="fafd00"/>
                </a:solidFill>
                <a:latin typeface="Times New Roman"/>
              </a:rPr>
              <a:t>certific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76920" y="4495680"/>
            <a:ext cx="33321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4T02:13:34Z</dcterms:created>
  <dc:creator/>
  <dc:description/>
  <dc:language>en-US</dc:language>
  <cp:lastModifiedBy>KAsnes</cp:lastModifiedBy>
  <cp:lastPrinted>2000-01-05T01:44:48Z</cp:lastPrinted>
  <dcterms:modified xsi:type="dcterms:W3CDTF">2000-05-11T14:15:17Z</dcterms:modified>
  <cp:revision>13</cp:revision>
  <dc:subject/>
  <dc:title>Network Security:A Feminist Perspective</dc:title>
</cp:coreProperties>
</file>