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BEF-E396-4E85-988F-A4E057F7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99D9-9075-4C2B-922B-20DE6113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1F52-F74B-4C7C-A65A-83746881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0D8C-D483-4E5E-BF79-C3371C19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69AD-8756-402F-8A21-85C412AA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EB76-D953-41DC-A676-B2B1D928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7675-57C8-466D-AEC4-7B30F910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061A-1DA3-4110-AD95-A8053973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2E93-C202-4558-8444-8A5C6313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724A-AF98-4339-90FA-10C77D01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3A4E-5002-44AF-AA1F-17DFBEDC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EF69-93BC-42DA-A1BF-8E9DAF6A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1E3D-FE2A-4345-83D0-6C34653B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1221-3225-4FD2-BF52-DA1B448A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AF1B-8D14-4831-A5FC-D94DA7EE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6486-99A9-431B-8308-8D3AF3FD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9F93-B27D-488F-8DE3-896C0564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9C4A-9151-42EC-A991-1DE85042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403B-0E25-4B71-A9FF-BAF4D0F5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1722-95E4-4E32-8FD5-E07B261A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E6F5-7F63-4CA1-9FCB-61CE3CA8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4E9-3978-45F2-A9EB-1BE08138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51C2-3A3A-4BEC-9C90-CF5EE754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73EF-44D7-4D1C-8CF6-CD1DFAA0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151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1515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40B3-596B-4625-ADAE-B959BE047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151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EF3C-C1AE-4D48-B25E-A9F979639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1515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—The elegant AES cho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n Rivest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vest@mit.ed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t Robshaw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robshaw@supanet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iqun Lisa Yi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iqun@nttmcl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 on 64-bit CP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ly good 64-bit perform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A64-performance only fair but anomalous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wer than Pentium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 3x improvement with IA64+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chips will optimize A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addition, RC6 gains dramatically with multi-block processing compared to other sche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jor Trends: Java and DS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reasing us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e-commerce and embedded ap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provides excellent speed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m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de size and memory us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reasing us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SP chi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kely to be more significant than IA64 or 8-bit process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gives excellent perform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is fully parameteriz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 size, number of rounds, and block length can be readily chang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ll-suited for hash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is only AES finalist that naturally gives DES and triple-DES compatible variants (64-bit block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we grade candidat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ity (corroborate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formance (speed+memor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2-b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30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20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15%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4-b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15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dw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15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-b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5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se of implement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c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al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0/25/15/10/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438280"/>
            <a:ext cx="685800" cy="2362320"/>
          </a:xfrm>
          <a:custGeom>
            <a:avLst/>
            <a:gdLst>
              <a:gd name="textAreaLeft" fmla="*/ 0 w 685800"/>
              <a:gd name="textAreaRight" fmla="*/ 247680 w 6858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24680" y="48769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53341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924680" y="57913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62485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24680" y="32767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419720"/>
            <a:ext cx="60948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038480"/>
            <a:ext cx="609480" cy="30492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3657600"/>
            <a:ext cx="609480" cy="30492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76720"/>
            <a:ext cx="60948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2819520"/>
            <a:ext cx="60948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2438280"/>
            <a:ext cx="609480" cy="30492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24680" y="1523880"/>
            <a:ext cx="609840" cy="30492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is a simple yet remarkably strong cip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performance on most important platfor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to code for good performanc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cellent flexibi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ost studied final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est understood final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is the secure and “elegant” choice for the A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The End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is the right AES cho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se of implemen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is simple: only 12 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= B + S[ 0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 = D + S[ 1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20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A + S[ 42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+ S[ 43 ]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cit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ilitates and encourages analy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rapid understanding of secur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s direct analysis straightforward (contrast with Mars and Twofis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ables easy implemen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compilers to produce high-quality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viates complicated optimiz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s good performance with minimal eff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security is well-analyz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is probably most studied AES finali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is based on RC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analysis builds directly on RC5 analy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inal RC6 analysis is very detail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simplified variants studied extensive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-scale versions allowed experimen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key schedule is rock-soli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85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ied for more than six yea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rough mix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-way func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key separation (cf. Twofis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related-key attacks (cf. Rijndae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iginal analysis still accu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meets original design crite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 estimates from 1998 still good today; independent analyses supportiv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e, even in theory, even with analysis improvements far beyond those seen for DES during its life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provides a solid, well-tuned margin for secur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2-bit 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cellent performa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2-bit CPUs a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ST reference platfor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ignificant fraction of installed computers throughout the AES life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coming more prevalent in cheaper devices (e.g. ARM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mart Card Sui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C6 fits in the cheapest smart cards, and well-suited for many (e.g. ARM processor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andwidth, not CPU, likely to be most significant bottlenec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-bit CPUs will become far less important over the AES lifeti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Ronald L. Rivest</dc:creator>
  <dc:description/>
  <dc:language>en-US</dc:language>
  <cp:lastModifiedBy>Ron Rivest</cp:lastModifiedBy>
  <cp:lastPrinted>1998-04-19T17:05:34Z</cp:lastPrinted>
  <dcterms:modified xsi:type="dcterms:W3CDTF">2000-04-14T04:01:03Z</dcterms:modified>
  <cp:revision>113</cp:revision>
  <dc:subject/>
  <dc:title>RSA: 1977--1997 and beyond</dc:title>
</cp:coreProperties>
</file>