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160D-7A1D-46B0-9DC1-FBCEF056E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5C4D-A554-4284-A481-E58F99D5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DFAD-D7E9-403F-AF4E-743CF4441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D930-36BA-418D-B26A-EC32C74EC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DE07-75C9-4850-9B39-45A548287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F444-4C46-4A9B-ABD2-DC05E20A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7722-E594-4388-A684-CFA7C098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7C48-0084-40CC-9425-7838302C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65BC-0179-426F-BF6F-26E31910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0A69-4BEB-446C-95C7-01A71A1C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FC35-2C21-4F93-A14A-6EC738CD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499F-BBCE-4378-96CA-025202FE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793D-7F9C-4B25-B951-F8D47653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DF4E-F6DD-4E43-9F08-974A7BFF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9485-2862-49BD-BDA6-FDFD47C8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35CF-2D0C-42B5-8CA9-820C1C05B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381B-F998-4B1C-BC9F-F1A802F1C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2D54-5092-424B-8DA0-14A7A538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54CD-1A70-4228-82B4-DC97E464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93CC-116E-4E9E-8AAB-49689A7E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3F91-B70A-4D40-A9DD-436C5D85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71EA-026E-4F39-A7C7-8E471E33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6EA2-93FF-4BC9-953D-6B96EC8D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F1C1-5405-4F5E-8936-0BF98056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RSA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RSA Data Sec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actoring and Discrete Logarithm Based Cryptograph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ale of Two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rt Kaliski and Moses Lisko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Labor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2E9E-614D-4875-9C38-6AF7AA2794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mplementation Issu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a cryptosystem is realized to be promising, it must be implemen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ryptosystem must be made efficient enough to be practica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cryptosystems have not been made efficient enough to be widely accep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3E82-D73F-49E1-B51B-7B099C804E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mplementation Issu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implementation results can be used by both famil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and DL require efficient modular exponentiation and multipl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DL requires efficient EC multiplication and add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7FD4-C92C-4BF3-9AFC-09A4012362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s of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strialization &amp; Standard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d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C0CB-9C98-4C44-8CD9-A831514289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oofs of Securit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ability of the Crypto community to break an algorithm is reassu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of that an algorithm is secure is far more desir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vably secure variation is often attainable, under some assump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B3EF-1AD5-470E-B991-6448C3FFDB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oofs of Securit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AEP and PSS provide provably secure methods for using R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cheval-Stern and Brickell provide provably secure variants of DSA and ECD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s of equivalence between hard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65B2-CAF0-424D-AC76-B7B9859845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tandardiz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an algorithm is very well accepted, standards must be develop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s are necessary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ope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aranteed level of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ty conf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 standards, actual implementation and use is very difficu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FEB9-88A3-491D-83D4-B5A4A78EAE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tandardiz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families have survived this process; they are the only ones to have made it this f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ing (RSA): PKCS #1, ANSI X9.31, X9.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rete Log (DSA, DH): ANSI X9.30, X9.4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rete Log (ECC): ANSI X9.62, ANSI X9.6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, IEEE P1363 covers all of the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246D-8646-43A8-8155-EC55AC7B8E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dvanced Techniqu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a cryptosystem is fairly well established, it becomes a natural tool for more advanced techniq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d techniques solve limited, specific problems in new w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ro Knowledge Proofs of Private Key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EF69-F9C5-4033-B1BF-479167996E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dvanced Techniqu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 (cont.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ind Sign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ret Sharing / Threshold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Sign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niable Sign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ro Knowledge Proofs of Key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Validation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A608-502B-4925-A892-5160779B25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39625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61048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4080" y="34290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3680" y="34290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3040" y="34290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83280" y="34290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iscrete Logarithm Timelin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3962520"/>
            <a:ext cx="0" cy="4572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9560" y="4495680"/>
            <a:ext cx="121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Diffie-Hel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invented [DH7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809880" y="3657240"/>
            <a:ext cx="0" cy="30492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038480" y="3657240"/>
            <a:ext cx="0" cy="30492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80680" y="2895480"/>
            <a:ext cx="1636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Elliptic Curve propo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by Miller and Kobli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[Mil86] [Kob87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3962520"/>
            <a:ext cx="0" cy="2286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47520" y="5029200"/>
            <a:ext cx="157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ElGamal cryp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invented [Elg8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4120" y="4191120"/>
            <a:ext cx="90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DSA</a:t>
            </a:r>
            <a:r>
              <a:rPr b="0" lang="en-US" sz="1200" spc="-1" strike="noStrike">
                <a:solidFill>
                  <a:srgbClr val="996600"/>
                </a:solidFill>
                <a:latin typeface="Times New Roman"/>
              </a:rPr>
              <a:t>, DS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propo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200400" y="2819160"/>
            <a:ext cx="0" cy="114300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41160" y="2514600"/>
            <a:ext cx="20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Times New Roman"/>
              </a:rPr>
              <a:t>Montgomery’s Method [M8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172200" y="3962520"/>
            <a:ext cx="0" cy="76176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66320" y="4724280"/>
            <a:ext cx="1112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Times New Roman"/>
              </a:rPr>
              <a:t>Fast Mod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Times New Roman"/>
              </a:rPr>
              <a:t>Exponent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Times New Roman"/>
              </a:rPr>
              <a:t>[BGMW9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10280" y="3962520"/>
            <a:ext cx="0" cy="4572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86000" y="4419720"/>
            <a:ext cx="1532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DH proved equival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to DL under cert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assumptions [Mau9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3962520"/>
            <a:ext cx="0" cy="129528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5960" y="5334120"/>
            <a:ext cx="1329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EC reduced to D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for certain cur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[MOV9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295280" y="3276360"/>
            <a:ext cx="0" cy="6858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25120" y="2703600"/>
            <a:ext cx="115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Index Calc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method [Adl7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209680" y="2590920"/>
            <a:ext cx="0" cy="1371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03440" y="2057400"/>
            <a:ext cx="129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Bit Security re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for DL [BM8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553080" y="2514600"/>
            <a:ext cx="0" cy="1447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82920" y="1865160"/>
            <a:ext cx="91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D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Field Sie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[Gor9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3962520"/>
            <a:ext cx="0" cy="4572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15120" y="4379760"/>
            <a:ext cx="120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Coppersmith 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attack on GF(2</a:t>
            </a:r>
            <a:r>
              <a:rPr b="0" lang="en-US" sz="1200" spc="-1" strike="noStrike" baseline="30000">
                <a:solidFill>
                  <a:srgbClr val="cc0000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[Cop8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8229600" y="3657240"/>
            <a:ext cx="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148520" y="2855880"/>
            <a:ext cx="78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1st E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43800" y="3276720"/>
            <a:ext cx="0" cy="38088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7543440" y="3657600"/>
            <a:ext cx="68580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172200" y="3352680"/>
            <a:ext cx="0" cy="6098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09840" y="2895480"/>
            <a:ext cx="145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cc"/>
                </a:solidFill>
                <a:latin typeface="Times New Roman"/>
              </a:rPr>
              <a:t>Authenticated 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cc"/>
                </a:solidFill>
                <a:latin typeface="Times New Roman"/>
              </a:rPr>
              <a:t>developed [DVW9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181480" y="2666520"/>
            <a:ext cx="0" cy="1295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5600" y="2133720"/>
            <a:ext cx="146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cc"/>
                </a:solidFill>
                <a:latin typeface="Times New Roman"/>
              </a:rPr>
              <a:t>Schnorr ID/sign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cc"/>
                </a:solidFill>
                <a:latin typeface="Times New Roman"/>
              </a:rPr>
              <a:t>scheme [Sch9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62520" y="3962520"/>
            <a:ext cx="0" cy="4572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85240" y="4419720"/>
            <a:ext cx="119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cc"/>
                </a:solidFill>
                <a:latin typeface="Times New Roman"/>
              </a:rPr>
              <a:t>Chaum et al. Z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cc"/>
                </a:solidFill>
                <a:latin typeface="Times New Roman"/>
              </a:rPr>
              <a:t>proof [CEGP87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610480" y="3962520"/>
            <a:ext cx="0" cy="137160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078400" y="5334120"/>
            <a:ext cx="95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ANSI X9.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ballo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8305920" y="2742840"/>
            <a:ext cx="0" cy="121932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560" y="2057400"/>
            <a:ext cx="1207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ANSI X9.62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X9.63 for 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draf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7010280" y="2895480"/>
            <a:ext cx="0" cy="106704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54160" y="2438280"/>
            <a:ext cx="95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Times New Roman"/>
              </a:rPr>
              <a:t>ANSI X9.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Times New Roman"/>
              </a:rPr>
              <a:t>draf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29400" y="3962520"/>
            <a:ext cx="0" cy="160020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01880" y="5638680"/>
            <a:ext cx="95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ANSI X9.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draf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3297-20CB-4BDC-BF23-6A1B4BFEE7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.D.H. (Before Diffie-Hellman)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symmetric cryptography exi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graphy didn’t focus on hard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research area: Key Distribut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ffie-Hellman result cracked the field o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56FD-2A6B-4319-9B71-16FD20D60F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actoring Timelin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39625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61048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4080" y="34290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3680" y="34290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73040" y="34290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3962520"/>
            <a:ext cx="0" cy="53316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1960" y="4495680"/>
            <a:ext cx="1363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RSA Cryp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invented [RSA78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95280" y="2590920"/>
            <a:ext cx="0" cy="13716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4040" y="2017800"/>
            <a:ext cx="117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Rabin’s vari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of RSA [Rab7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1008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83280" y="34290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6477120" y="3429000"/>
            <a:ext cx="0" cy="53352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43000" y="2743200"/>
            <a:ext cx="130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Times New Roman"/>
              </a:rPr>
              <a:t>Fast Hard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Times New Roman"/>
              </a:rPr>
              <a:t>implementa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Times New Roman"/>
              </a:rPr>
              <a:t>RSA [SV9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133720" y="3352680"/>
            <a:ext cx="0" cy="60984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52960" y="2666880"/>
            <a:ext cx="1377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Times New Roman"/>
              </a:rPr>
              <a:t>Chinese 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Times New Roman"/>
              </a:rPr>
              <a:t>Theorem effici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Times New Roman"/>
              </a:rPr>
              <a:t>result [QC8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200400" y="2590920"/>
            <a:ext cx="0" cy="137160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41160" y="2286000"/>
            <a:ext cx="20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Times New Roman"/>
              </a:rPr>
              <a:t>Montgomery’s Method [M8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43400" y="3962520"/>
            <a:ext cx="0" cy="1371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33680" y="53341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Multiple Polynom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Quadratic Sieve [Sil87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05720" y="3962520"/>
            <a:ext cx="0" cy="121896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74720" y="5181480"/>
            <a:ext cx="1442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Gener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Field Sieve [BLP9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[BLZ9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3962520"/>
            <a:ext cx="0" cy="38088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00360" y="4495680"/>
            <a:ext cx="124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RSA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Challenge sta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648320" y="3505320"/>
            <a:ext cx="0" cy="4572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72400" y="3962520"/>
            <a:ext cx="0" cy="4572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27360" y="4456080"/>
            <a:ext cx="121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Related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attack [CFPR9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19520" y="3962520"/>
            <a:ext cx="0" cy="76176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34440" y="4800600"/>
            <a:ext cx="139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Bit Security re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for RSA [ACGS8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05520" y="4343400"/>
            <a:ext cx="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105160" y="4343400"/>
            <a:ext cx="60948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46280" y="2971800"/>
            <a:ext cx="119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Public Ex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3 attack [Has88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7010280" y="2361960"/>
            <a:ext cx="0" cy="16002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539760" y="1865160"/>
            <a:ext cx="114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cc"/>
                </a:solidFill>
                <a:latin typeface="Times New Roman"/>
              </a:rPr>
              <a:t>OAEP inv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cc"/>
                </a:solidFill>
                <a:latin typeface="Times New Roman"/>
              </a:rPr>
              <a:t>[BR9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7696080" y="3580920"/>
            <a:ext cx="0" cy="3812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240320" y="3124080"/>
            <a:ext cx="99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cc"/>
                </a:solidFill>
                <a:latin typeface="Times New Roman"/>
              </a:rPr>
              <a:t>PSS inv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cc"/>
                </a:solidFill>
                <a:latin typeface="Times New Roman"/>
              </a:rPr>
              <a:t>[BR9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809880" y="3048120"/>
            <a:ext cx="0" cy="9144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79240" y="2590920"/>
            <a:ext cx="110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cc"/>
                </a:solidFill>
                <a:latin typeface="Times New Roman"/>
              </a:rPr>
              <a:t>Fiat-Shamir 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cc"/>
                </a:solidFill>
                <a:latin typeface="Times New Roman"/>
              </a:rPr>
              <a:t>scheme [FS8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8305920" y="2971800"/>
            <a:ext cx="0" cy="99072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849800" y="2514600"/>
            <a:ext cx="95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ANSI X9.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adop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610480" y="3962520"/>
            <a:ext cx="0" cy="137160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137440" y="53704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PKCS #1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publ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638680" y="2666520"/>
            <a:ext cx="0" cy="129564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5520" y="22096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PKCS #1 v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publ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15000" y="4343400"/>
            <a:ext cx="0" cy="76212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83280" y="5029200"/>
            <a:ext cx="105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ISO/IEC 97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publ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8CD8-0CA4-4D1C-8908-1A1C064A66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ther Techniques Timelin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39625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61048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4080" y="34290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83680" y="34290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90720" y="3429000"/>
            <a:ext cx="0" cy="53352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2920" y="4495680"/>
            <a:ext cx="164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McEliece Cryp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(Algebraic Cod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3760" y="2743200"/>
            <a:ext cx="126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Merkle-Hel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Knapsack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[MH78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3962520"/>
            <a:ext cx="0" cy="53316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73040" y="34290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83280" y="34290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200400" y="3505320"/>
            <a:ext cx="0" cy="4572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35160" y="2779560"/>
            <a:ext cx="126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Merkle Pro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Multiple It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Knapsack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4419720"/>
            <a:ext cx="0" cy="2286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92160" y="4608360"/>
            <a:ext cx="126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Chor-Riv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Knapsack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proposed [CR8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3962520"/>
            <a:ext cx="0" cy="4572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38280" y="4419720"/>
            <a:ext cx="838440" cy="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800600" y="2285640"/>
            <a:ext cx="0" cy="167652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31880" y="1828800"/>
            <a:ext cx="176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Revised Chor-Riv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Knapsack System [CR88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934320" y="3962520"/>
            <a:ext cx="0" cy="129528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50680" y="5257800"/>
            <a:ext cx="139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LUC cryp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proposed [SS9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238880" y="46483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638680" y="3200040"/>
            <a:ext cx="0" cy="76212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8305920" y="3276360"/>
            <a:ext cx="0" cy="6858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07160" y="2627280"/>
            <a:ext cx="1541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Ajtai-Dwork lat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based cryptosystem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some analysis [AD97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42440" y="2475000"/>
            <a:ext cx="1613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Goppa code variant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McEliece cryp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proposed [GPT9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95480" y="3657600"/>
            <a:ext cx="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755360" y="2819520"/>
            <a:ext cx="126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Merkle-Hel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Knapsack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Broken [Sha8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29000" y="3962520"/>
            <a:ext cx="0" cy="83808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04720" y="4800600"/>
            <a:ext cx="125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Multiple It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Merkle-Hellm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Broken [Bri8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362320" y="3505320"/>
            <a:ext cx="0" cy="15228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2361960" y="3657600"/>
            <a:ext cx="53316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7162920" y="2285640"/>
            <a:ext cx="0" cy="16765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9160" y="1905120"/>
            <a:ext cx="146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Chor-Rivest attac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[SH9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238880" y="3962520"/>
            <a:ext cx="0" cy="6858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996960" y="4608360"/>
            <a:ext cx="1485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Advantages of LU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brought into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[BBL9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48520" y="3962520"/>
            <a:ext cx="0" cy="18288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641920" y="5791320"/>
            <a:ext cx="129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Goppa code 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debunked [Gib9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610480" y="3962520"/>
            <a:ext cx="0" cy="1371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701120" y="5410080"/>
            <a:ext cx="129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McEliece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[CS98], [S98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586F-9E72-4542-81E3-6378916C8D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y Two Families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L and Factoring have held up through the full development pro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other family has made it through the pro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L and Factoring based on seemingly hard but not NP-complete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8C41-EFA9-4FDE-8089-2C447895E3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ich is Better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ither DL nor Factoring is entirely better in practice; each has its own advant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one family often propagate to the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K key validation (DL to Factor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K identity schemes (Factoring to D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F5CC-4473-42D1-B470-446FF27103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hould We Look for More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possible that the DL problem and the Factoring problem could both become sol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types of cryptography would give us a fallback in case this happ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6C48-9BC2-42B8-AA0E-201E48C4CDD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hould We Look for More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 has been gained from our failed attempts at other types of crypto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apsack cryptosystems were propo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tice reduction was used to break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was then found that lattice reduction bears some relation to factor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F77A-269C-4DE6-8794-DAA9EAA7577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ere is Cryptography Going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L and Factoring will doubtless continue to be tested, and new, valuable results develop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ideas will be proposed, and perhaps they can follow in the footsteps of the two famil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basic research benefits us 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434C-2278-4620-85D7-37F2D23C698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00200" y="3352680"/>
            <a:ext cx="5638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ice 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ob 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ice send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ob send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ice and Bob compu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Breakthrough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ffie-Hellman key exchange system (197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Alice and Bob share a secret ke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BDB8-02B4-424B-B27D-7A78FF25BF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iffie-Hellman and RSA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invented in 19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-key cryptosystem capable of encryption and signature as well as key e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the stage for the next 20 yea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236A-235D-4B75-9FBB-F9DEDD505B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Two Famili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ie-Hellman, and later ElGamal, DSA, and Elliptic Curve are all in the Discrete Logarithm (DL) fami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and related systems make up the Factoring fami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DB75-295F-4230-A325-85405356EC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eginning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cryptosystems are invent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e-Hellman invented in 19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SA (197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kle’s puzzles (197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apsack Cryptosystems (197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Eliece Cryptosystem (197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liptic Curve Cryptography (198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D9AA-D506-402F-981C-5C404FFC80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est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a cryptosystem is proposed, the Crypto community attempts to break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of the cryptosystems that have been proposed outside of the two families failed at this ste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, knapsack cryptosystems were found to be insec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2F58-1484-466B-91DE-CB67A325CF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est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ie-Hellman, RSA, and Elliptic Curve all withstood analysis from the Crypto commun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ing is an ongoing pro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53D8-0526-4B8C-9710-845BB5A00B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asic Component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rete Logarithm and Factoring both provide the same fundamental tools, but in different wa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ital Sig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C0DB-FDD1-4312-A18A-27B5084224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4T20:16:34Z</dcterms:created>
  <dc:creator/>
  <dc:description/>
  <dc:language>en-US</dc:language>
  <cp:lastModifiedBy>Burt Kaliski</cp:lastModifiedBy>
  <cp:lastPrinted>1998-10-14T19:51:38Z</cp:lastPrinted>
  <dcterms:modified xsi:type="dcterms:W3CDTF">1998-10-29T17:17:24Z</dcterms:modified>
  <cp:revision>12</cp:revision>
  <dc:subject/>
  <dc:title>No Slide Title</dc:title>
</cp:coreProperties>
</file>