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header-slide-wholepag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" name="RSALabs_logo" descr=""/>
          <p:cNvPicPr/>
          <p:nvPr/>
        </p:nvPicPr>
        <p:blipFill>
          <a:blip r:embed="rId3"/>
          <a:stretch/>
        </p:blipFill>
        <p:spPr>
          <a:xfrm>
            <a:off x="228600" y="5694480"/>
            <a:ext cx="129528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header-title-wholepage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2" name="RSALabs_logo" descr=""/>
          <p:cNvPicPr/>
          <p:nvPr/>
        </p:nvPicPr>
        <p:blipFill>
          <a:blip r:embed="rId3"/>
          <a:stretch/>
        </p:blipFill>
        <p:spPr>
          <a:xfrm>
            <a:off x="152280" y="5724360"/>
            <a:ext cx="1371600" cy="82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RSA Laboratories’ PKCS Series - a Tutorial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ASN.1 pri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gnus Nyström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ober 1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N.1 Types and Values, V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e see how easy it is to create layers of abstrac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Before sending values in a protocol, they have to be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encod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coding Ru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efines how a ASN.1 value shall be encoded into a stream of octets (bytes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BER - Basic Encoding Rules (not canonical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ER - Distinguished Encoding Rules (canonical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ER - Packed Encoding Rules (compact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coding Rules, BER and D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ach ASN.1 type has a tag, either derived or assign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hen encoding, the tag is followed by the length of its valu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 “TLV” encoding (in principle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coding Rules, BER and D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HockeyCard example (without teams)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27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13 0d 5741 59 4e 45 20 47 52 45 54 5a 4b 59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13 06 43 45 4e 54 45 52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18 0e 31 39 36 31 30 36 33 30 30 34 33 30 30 30 5a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coding Rules, BER and D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2840" indent="-2228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anonical encoding rules needed in certain circumstances (when decoding and then encoding for verification purposes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22840" indent="-2228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isadvantage: Length needs to be known in advance (no single-pass processing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22840" indent="-2228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General disadvantage with DER and BER: Not very compact, e.g. BOOLEAN True (1 bit of information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1892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01 01 FF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18920" indent="-27540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ree bytes!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cked Encoding Rules, P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ssumes recipient knows the type being sen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Only encodes unknown informa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Generally saves 20 - 25 % compared to DE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omewhat less when PER-encoding digital certificat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t widely us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re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 Layman’s Guide to a Subset of ASN.1, BER and DER”, http://www.rsasecurity.com/rsalabs/pkc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Other useful site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http://www.oss.com/asn1/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http://asn1.elibel.tm.fr/en/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SN.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bstract Syntax Notation 1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efined by ISO/IEC together with ITU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SO/IEC 8824 and 8825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bstract syntax suitable for general use when specifying data structures, protocol units, etc.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hen combined with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encoding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rules, suitable in protocols and for PDUs (protocol data units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bstract Syntax Notation O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 syntax for specifying abstract object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Helps in design, abstraction is a powerful too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 flexible notation with a small set of basic data typ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ore complex types can be defined with the help of the basic on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hen abstract objects are transferred between applications, they are encoded by lower layer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ncoding rules for ASN.1 includes BER, CER, DER and PER, 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bstract Syntax Notation O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SN.1 has been chosen as the notation for abstract objects in the PKCS series, due to it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flexibilit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idespread use in telecommunication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latform-independenc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s presentation gives a basic introduction to ASN.1. 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N.1 Types and Valu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7520" indent="-2275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 type is a collection of values, e.g. INTEGE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27520" indent="-2275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ome types have a finite number of values, others an infinit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27520" indent="-2275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re are two basic kinds of type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3680" indent="-2811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imitiv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33680" indent="-2811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onstructe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27520" indent="-2275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nstructed types consists of other constructed types or primitive types. SET and SEQUENCE are the simplest constructed typ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368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N.1 Types and Valu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3840" indent="-2138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n important type is the “OBJECT IDENTIFIER’ typ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Used to uniquely identify objects, attributes and algorithm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omparable to DNS names, uniquely identifying a host (or a network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Hierarchical (as DNS names), organizations “own” specific branches in the OID tre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13840" indent="-2138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xample: RSA Security’s base OBJECT IDENTIFIER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8904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sadsi OBJECT IDENTIFIER ::= {iso(1) member-body(2) us(840) rsadsi(113549)}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N.1 Types and Values,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xample of a constructed type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HockeyCard ::= SEQUENCE {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ame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intableString,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osition 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intableString,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ateOfBirth 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GeneralizedTIme,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ea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intableString,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eviousTeams 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ListOfTeam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N.1 types and values, I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n the previous slide, PrintableString and GeneralizedTime are primitive typ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ListOfTeams is a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defined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Type, e.g.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ListOfTeams ::= SEQUENCE OF TeamAndYear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eamAndYear ::= SEQUENCE {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ea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intableString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ason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umericString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N.1 Types and Values, IV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177120" indent="-1771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n example of a value of type “BaseBallCard”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57060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gretzky hockeyCard ::= {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57060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ame “Wayne Gretzky”,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57060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osition “Center”,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57060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ateOfBirth “196106300430Z”,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57060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eam “New York Rangers”,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57060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eviousTeams {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57060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{team “S:t Louis”,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57060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ason “1997”},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57060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{team “Los Angeles Kings”,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57060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ason “1996”}}}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57060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57060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4T11:36:04Z</dcterms:created>
  <dc:creator>Magnus Nystrom</dc:creator>
  <dc:description/>
  <dc:language>en-US</dc:language>
  <cp:lastModifiedBy>Magnus Nystrom</cp:lastModifiedBy>
  <cp:lastPrinted>1999-07-27T16:32:36Z</cp:lastPrinted>
  <dcterms:modified xsi:type="dcterms:W3CDTF">1999-10-07T12:59:41Z</dcterms:modified>
  <cp:revision>2</cp:revision>
  <dc:subject/>
  <dc:title>RSA Laboratories’ PKCS Series - a Tutorial</dc:title>
</cp:coreProperties>
</file>