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header-slide-wholepag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1500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2" marL="113976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717560" indent="-228600">
              <a:spcBef>
                <a:spcPts val="1500"/>
              </a:spcBef>
              <a:buClr>
                <a:srgbClr val="ffbe7d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4" marL="2060640" indent="-228600">
              <a:spcBef>
                <a:spcPts val="1500"/>
              </a:spcBef>
              <a:buClr>
                <a:srgbClr val="ffbe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5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6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" name="RSALabs_logo" descr=""/>
          <p:cNvPicPr/>
          <p:nvPr/>
        </p:nvPicPr>
        <p:blipFill>
          <a:blip r:embed="rId3"/>
          <a:stretch/>
        </p:blipFill>
        <p:spPr>
          <a:xfrm>
            <a:off x="228600" y="5694480"/>
            <a:ext cx="1295280" cy="78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header-title-wholepage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2" name="RSALabs_logo" descr=""/>
          <p:cNvPicPr/>
          <p:nvPr/>
        </p:nvPicPr>
        <p:blipFill>
          <a:blip r:embed="rId3"/>
          <a:stretch/>
        </p:blipFill>
        <p:spPr>
          <a:xfrm>
            <a:off x="152280" y="5724360"/>
            <a:ext cx="1371600" cy="82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0" algn="ct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824040" indent="85680" algn="ctr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3" marL="1235160" indent="253800" algn="ctr">
              <a:spcBef>
                <a:spcPts val="1650"/>
              </a:spcBef>
              <a:buClr>
                <a:srgbClr val="ffbe7d"/>
              </a:buClr>
              <a:buFont typeface="Arial"/>
              <a:buChar char="–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4" marL="1646280" indent="185760" algn="ctr">
              <a:spcBef>
                <a:spcPts val="1650"/>
              </a:spcBef>
              <a:buClr>
                <a:srgbClr val="ffbe7d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5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6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KCS #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gnus Nyström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tober, 19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RSA Laboratories’ PKCS Series - a Tutorial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re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KCS #5 v2.0 is available from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http://www.rsasecurity.com/rsalabs/pkc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assword-Based Cryptography Standar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7000" indent="-207000">
              <a:spcBef>
                <a:spcPts val="1500"/>
              </a:spcBef>
              <a:spcAft>
                <a:spcPts val="1199"/>
              </a:spcAft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ations for the implementation of password-based cryptography, covering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67080" indent="-255600">
              <a:spcBef>
                <a:spcPts val="624"/>
              </a:spcBef>
              <a:spcAft>
                <a:spcPts val="1199"/>
              </a:spcAft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establishment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67080" indent="-255600">
              <a:spcBef>
                <a:spcPts val="624"/>
              </a:spcBef>
              <a:spcAft>
                <a:spcPts val="1199"/>
              </a:spcAft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ryption schem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67080" indent="-255600">
              <a:spcBef>
                <a:spcPts val="624"/>
              </a:spcBef>
              <a:spcAft>
                <a:spcPts val="1199"/>
              </a:spcAft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sage-authentication schem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67080" indent="-255600">
              <a:spcBef>
                <a:spcPts val="624"/>
              </a:spcBef>
              <a:spcAft>
                <a:spcPts val="1199"/>
              </a:spcAft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N.1 syntax identifying the techniqu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07000" indent="-207000">
              <a:spcBef>
                <a:spcPts val="1500"/>
              </a:spcBef>
              <a:spcAft>
                <a:spcPts val="1199"/>
              </a:spcAft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ly oriented towards protection of private key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07000" indent="-207000">
              <a:spcBef>
                <a:spcPts val="1500"/>
              </a:spcBef>
              <a:spcAft>
                <a:spcPts val="1199"/>
              </a:spcAft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o guidelines for selection of password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ryptography with a password ...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dentification, key establishment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ncryp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message authentica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has some peculiar problem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asswords are not conventional key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nor are they very “random”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eral Mod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spcAft>
                <a:spcPts val="1199"/>
              </a:spcAft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assword-based key derivation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key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PBKDF (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password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salt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iterations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spcAft>
                <a:spcPts val="1199"/>
              </a:spcAft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 salt serves to produce many keys from a given password (thwarting dictionary attacks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spcAft>
                <a:spcPts val="1199"/>
              </a:spcAft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But it does not protect against an attacker able to choose the salt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spcAft>
                <a:spcPts val="1199"/>
              </a:spcAft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terations increase the cost for an attacker having to try many password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ey Derivation Func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3840" indent="-2138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BKDF1 - Password-based key derivation function #1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e “original” PBKDF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an’t generate keys longer than 20 byt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K || IV = Hash</a:t>
            </a:r>
            <a:r>
              <a:rPr b="1" lang="en-US" sz="1800" spc="-1" strike="noStrike" baseline="30000">
                <a:solidFill>
                  <a:srgbClr val="4d5981"/>
                </a:solidFill>
                <a:latin typeface="Arial"/>
              </a:rPr>
              <a:t>iterations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(Password||Salt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13840" indent="-2138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Limitation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only two hash function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ssumes cipher in CBC mode and 8-byte salt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no security proof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ntropy bottleneck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fixed maximum length for key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ey Derivation Functions,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2960" indent="-19296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BKDF2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22440" indent="-23832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New in version 2.0 of PKCS #5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22440" indent="-23832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Belts-and-suspenders”-approach (protect both against parallel attacks and the recursion present in PBKDF1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22440" indent="-23832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K = T1 || T2 || … || T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22440" indent="-23832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i = f(Password, Salt, Iterations, i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957240" indent="-19296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f(Password,Salt, Iterations, i) = U</a:t>
            </a:r>
            <a:r>
              <a:rPr b="1" lang="en-US" sz="2000" spc="-1" strike="noStrike" baseline="-25000">
                <a:solidFill>
                  <a:srgbClr val="4d5981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XOR U</a:t>
            </a:r>
            <a:r>
              <a:rPr b="1" lang="en-US" sz="2000" spc="-1" strike="noStrike" baseline="-25000">
                <a:solidFill>
                  <a:srgbClr val="4d5981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XOR U</a:t>
            </a:r>
            <a:r>
              <a:rPr b="1" lang="en-US" sz="2000" spc="-1" strike="noStrike" baseline="-25000">
                <a:solidFill>
                  <a:srgbClr val="4d5981"/>
                </a:solidFill>
                <a:latin typeface="Arial"/>
              </a:rPr>
              <a:t>iteration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957240" indent="-19296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U</a:t>
            </a:r>
            <a:r>
              <a:rPr b="1" lang="en-US" sz="2000" spc="-1" strike="noStrike" baseline="-25000">
                <a:solidFill>
                  <a:srgbClr val="4d5981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PRF(Password, Salt || i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957240" indent="-19296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U</a:t>
            </a:r>
            <a:r>
              <a:rPr b="1" lang="en-US" sz="2000" spc="-1" strike="noStrike" baseline="-25000">
                <a:solidFill>
                  <a:srgbClr val="4d5981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= PRF(Password, U</a:t>
            </a:r>
            <a:r>
              <a:rPr b="1" lang="en-US" sz="2000" spc="-1" strike="noStrike" baseline="-25000">
                <a:solidFill>
                  <a:srgbClr val="4d5981"/>
                </a:solidFill>
                <a:latin typeface="Arial"/>
              </a:rPr>
              <a:t>i-1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22440" indent="-23832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RF is most likely hMAC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957240" indent="-19296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Restricts search space for an unknown key to 160 bits, however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224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tivations for PBKDF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rovably secure under reasonable assumptions on the pseudorandom function PRF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Variable output length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cryption Schem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BES1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Basically PBKDF1 in combination with DES or RC2-CBC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New applications should favor PBES2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BES2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ombination of PBKDF2 with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some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underlying encryption schem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ssage Authentication Schem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BMAC1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BKDF2 together with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some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underlying MAC schem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13:09:21Z</dcterms:created>
  <dc:creator>Magnus Nystrom</dc:creator>
  <dc:description/>
  <dc:language>en-US</dc:language>
  <cp:lastModifiedBy>Magnus Nystrom</cp:lastModifiedBy>
  <cp:lastPrinted>1999-07-27T16:32:36Z</cp:lastPrinted>
  <dcterms:modified xsi:type="dcterms:W3CDTF">1999-10-07T19:32:51Z</dcterms:modified>
  <cp:revision>4</cp:revision>
  <dc:subject/>
  <dc:title>RSA Laboratories’ PKCS Series - a Tutorial</dc:title>
</cp:coreProperties>
</file>