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1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ertification Request Syntax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a syntax for certification requests (I.e. requests for digital certificat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dely used in public-key infrastructure (PKI) products, e.g. from VeriSign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ertificationRequestInfo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52480" y="1752480"/>
            <a:ext cx="5715000" cy="2362320"/>
            <a:chOff x="1752480" y="1752480"/>
            <a:chExt cx="5715000" cy="2362320"/>
          </a:xfrm>
        </p:grpSpPr>
        <p:sp>
          <p:nvSpPr>
            <p:cNvPr id="86" name=""/>
            <p:cNvSpPr/>
            <p:nvPr/>
          </p:nvSpPr>
          <p:spPr>
            <a:xfrm>
              <a:off x="1752480" y="1752480"/>
              <a:ext cx="5715000" cy="23623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752480" y="22860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752480" y="28195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22320" y="1792440"/>
              <a:ext cx="27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22320" y="230184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bjectNa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822320" y="291132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ubjectPublicKey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752480" y="35053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828800" y="358128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0080" y="4114800"/>
            <a:ext cx="768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ttributes may for example be requests for certain certificate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extens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bjectPublicKeyInfo is defined in X.509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CertificationReques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00080" y="3733920"/>
            <a:ext cx="7686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signature is made with the corresponding private key (if it can be used for signatur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1523880"/>
            <a:ext cx="5715000" cy="1905120"/>
          </a:xfrm>
          <a:prstGeom prst="rect">
            <a:avLst/>
          </a:prstGeom>
          <a:solidFill>
            <a:srgbClr val="8cc6a2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2057400"/>
            <a:ext cx="5715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52480" y="2590920"/>
            <a:ext cx="5715000" cy="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2320" y="1563840"/>
            <a:ext cx="465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tationRequestInf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2320" y="2073240"/>
            <a:ext cx="49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ture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2320" y="2682720"/>
            <a:ext cx="33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gn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er PKCS #10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6000" indent="-2160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sion 1.0 released in 1993, still the current version!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16000" indent="-2160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Has proved flexible enough to accommodate changes in X.509 certificat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16000" indent="-2160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ETF has defined another structure in RFC 2511 (CRMF) - the universe is now spli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16000" indent="-2160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 has no plans on new versions of PKCS #10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16000" indent="-21600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urrent version at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96600" indent="-26676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rsalabs/pkc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21:10:45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09-27T21:27:38Z</dcterms:modified>
  <cp:revision>1</cp:revision>
  <dc:subject/>
  <dc:title>RSA Laboratories’ PKCS Series - a Tutorial</dc:title>
</cp:coreProperties>
</file>