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00080" y="359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3884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992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984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000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992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984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7543800" cy="31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3884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000080" y="359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3884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992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984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0000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992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984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7543800" cy="31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3884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header-slide-wholepag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1500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2" marL="113976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3" marL="1717560" indent="-228600">
              <a:spcBef>
                <a:spcPts val="1500"/>
              </a:spcBef>
              <a:buClr>
                <a:srgbClr val="ffbe7d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4" marL="2060640" indent="-228600">
              <a:spcBef>
                <a:spcPts val="1500"/>
              </a:spcBef>
              <a:buClr>
                <a:srgbClr val="ffbe7d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5" marL="206064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6" marL="206064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3" name="RSALabs_logo" descr=""/>
          <p:cNvPicPr/>
          <p:nvPr/>
        </p:nvPicPr>
        <p:blipFill>
          <a:blip r:embed="rId3"/>
          <a:stretch/>
        </p:blipFill>
        <p:spPr>
          <a:xfrm>
            <a:off x="228600" y="5694480"/>
            <a:ext cx="1295280" cy="78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header-title-wholepage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746784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42" name="RSALabs_logo" descr=""/>
          <p:cNvPicPr/>
          <p:nvPr/>
        </p:nvPicPr>
        <p:blipFill>
          <a:blip r:embed="rId3"/>
          <a:stretch/>
        </p:blipFill>
        <p:spPr>
          <a:xfrm>
            <a:off x="152280" y="5724360"/>
            <a:ext cx="1371600" cy="8287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11120" indent="0" algn="ctr"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2" marL="824040" indent="85680" algn="ctr">
              <a:spcBef>
                <a:spcPts val="624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3" marL="1235160" indent="253800" algn="ctr">
              <a:spcBef>
                <a:spcPts val="1650"/>
              </a:spcBef>
              <a:buClr>
                <a:srgbClr val="ffbe7d"/>
              </a:buClr>
              <a:buFont typeface="Arial"/>
              <a:buChar char="–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006eaa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6eaa"/>
              </a:solidFill>
              <a:latin typeface="Arial"/>
            </a:endParaRPr>
          </a:p>
          <a:p>
            <a:pPr lvl="4" marL="1646280" indent="185760" algn="ctr">
              <a:spcBef>
                <a:spcPts val="1650"/>
              </a:spcBef>
              <a:buClr>
                <a:srgbClr val="ffbe7d"/>
              </a:buClr>
              <a:buFont typeface="Arial"/>
              <a:buChar char="•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006eaa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6eaa"/>
              </a:solidFill>
              <a:latin typeface="Arial"/>
            </a:endParaRPr>
          </a:p>
          <a:p>
            <a:pPr lvl="5" marL="1646280" indent="185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eaa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6eaa"/>
              </a:solidFill>
              <a:latin typeface="Arial"/>
            </a:endParaRPr>
          </a:p>
          <a:p>
            <a:pPr lvl="6" marL="1646280" indent="185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eaa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6e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746784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1c1c1c"/>
                </a:solidFill>
                <a:latin typeface="Arial"/>
              </a:rPr>
              <a:t>RSA Laboratories’ PKCS Series - a Tutorial</a:t>
            </a:r>
            <a:endParaRPr b="1" lang="en-US" sz="4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295280" y="4495680"/>
            <a:ext cx="7467840" cy="11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KCS #15 v1.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gnus Nyströ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ctober, 199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nd a solution!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58658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1360" y="60944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143000" y="1504800"/>
            <a:ext cx="7225920" cy="4819680"/>
            <a:chOff x="1143000" y="1504800"/>
            <a:chExt cx="7225920" cy="4819680"/>
          </a:xfrm>
        </p:grpSpPr>
        <p:sp>
          <p:nvSpPr>
            <p:cNvPr id="115" name=""/>
            <p:cNvSpPr/>
            <p:nvPr/>
          </p:nvSpPr>
          <p:spPr>
            <a:xfrm>
              <a:off x="1153800" y="1504800"/>
              <a:ext cx="1466640" cy="1067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64000" y="1504800"/>
              <a:ext cx="1466280" cy="1067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52080" y="1506600"/>
              <a:ext cx="126360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C Ca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462280" y="1506600"/>
              <a:ext cx="126360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C Ca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1143000" y="2838600"/>
              <a:ext cx="1485720" cy="704520"/>
              <a:chOff x="1143000" y="2838600"/>
              <a:chExt cx="1485720" cy="704520"/>
            </a:xfrm>
          </p:grpSpPr>
          <p:sp>
            <p:nvSpPr>
              <p:cNvPr id="120" name=""/>
              <p:cNvSpPr/>
              <p:nvPr/>
            </p:nvSpPr>
            <p:spPr>
              <a:xfrm>
                <a:off x="1143000" y="2838600"/>
                <a:ext cx="1485720" cy="704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75400" y="3008160"/>
                <a:ext cx="14205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1800" spc="-1" strike="noStrike">
                    <a:solidFill>
                      <a:srgbClr val="000000"/>
                    </a:solidFill>
                    <a:latin typeface="Times New Roman"/>
                  </a:rPr>
                  <a:t>Standard AP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5391000" y="2838600"/>
              <a:ext cx="1485360" cy="704520"/>
              <a:chOff x="5391000" y="2838600"/>
              <a:chExt cx="1485360" cy="704520"/>
            </a:xfrm>
          </p:grpSpPr>
          <p:sp>
            <p:nvSpPr>
              <p:cNvPr id="123" name=""/>
              <p:cNvSpPr/>
              <p:nvPr/>
            </p:nvSpPr>
            <p:spPr>
              <a:xfrm>
                <a:off x="5391000" y="2838600"/>
                <a:ext cx="1485360" cy="704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423040" y="3008160"/>
                <a:ext cx="14205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1800" spc="-1" strike="noStrike">
                    <a:solidFill>
                      <a:srgbClr val="000000"/>
                    </a:solidFill>
                    <a:latin typeface="Times New Roman"/>
                  </a:rPr>
                  <a:t>Standard AP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3363480" y="1504800"/>
              <a:ext cx="1466640" cy="1067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462120" y="1506600"/>
              <a:ext cx="126360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C Ca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" name=""/>
            <p:cNvGrpSpPr/>
            <p:nvPr/>
          </p:nvGrpSpPr>
          <p:grpSpPr>
            <a:xfrm>
              <a:off x="3352680" y="2838600"/>
              <a:ext cx="1485360" cy="704520"/>
              <a:chOff x="3352680" y="2838600"/>
              <a:chExt cx="1485360" cy="704520"/>
            </a:xfrm>
          </p:grpSpPr>
          <p:sp>
            <p:nvSpPr>
              <p:cNvPr id="128" name=""/>
              <p:cNvSpPr/>
              <p:nvPr/>
            </p:nvSpPr>
            <p:spPr>
              <a:xfrm>
                <a:off x="3352680" y="2838600"/>
                <a:ext cx="1485360" cy="7045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384720" y="3008160"/>
                <a:ext cx="14205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1800" spc="-1" strike="noStrike">
                    <a:solidFill>
                      <a:srgbClr val="000000"/>
                    </a:solidFill>
                    <a:latin typeface="Times New Roman"/>
                  </a:rPr>
                  <a:t>Standard AP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1858680" y="3570120"/>
              <a:ext cx="0" cy="86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30080" y="4419720"/>
              <a:ext cx="456840" cy="666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106520" y="3589200"/>
              <a:ext cx="0" cy="86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887640" y="4438800"/>
              <a:ext cx="456840" cy="666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106680" y="3570120"/>
              <a:ext cx="0" cy="86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878080" y="4419720"/>
              <a:ext cx="456840" cy="666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916080" y="5657760"/>
              <a:ext cx="399600" cy="666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30560" y="5715000"/>
              <a:ext cx="171000" cy="17136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92560" y="4478400"/>
              <a:ext cx="1010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000000"/>
                  </a:solidFill>
                  <a:latin typeface="Times New Roman"/>
                </a:rPr>
                <a:t>PC/S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893640" y="5716440"/>
              <a:ext cx="14752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000000"/>
                  </a:solidFill>
                  <a:latin typeface="Times New Roman"/>
                </a:rPr>
                <a:t>PKCS #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4377960" y="5924520"/>
              <a:ext cx="25635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35280" y="4707000"/>
              <a:ext cx="582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892560" y="2952720"/>
              <a:ext cx="582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893640" y="2952720"/>
              <a:ext cx="14752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000000"/>
                  </a:solidFill>
                  <a:latin typeface="Times New Roman"/>
                </a:rPr>
                <a:t>E.g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2400" spc="-1" strike="noStrike">
                  <a:solidFill>
                    <a:srgbClr val="000000"/>
                  </a:solidFill>
                  <a:latin typeface="Times New Roman"/>
                </a:rPr>
                <a:t>PKCS #1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PKCS #15 is..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1932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an attempt to eliminate differences between tokens with respect to certain security-related information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a ‘token edge’ specification for the exchange of information between a host and a token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...based on, and an application of, ISO/IEC 7816-4, -5 and -6.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PKCS #15 is..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not biased towards particular IC cards or token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for the benefit of token-holders and vendors of token-aware application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…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upported by major vendors and consortiums like WAP, Microsoft, Netscape and Apple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PKCS #15 Goa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0" algn="ctr"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o enable portability of personal credentials stored on cryptographic tokens across computer application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evious work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DC/SC - CertCo/GemPlus/Litronics initiative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Storage of digital certificates on smart card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Designed for multi-application card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Folded into SEI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The DC/SC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065960" y="2133720"/>
            <a:ext cx="7239600" cy="2819160"/>
            <a:chOff x="1065960" y="2133720"/>
            <a:chExt cx="7239600" cy="2819160"/>
          </a:xfrm>
        </p:grpSpPr>
        <p:sp>
          <p:nvSpPr>
            <p:cNvPr id="154" name=""/>
            <p:cNvSpPr/>
            <p:nvPr/>
          </p:nvSpPr>
          <p:spPr>
            <a:xfrm>
              <a:off x="3809880" y="2133720"/>
              <a:ext cx="1676520" cy="9144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29400" y="3505320"/>
              <a:ext cx="1676160" cy="9144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09880" y="3505320"/>
              <a:ext cx="1676520" cy="9144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066680" y="3581280"/>
              <a:ext cx="2057400" cy="13716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066680" y="4267080"/>
              <a:ext cx="20574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065960" y="3733920"/>
              <a:ext cx="1845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3200" spc="-1" strike="noStrike">
                  <a:solidFill>
                    <a:srgbClr val="000000"/>
                  </a:solidFill>
                  <a:latin typeface="Times New Roman"/>
                </a:rPr>
                <a:t>Cert1 inf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3200" spc="-1" strike="noStrike">
                  <a:solidFill>
                    <a:srgbClr val="000000"/>
                  </a:solidFill>
                  <a:latin typeface="Times New Roman"/>
                </a:rPr>
                <a:t>Cert2 inf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647960" y="3124080"/>
              <a:ext cx="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10080" y="2819520"/>
              <a:ext cx="1447920" cy="83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2" name=""/>
            <p:cNvCxnSpPr>
              <a:stCxn id="154" idx="2"/>
              <a:endCxn id="157" idx="0"/>
            </p:cNvCxnSpPr>
            <p:nvPr/>
          </p:nvCxnSpPr>
          <p:spPr>
            <a:xfrm flipV="1" rot="10800000">
              <a:off x="2094840" y="2590560"/>
              <a:ext cx="1700640" cy="97704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3" name=""/>
            <p:cNvCxnSpPr>
              <a:endCxn id="155" idx="3"/>
            </p:cNvCxnSpPr>
            <p:nvPr/>
          </p:nvCxnSpPr>
          <p:spPr>
            <a:xfrm flipV="1">
              <a:off x="3124080" y="4300200"/>
              <a:ext cx="3751920" cy="619920"/>
            </a:xfrm>
            <a:prstGeom prst="curvedConnector2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64" name=""/>
            <p:cNvCxnSpPr/>
            <p:nvPr/>
          </p:nvCxnSpPr>
          <p:spPr>
            <a:xfrm flipV="1">
              <a:off x="3123720" y="3733560"/>
              <a:ext cx="672120" cy="305280"/>
            </a:xfrm>
            <a:prstGeom prst="curvedConnector5">
              <a:avLst>
                <a:gd name="adj1" fmla="val 51018"/>
                <a:gd name="adj2" fmla="val 49940"/>
                <a:gd name="adj3" fmla="val 51018"/>
              </a:avLst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165" name=""/>
            <p:cNvSpPr/>
            <p:nvPr/>
          </p:nvSpPr>
          <p:spPr>
            <a:xfrm>
              <a:off x="4268880" y="2209680"/>
              <a:ext cx="767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3200" spc="-1" strike="noStrike">
                  <a:solidFill>
                    <a:srgbClr val="000000"/>
                  </a:solidFill>
                  <a:latin typeface="Times New Roman"/>
                </a:rPr>
                <a:t>M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191480" y="3581280"/>
              <a:ext cx="1006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3200" spc="-1" strike="noStrike">
                  <a:solidFill>
                    <a:srgbClr val="000000"/>
                  </a:solidFill>
                  <a:latin typeface="Times New Roman"/>
                </a:rPr>
                <a:t>DF 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934680" y="3581280"/>
              <a:ext cx="1006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3200" spc="-1" strike="noStrike">
                  <a:solidFill>
                    <a:srgbClr val="000000"/>
                  </a:solidFill>
                  <a:latin typeface="Times New Roman"/>
                </a:rPr>
                <a:t>DF 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evious work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43000" y="15238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EIS - Swedish initiative (http://www.seis.se)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Pre-dates DC/SC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EID application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Promoted to Swedish standard SS 614330 in September 1998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Not as general as PKCS #15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The SEIS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156680" y="1447920"/>
            <a:ext cx="6767640" cy="4800600"/>
            <a:chOff x="1156680" y="1447920"/>
            <a:chExt cx="6767640" cy="4800600"/>
          </a:xfrm>
        </p:grpSpPr>
        <p:sp>
          <p:nvSpPr>
            <p:cNvPr id="172" name=""/>
            <p:cNvSpPr/>
            <p:nvPr/>
          </p:nvSpPr>
          <p:spPr>
            <a:xfrm>
              <a:off x="5181480" y="2743560"/>
              <a:ext cx="1599840" cy="213336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962160" y="1524240"/>
              <a:ext cx="2057040" cy="12193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904760" y="3962520"/>
              <a:ext cx="2133360" cy="16002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371600" y="1447920"/>
              <a:ext cx="1599840" cy="10670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04760" y="502956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904760" y="449604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80360" y="3962520"/>
              <a:ext cx="16408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3200" spc="-1" strike="noStrike">
                  <a:solidFill>
                    <a:srgbClr val="000000"/>
                  </a:solidFill>
                  <a:latin typeface="Times New Roman"/>
                </a:rPr>
                <a:t>PIN inf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3200" spc="-1" strike="noStrike">
                  <a:solidFill>
                    <a:srgbClr val="000000"/>
                  </a:solidFill>
                  <a:latin typeface="Times New Roman"/>
                </a:rPr>
                <a:t>Key inf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3200" spc="-1" strike="noStrike">
                  <a:solidFill>
                    <a:srgbClr val="000000"/>
                  </a:solidFill>
                  <a:latin typeface="Times New Roman"/>
                </a:rPr>
                <a:t>Cert inf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447560" y="1600560"/>
              <a:ext cx="1480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3200" spc="-1" strike="noStrike">
                  <a:solidFill>
                    <a:srgbClr val="000000"/>
                  </a:solidFill>
                  <a:latin typeface="Times New Roman"/>
                </a:rPr>
                <a:t>PIN fi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190400" y="1829160"/>
              <a:ext cx="1649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3200" spc="-1" strike="noStrike">
                  <a:solidFill>
                    <a:srgbClr val="000000"/>
                  </a:solidFill>
                  <a:latin typeface="Times New Roman"/>
                </a:rPr>
                <a:t>DF(EID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1" name=""/>
            <p:cNvCxnSpPr/>
            <p:nvPr/>
          </p:nvCxnSpPr>
          <p:spPr>
            <a:xfrm rot="10800000">
              <a:off x="1370880" y="1828440"/>
              <a:ext cx="533880" cy="2400840"/>
            </a:xfrm>
            <a:prstGeom prst="bentConnector3">
              <a:avLst>
                <a:gd name="adj1" fmla="val 140148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2" name=""/>
            <p:cNvCxnSpPr>
              <a:stCxn id="174" idx="3"/>
              <a:endCxn id="183" idx="1"/>
            </p:cNvCxnSpPr>
            <p:nvPr/>
          </p:nvCxnSpPr>
          <p:spPr>
            <a:xfrm flipV="1">
              <a:off x="4052160" y="4038120"/>
              <a:ext cx="1572120" cy="72468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84" name=""/>
            <p:cNvSpPr/>
            <p:nvPr/>
          </p:nvSpPr>
          <p:spPr>
            <a:xfrm>
              <a:off x="5867280" y="3124440"/>
              <a:ext cx="2057040" cy="121932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8680" y="3429360"/>
              <a:ext cx="2057040" cy="121896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3200" spc="-1" strike="noStrike">
                  <a:solidFill>
                    <a:srgbClr val="000000"/>
                  </a:solidFill>
                  <a:latin typeface="Times New Roman"/>
                </a:rPr>
                <a:t>Key 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790960" y="5029560"/>
              <a:ext cx="2057040" cy="121896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638680" y="4876920"/>
              <a:ext cx="2057040" cy="121932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3200" spc="-1" strike="noStrike">
                  <a:solidFill>
                    <a:srgbClr val="000000"/>
                  </a:solidFill>
                  <a:latin typeface="Times New Roman"/>
                </a:rPr>
                <a:t>Cert 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7" name=""/>
            <p:cNvCxnSpPr>
              <a:endCxn id="186" idx="1"/>
            </p:cNvCxnSpPr>
            <p:nvPr/>
          </p:nvCxnSpPr>
          <p:spPr>
            <a:xfrm>
              <a:off x="4038480" y="5257800"/>
              <a:ext cx="1586160" cy="229320"/>
            </a:xfrm>
            <a:prstGeom prst="curvedConnector5">
              <a:avLst>
                <a:gd name="adj1" fmla="val 50442"/>
                <a:gd name="adj2" fmla="val 50000"/>
                <a:gd name="adj3" fmla="val 50442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88" name=""/>
            <p:cNvSpPr/>
            <p:nvPr/>
          </p:nvSpPr>
          <p:spPr>
            <a:xfrm flipH="1">
              <a:off x="3733560" y="2590920"/>
              <a:ext cx="609120" cy="137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439000" y="3200760"/>
              <a:ext cx="99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3200" spc="-1" strike="noStrike">
                  <a:solidFill>
                    <a:srgbClr val="000000"/>
                  </a:solidFill>
                  <a:latin typeface="Times New Roman"/>
                </a:rPr>
                <a:t>AU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410080" y="2667240"/>
              <a:ext cx="30420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638680" y="2590920"/>
              <a:ext cx="1218600" cy="53352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05160" y="2743560"/>
              <a:ext cx="533160" cy="228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746784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1c1c1c"/>
                </a:solidFill>
                <a:latin typeface="Arial"/>
              </a:rPr>
              <a:t>An overview of PKCS #15</a:t>
            </a:r>
            <a:endParaRPr b="1" lang="en-US" sz="4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295280" y="4495680"/>
            <a:ext cx="7467840" cy="11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KCS #15 Characteristic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18960" y="144792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Useful on a wide range of token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No need to modify existing token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upports multiple application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upports whole domain of PKCS #11 objects (straightforward to do PKCS #11 interface but not tied to PKCS #11)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Profiling possible (e.g. EID)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400" spc="-1" strike="noStrike">
                <a:solidFill>
                  <a:srgbClr val="1c1c1c"/>
                </a:solidFill>
                <a:latin typeface="Arial"/>
              </a:rPr>
              <a:t>Background - the Need for Standardization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400" spc="-1" strike="noStrike">
                <a:solidFill>
                  <a:srgbClr val="1c1c1c"/>
                </a:solidFill>
                <a:latin typeface="Arial"/>
              </a:rPr>
              <a:t>Previous Effort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400" spc="-1" strike="noStrike">
                <a:solidFill>
                  <a:srgbClr val="1c1c1c"/>
                </a:solidFill>
                <a:latin typeface="Arial"/>
              </a:rPr>
              <a:t>An Overview of PKCS #15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de-DE" sz="2400" spc="-1" strike="noStrike">
                <a:solidFill>
                  <a:srgbClr val="1c1c1c"/>
                </a:solidFill>
                <a:latin typeface="Arial"/>
              </a:rPr>
              <a:t>Summary &amp; Future Work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C Card layou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178600" y="1752480"/>
            <a:ext cx="912600" cy="8575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49840" y="3467160"/>
            <a:ext cx="912600" cy="857160"/>
          </a:xfrm>
          <a:prstGeom prst="ellipse">
            <a:avLst/>
          </a:prstGeom>
          <a:noFill/>
          <a:ln w="2844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DF(PKCS1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685960" y="4991040"/>
            <a:ext cx="914400" cy="8571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O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844880" y="4991040"/>
            <a:ext cx="914400" cy="8571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rKD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08760" y="4991040"/>
            <a:ext cx="912600" cy="8571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D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423120" y="3467160"/>
            <a:ext cx="914400" cy="8571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Other D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4513320" y="2514600"/>
            <a:ext cx="830160" cy="952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924520" y="2514600"/>
            <a:ext cx="665280" cy="10476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3350880" y="4229280"/>
            <a:ext cx="663480" cy="761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13320" y="4324320"/>
            <a:ext cx="665280" cy="666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680000" y="4133880"/>
            <a:ext cx="1743120" cy="8571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3880" y="4991040"/>
            <a:ext cx="912960" cy="8571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okenInf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2104560" y="4038480"/>
            <a:ext cx="1744920" cy="952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49840" y="5086440"/>
            <a:ext cx="912600" cy="8571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65600" y="4991040"/>
            <a:ext cx="914400" cy="8571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OD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264200" y="4324320"/>
            <a:ext cx="0" cy="666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62440" y="4038480"/>
            <a:ext cx="2657520" cy="9525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088040" y="4991040"/>
            <a:ext cx="912960" cy="8571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TokenInfo fi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Contains information about the token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per se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and its capabilities (and peculiarities)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Corresponds roughly to PKCS#11 CK_TOKEN_INFO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8" name="">
            <a:hlinkClick r:id="rId1" action="ppaction://hlinksldjump"/>
          </p:cNvPr>
          <p:cNvSpPr/>
          <p:nvPr/>
        </p:nvSpPr>
        <p:spPr>
          <a:xfrm>
            <a:off x="7948440" y="50292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ODF </a:t>
            </a:r>
            <a:br>
              <a:rPr sz="36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Object Directory File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7086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Contains pointers to other directory files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PrKDF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PuKDF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SKDF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CDF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DODF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AODF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  <p:sp>
        <p:nvSpPr>
          <p:cNvPr id="221" name="">
            <a:hlinkClick r:id="rId1" action="ppaction://hlinksldjump"/>
          </p:cNvPr>
          <p:cNvSpPr/>
          <p:nvPr/>
        </p:nvSpPr>
        <p:spPr>
          <a:xfrm>
            <a:off x="8024760" y="5105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AODFs</a:t>
            </a:r>
            <a:br>
              <a:rPr sz="36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Authentication Object Directory Files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Application needs to know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Which authentication methods are used to protect certain object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If the authentication method is PIN- based, there is a need to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Associate PINs with object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Record PIN information: case-sensitive, numeric, length, lifetime, ...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  <p:sp>
        <p:nvSpPr>
          <p:cNvPr id="224" name="">
            <a:hlinkClick r:id="rId1" action="ppaction://hlinksldjump"/>
          </p:cNvPr>
          <p:cNvSpPr/>
          <p:nvPr/>
        </p:nvSpPr>
        <p:spPr>
          <a:xfrm>
            <a:off x="8001000" y="5105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KDFs</a:t>
            </a:r>
            <a:br>
              <a:rPr sz="36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Private Key Directory Files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7086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Contain attributes for one or more private keys known to the application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Keys need not be in same DF as the PrKDF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Associates keys with authentication objects and certificate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7" name="">
            <a:hlinkClick r:id="rId1" action="ppaction://hlinksldjump"/>
          </p:cNvPr>
          <p:cNvSpPr/>
          <p:nvPr/>
        </p:nvSpPr>
        <p:spPr>
          <a:xfrm>
            <a:off x="8024760" y="51814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7496"/>
                </a:moveTo>
                <a:lnTo>
                  <a:pt x="7301" y="7496"/>
                </a:lnTo>
                <a:lnTo>
                  <a:pt x="7301" y="12832"/>
                </a:lnTo>
                <a:cubicBezTo>
                  <a:pt x="7301" y="13754"/>
                  <a:pt x="8102" y="14485"/>
                  <a:pt x="9138" y="14485"/>
                </a:cubicBezTo>
                <a:lnTo>
                  <a:pt x="10800" y="14485"/>
                </a:lnTo>
                <a:cubicBezTo>
                  <a:pt x="11836" y="14485"/>
                  <a:pt x="12636" y="13754"/>
                  <a:pt x="12636" y="12832"/>
                </a:cubicBezTo>
                <a:lnTo>
                  <a:pt x="12636" y="7496"/>
                </a:lnTo>
                <a:lnTo>
                  <a:pt x="10800" y="7496"/>
                </a:lnTo>
                <a:lnTo>
                  <a:pt x="14308" y="3989"/>
                </a:lnTo>
                <a:lnTo>
                  <a:pt x="17981" y="7496"/>
                </a:lnTo>
                <a:lnTo>
                  <a:pt x="16144" y="7496"/>
                </a:lnTo>
                <a:lnTo>
                  <a:pt x="16144" y="12832"/>
                </a:lnTo>
                <a:cubicBezTo>
                  <a:pt x="16144" y="15599"/>
                  <a:pt x="13568" y="18158"/>
                  <a:pt x="10800" y="18158"/>
                </a:cubicBezTo>
                <a:lnTo>
                  <a:pt x="9138" y="18158"/>
                </a:lnTo>
                <a:cubicBezTo>
                  <a:pt x="6370" y="18158"/>
                  <a:pt x="3794" y="15599"/>
                  <a:pt x="3794" y="128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DFs </a:t>
            </a:r>
            <a:br>
              <a:rPr sz="36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Certificate Directory Files)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7086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Contain attributes for one or more certificates known to the application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Certificates need not be in same DF as the CDF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Associates certificates with private key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0" name="">
            <a:hlinkClick r:id="rId1" action="ppaction://hlinksldjump"/>
          </p:cNvPr>
          <p:cNvSpPr/>
          <p:nvPr/>
        </p:nvSpPr>
        <p:spPr>
          <a:xfrm>
            <a:off x="8024760" y="51292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680" y="1519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n Example - simple EI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841400"/>
            <a:ext cx="1981440" cy="1325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523880" y="275580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136960" y="130824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03440" y="1917720"/>
            <a:ext cx="106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K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3505320" y="2506320"/>
            <a:ext cx="5333760" cy="2897640"/>
            <a:chOff x="3505320" y="2506320"/>
            <a:chExt cx="5333760" cy="2897640"/>
          </a:xfrm>
        </p:grpSpPr>
        <p:sp>
          <p:nvSpPr>
            <p:cNvPr id="237" name=""/>
            <p:cNvSpPr/>
            <p:nvPr/>
          </p:nvSpPr>
          <p:spPr>
            <a:xfrm>
              <a:off x="3886200" y="3098880"/>
              <a:ext cx="1981080" cy="81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886200" y="354348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98920" y="258120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rKD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0" name=""/>
            <p:cNvCxnSpPr/>
            <p:nvPr/>
          </p:nvCxnSpPr>
          <p:spPr>
            <a:xfrm>
              <a:off x="3505320" y="2506320"/>
              <a:ext cx="381600" cy="740520"/>
            </a:xfrm>
            <a:prstGeom prst="curvedConnector5">
              <a:avLst>
                <a:gd name="adj1" fmla="val 49952"/>
                <a:gd name="adj2" fmla="val 50000"/>
                <a:gd name="adj3" fmla="val 49952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41" name=""/>
            <p:cNvSpPr/>
            <p:nvPr/>
          </p:nvSpPr>
          <p:spPr>
            <a:xfrm>
              <a:off x="3963600" y="3098880"/>
              <a:ext cx="1485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ey 1 inf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ey 2 inf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2" name=""/>
            <p:cNvCxnSpPr/>
            <p:nvPr/>
          </p:nvCxnSpPr>
          <p:spPr>
            <a:xfrm flipV="1" rot="10800000">
              <a:off x="5866560" y="2727720"/>
              <a:ext cx="762840" cy="592920"/>
            </a:xfrm>
            <a:prstGeom prst="curvedConnector5">
              <a:avLst>
                <a:gd name="adj1" fmla="val 52455"/>
                <a:gd name="adj2" fmla="val 50000"/>
                <a:gd name="adj3" fmla="val 52455"/>
              </a:avLst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43" name=""/>
            <p:cNvCxnSpPr/>
            <p:nvPr/>
          </p:nvCxnSpPr>
          <p:spPr>
            <a:xfrm flipV="1" rot="10800000">
              <a:off x="5866560" y="3097800"/>
              <a:ext cx="762840" cy="592920"/>
            </a:xfrm>
            <a:prstGeom prst="curvedConnector5">
              <a:avLst>
                <a:gd name="adj1" fmla="val 52455"/>
                <a:gd name="adj2" fmla="val 50000"/>
                <a:gd name="adj3" fmla="val 52455"/>
              </a:avLst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44" name=""/>
            <p:cNvSpPr/>
            <p:nvPr/>
          </p:nvSpPr>
          <p:spPr>
            <a:xfrm>
              <a:off x="7086600" y="3746520"/>
              <a:ext cx="1752480" cy="66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086600" y="4737240"/>
              <a:ext cx="1752480" cy="66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072560" y="3878280"/>
              <a:ext cx="91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ey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072560" y="4840200"/>
              <a:ext cx="91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ey 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/>
            <p:nvPr/>
          </p:nvCxnSpPr>
          <p:spPr>
            <a:xfrm>
              <a:off x="5866920" y="3395520"/>
              <a:ext cx="1204200" cy="594720"/>
            </a:xfrm>
            <a:prstGeom prst="curvedConnector5">
              <a:avLst>
                <a:gd name="adj1" fmla="val 47069"/>
                <a:gd name="adj2" fmla="val 49969"/>
                <a:gd name="adj3" fmla="val 47069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9" name=""/>
            <p:cNvCxnSpPr>
              <a:endCxn id="247" idx="1"/>
            </p:cNvCxnSpPr>
            <p:nvPr/>
          </p:nvCxnSpPr>
          <p:spPr>
            <a:xfrm flipH="1" rot="16200000">
              <a:off x="5856120" y="3854880"/>
              <a:ext cx="1224720" cy="1204200"/>
            </a:xfrm>
            <a:prstGeom prst="curvedConnector2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50" name=""/>
          <p:cNvGrpSpPr/>
          <p:nvPr/>
        </p:nvGrpSpPr>
        <p:grpSpPr>
          <a:xfrm>
            <a:off x="1524600" y="3025440"/>
            <a:ext cx="7091640" cy="3606480"/>
            <a:chOff x="1524600" y="3025440"/>
            <a:chExt cx="7091640" cy="3606480"/>
          </a:xfrm>
        </p:grpSpPr>
        <p:sp>
          <p:nvSpPr>
            <p:cNvPr id="251" name=""/>
            <p:cNvSpPr/>
            <p:nvPr/>
          </p:nvSpPr>
          <p:spPr>
            <a:xfrm>
              <a:off x="3962520" y="4800600"/>
              <a:ext cx="1981080" cy="814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962520" y="517068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422240" y="4282920"/>
              <a:ext cx="77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D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4" name=""/>
            <p:cNvCxnSpPr/>
            <p:nvPr/>
          </p:nvCxnSpPr>
          <p:spPr>
            <a:xfrm>
              <a:off x="3505320" y="3025440"/>
              <a:ext cx="457920" cy="222012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55" name=""/>
            <p:cNvSpPr/>
            <p:nvPr/>
          </p:nvSpPr>
          <p:spPr>
            <a:xfrm>
              <a:off x="4038480" y="4726080"/>
              <a:ext cx="1503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ert 1 inf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ert 2 inf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/>
            <p:nvPr/>
          </p:nvCxnSpPr>
          <p:spPr>
            <a:xfrm>
              <a:off x="5943600" y="5022720"/>
              <a:ext cx="1829520" cy="1294560"/>
            </a:xfrm>
            <a:prstGeom prst="curvedConnector5">
              <a:avLst>
                <a:gd name="adj1" fmla="val 49990"/>
                <a:gd name="adj2" fmla="val 49986"/>
                <a:gd name="adj3" fmla="val 49990"/>
              </a:avLst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257" name=""/>
            <p:cNvCxnSpPr>
              <a:endCxn id="258" idx="3"/>
            </p:cNvCxnSpPr>
            <p:nvPr/>
          </p:nvCxnSpPr>
          <p:spPr>
            <a:xfrm flipV="1" rot="10800000">
              <a:off x="2383560" y="5345640"/>
              <a:ext cx="1578960" cy="686520"/>
            </a:xfrm>
            <a:prstGeom prst="curvedConnector5">
              <a:avLst>
                <a:gd name="adj1" fmla="val 49988"/>
                <a:gd name="adj2" fmla="val 50000"/>
                <a:gd name="adj3" fmla="val 49988"/>
              </a:avLst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259" name=""/>
            <p:cNvSpPr/>
            <p:nvPr/>
          </p:nvSpPr>
          <p:spPr>
            <a:xfrm>
              <a:off x="7757280" y="6172200"/>
              <a:ext cx="85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ert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524600" y="5803920"/>
              <a:ext cx="85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ert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1523880" y="229860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3505320" y="2028960"/>
            <a:ext cx="5105160" cy="1303200"/>
            <a:chOff x="3505320" y="2028960"/>
            <a:chExt cx="5105160" cy="1303200"/>
          </a:xfrm>
        </p:grpSpPr>
        <p:grpSp>
          <p:nvGrpSpPr>
            <p:cNvPr id="262" name=""/>
            <p:cNvGrpSpPr/>
            <p:nvPr/>
          </p:nvGrpSpPr>
          <p:grpSpPr>
            <a:xfrm>
              <a:off x="6629400" y="2506680"/>
              <a:ext cx="1981080" cy="814320"/>
              <a:chOff x="6629400" y="2506680"/>
              <a:chExt cx="1981080" cy="814320"/>
            </a:xfrm>
          </p:grpSpPr>
          <p:sp>
            <p:nvSpPr>
              <p:cNvPr id="263" name=""/>
              <p:cNvSpPr/>
              <p:nvPr/>
            </p:nvSpPr>
            <p:spPr>
              <a:xfrm>
                <a:off x="6629400" y="2506680"/>
                <a:ext cx="1981080" cy="814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629400" y="2950920"/>
                <a:ext cx="198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7074360" y="2028960"/>
              <a:ext cx="100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OD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707160" y="2506680"/>
              <a:ext cx="1392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IN1 inf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IN2 inf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/>
            <p:nvPr/>
          </p:nvCxnSpPr>
          <p:spPr>
            <a:xfrm>
              <a:off x="3505320" y="2070000"/>
              <a:ext cx="3124800" cy="410400"/>
            </a:xfrm>
            <a:prstGeom prst="curvedConnector5">
              <a:avLst>
                <a:gd name="adj1" fmla="val 49994"/>
                <a:gd name="adj2" fmla="val 49956"/>
                <a:gd name="adj3" fmla="val 49994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68" name=""/>
          <p:cNvGrpSpPr/>
          <p:nvPr/>
        </p:nvGrpSpPr>
        <p:grpSpPr>
          <a:xfrm>
            <a:off x="2781360" y="3289320"/>
            <a:ext cx="1180800" cy="2438280"/>
            <a:chOff x="2781360" y="3289320"/>
            <a:chExt cx="1180800" cy="2438280"/>
          </a:xfrm>
        </p:grpSpPr>
        <p:sp>
          <p:nvSpPr>
            <p:cNvPr id="269" name=""/>
            <p:cNvSpPr/>
            <p:nvPr/>
          </p:nvSpPr>
          <p:spPr>
            <a:xfrm>
              <a:off x="2781360" y="3289320"/>
              <a:ext cx="1180800" cy="1981080"/>
            </a:xfrm>
            <a:custGeom>
              <a:avLst/>
              <a:gdLst/>
              <a:ahLst/>
              <a:rect l="l" t="t" r="r" b="b"/>
              <a:pathLst>
                <a:path w="744" h="1248">
                  <a:moveTo>
                    <a:pt x="696" y="0"/>
                  </a:moveTo>
                  <a:cubicBezTo>
                    <a:pt x="420" y="28"/>
                    <a:pt x="144" y="56"/>
                    <a:pt x="72" y="240"/>
                  </a:cubicBezTo>
                  <a:cubicBezTo>
                    <a:pt x="0" y="424"/>
                    <a:pt x="152" y="960"/>
                    <a:pt x="264" y="1104"/>
                  </a:cubicBezTo>
                  <a:cubicBezTo>
                    <a:pt x="376" y="1248"/>
                    <a:pt x="560" y="1176"/>
                    <a:pt x="744" y="110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headEnd len="lg" type="triangle" w="med"/>
              <a:tailEnd len="lg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781360" y="3746520"/>
              <a:ext cx="1180800" cy="1981080"/>
            </a:xfrm>
            <a:custGeom>
              <a:avLst/>
              <a:gdLst/>
              <a:ahLst/>
              <a:rect l="l" t="t" r="r" b="b"/>
              <a:pathLst>
                <a:path w="744" h="1248">
                  <a:moveTo>
                    <a:pt x="696" y="0"/>
                  </a:moveTo>
                  <a:cubicBezTo>
                    <a:pt x="420" y="28"/>
                    <a:pt x="144" y="56"/>
                    <a:pt x="72" y="240"/>
                  </a:cubicBezTo>
                  <a:cubicBezTo>
                    <a:pt x="0" y="424"/>
                    <a:pt x="152" y="960"/>
                    <a:pt x="264" y="1104"/>
                  </a:cubicBezTo>
                  <a:cubicBezTo>
                    <a:pt x="376" y="1248"/>
                    <a:pt x="560" y="1176"/>
                    <a:pt x="744" y="1104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2286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Format standardization is required for portability of credentials stored on token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PKCS#15 is a standard aimed to help meet this requirement, which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builds on previous work, e.g. PKCS #11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allows profiling for particular uses, like Electronic Identification (EID) application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3160" y="759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sults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18960" y="15238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he EID profile of PKCS #15...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...has been chosen as the token format for WAP’s SIM module (WIM)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has been chosen as the card-format for the Finnish national EID card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...is being considered for inclusion in the German DIN digital signature card specification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…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has been tested in interoperability workshop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uture work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PKCS #15 does not solve the problems of a non-standardized command set and access control mod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A card adaptation layer is still needed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Combining PKCS #15 with, e.g. ISO/IEC 7816-4, -8 and -9 could eliminate this need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Another possibility is “Security Service Descriptors” (like in DIN NI-17.4)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What is the equivalent of PKCS #15 for a JavaCard or a MultOS card?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ackgroun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here is a need for standardization of the format of cryptographic credentials stored on cryptographic tokens, if one wants portability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746784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1c1c1c"/>
                </a:solidFill>
                <a:latin typeface="Arial"/>
              </a:rPr>
              <a:t>Part II: PKCS #15 v1.1</a:t>
            </a:r>
            <a:endParaRPr b="1" lang="en-US" sz="4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1295280" y="4495680"/>
            <a:ext cx="7467840" cy="11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784872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ome Limitations in PKCS #15 v1.0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Many organizations cannot afford an infrastructure with cards and readers or would prefer to start with software-only token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Memory cards are very popular in some countrie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No reason why PKCS #15 should not include support for these token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verview of the forthcoming proposa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Added support for integrity- and confidentiality- protection of token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Whole objects may be protected, or just some attributes (I.e. the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value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of the object)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Added possibility to store thumbprint of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all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external objects, not just certificate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PKCS15Token Typ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1752480" y="1600200"/>
            <a:ext cx="2514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752480" y="22096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752480" y="27432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19051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86200" y="2514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913040" y="1717560"/>
            <a:ext cx="13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kenIn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913400" y="2286000"/>
            <a:ext cx="19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MgmtIn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913400" y="28195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886200" y="30481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575320" y="1676520"/>
            <a:ext cx="33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of token in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574240" y="2286000"/>
            <a:ext cx="271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 mgmt info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574960" y="2854440"/>
            <a:ext cx="251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ers to obje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828800" y="3581280"/>
            <a:ext cx="66294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tokenInfo field consists of all components from the current TokenInfo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bjects are the same as in the current object directory file (OD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type may itself be integrity prot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Key Management Inf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599840" y="1447920"/>
            <a:ext cx="7086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One or several pairs of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0"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0"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0"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0"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A recipient info is the same as in PKCS #7, but a passwordRecipientInfo has been added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2092320" y="2286000"/>
            <a:ext cx="251460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092320" y="28954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226040" y="25909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22604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612520" y="240336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612160" y="297180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In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913000" y="2362320"/>
            <a:ext cx="23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er identifi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915160" y="2971800"/>
            <a:ext cx="186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ipientIn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assword Based Recipient Inf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523520" y="21337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0"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0"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0"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0">
              <a:spcBef>
                <a:spcPts val="1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he nesting allows several objects to be protected with the same password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1905120" y="1599480"/>
            <a:ext cx="2514600" cy="25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905120" y="22096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05120" y="27432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905120" y="34290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038480" y="19051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038480" y="2514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038480" y="37339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88520" y="171756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376000" y="228600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009880" y="2819520"/>
            <a:ext cx="20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E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357280" y="350532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038480" y="30481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508720" y="16765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508000" y="2209680"/>
            <a:ext cx="339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“My Bank passwor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15560" y="2778120"/>
            <a:ext cx="25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from PKCS #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504040" y="3463920"/>
            <a:ext cx="303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sted KeyID poin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to a RecipientIn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ntegrity Protected Dat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2438280" y="1600200"/>
            <a:ext cx="25146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438280" y="22096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438280" y="27432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438280" y="34290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438280" y="40384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19051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572000" y="2514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572000" y="37339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0" y="4419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822040" y="171756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823120" y="228600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820600" y="281952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20960" y="350532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823480" y="419112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572000" y="30481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26040" y="1752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22800" y="228600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er to Key mgm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27120" y="2854440"/>
            <a:ext cx="159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hM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022440" y="3540240"/>
            <a:ext cx="22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’s prot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026040" y="4226040"/>
            <a:ext cx="16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fidentiality Protected Dat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2438280" y="1599480"/>
            <a:ext cx="2514600" cy="25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438280" y="220968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438280" y="27432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438280" y="34290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572000" y="19051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572000" y="25146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572000" y="37339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822040" y="171756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823120" y="228600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820600" y="281952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820960" y="350532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572000" y="30481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026040" y="1752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022800" y="228600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er to Key mgm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058800" y="2854440"/>
            <a:ext cx="20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DES-E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22440" y="3540240"/>
            <a:ext cx="22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’s prot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tection of of Object Valu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A sequence of objects, or an object value itself may now be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directly stored (I.e. “inline”)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indirectly stored (pointed to)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direct-protected (confidentiality protected, directly stored)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indirect-protected (confidentiality protected, and pointed to)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oftware Toke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op-level structure will be PKCS15Token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May or may not be integrity protected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Will contain all other objects, or pointers (urls) to them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Private objects will be encrypted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All keys will be in a key management table (except perhaps for the outermost integrity protection key)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746784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1c1c1c"/>
                </a:solidFill>
                <a:latin typeface="Arial"/>
              </a:rPr>
              <a:t>Lot of buzzwords...</a:t>
            </a:r>
            <a:endParaRPr b="1" lang="en-US" sz="4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95280" y="4495680"/>
            <a:ext cx="7467840" cy="11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emory cards and other simple H/W toke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he EF(ODF) may or may not be integrity protected.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Files containing private objects will, most likely, be encrypted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As an alternative, a complete PKCS15Token may be stored on the card/H-W token as one file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he proposal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extends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 the capacity of PKCS #15, it does not make any existing applications incompatible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he proposal allows tokens not capable of protecting private objects themselves to store such objects in a secure manner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It is still just a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proposa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ther possible enhancem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Command mappings (in an attempt to get rid of specific card layers)?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ACL mappings (for easier knowledge of rights)?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upport for biometric authentication methods?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upport for external/internal AUTH commands/methods/protocols?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ther possible enhancements, continue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hould it be possible to find PKCS #15 applications on an IC Card without using the PKCS #15 AID? If so, how?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ime pla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1st draft of PKCS #15 v1.1 will be submitted late October/early November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A 2nd draft is expected early in January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v1.1 expected in February 2000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746784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1c1c1c"/>
                </a:solidFill>
                <a:latin typeface="Arial"/>
              </a:rPr>
              <a:t>How can I help?</a:t>
            </a:r>
            <a:endParaRPr b="1" lang="en-US" sz="4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295280" y="4495680"/>
            <a:ext cx="7467840" cy="11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tact Us!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As usual, send comments and suggestions to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pkcs-tng@rsasecurity.com, or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pkcs-editor@rsasecurity.com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finit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What is a “cryptographic token”? 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We define it as: A portable device capable of storing cryptographic credentials identifying its owner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What are “Cryptographic credentials”?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Keys and Certificates</a:t>
            </a: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ackgroun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What is a token “format”? 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A detailed description of how certain higher-level abstractions such as keys and certificates are represented on a token in terms of e.g.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2" marL="1139760" indent="-230040">
              <a:spcBef>
                <a:spcPts val="624"/>
              </a:spcBef>
              <a:buClr>
                <a:srgbClr val="5f5f5f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data structure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2" marL="1139760" indent="-230040">
              <a:spcBef>
                <a:spcPts val="624"/>
              </a:spcBef>
              <a:buClr>
                <a:srgbClr val="5f5f5f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file content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2" marL="1139760" indent="-230040">
              <a:spcBef>
                <a:spcPts val="624"/>
              </a:spcBef>
              <a:buClr>
                <a:srgbClr val="5f5f5f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directory structure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2" marL="1139760" indent="-230040">
              <a:spcBef>
                <a:spcPts val="624"/>
              </a:spcBef>
              <a:buClr>
                <a:srgbClr val="5f5f5f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etc.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ackground, Continue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Why standardize a token format?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Without a standardized token format there will be no interoperability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Are not APIs enough (e.g. PKCS #11, OpenCard…)?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Standardized APIs are neither necessary nor sufficient for token portability, but they help 3rd party vendor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746784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1c1c1c"/>
                </a:solidFill>
                <a:latin typeface="Arial"/>
              </a:rPr>
              <a:t>I still don’t get it...</a:t>
            </a:r>
            <a:endParaRPr b="1" lang="en-US" sz="4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295280" y="4495680"/>
            <a:ext cx="7467840" cy="11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624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v-SE" sz="3600" spc="-1" strike="noStrike">
                <a:solidFill>
                  <a:srgbClr val="ffffff"/>
                </a:solidFill>
                <a:latin typeface="Arial"/>
              </a:rPr>
              <a:t>Here’s the problem...</a:t>
            </a:r>
            <a:br>
              <a:rPr sz="3600"/>
            </a:br>
            <a:r>
              <a:rPr b="1" lang="sv-SE" sz="1000" spc="-1" strike="noStrike">
                <a:solidFill>
                  <a:srgbClr val="ffffff"/>
                </a:solidFill>
                <a:latin typeface="Arial"/>
              </a:rPr>
              <a:t>(from S.Guthery)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04320" y="5578560"/>
            <a:ext cx="47548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is tied to particular cards so …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dholder is tied to particular applic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2455920" y="1447920"/>
            <a:ext cx="5469480" cy="3962160"/>
            <a:chOff x="2455920" y="1447920"/>
            <a:chExt cx="5469480" cy="3962160"/>
          </a:xfrm>
        </p:grpSpPr>
        <p:sp>
          <p:nvSpPr>
            <p:cNvPr id="99" name=""/>
            <p:cNvSpPr/>
            <p:nvPr/>
          </p:nvSpPr>
          <p:spPr>
            <a:xfrm>
              <a:off x="5408640" y="4533840"/>
              <a:ext cx="1485720" cy="87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875280" y="4667400"/>
              <a:ext cx="399960" cy="6094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671720" y="4040280"/>
              <a:ext cx="739800" cy="934920"/>
            </a:xfrm>
            <a:custGeom>
              <a:avLst/>
              <a:gdLst/>
              <a:ahLst/>
              <a:rect l="l" t="t" r="r" b="b"/>
              <a:pathLst>
                <a:path w="466" h="589">
                  <a:moveTo>
                    <a:pt x="0" y="0"/>
                  </a:moveTo>
                  <a:lnTo>
                    <a:pt x="5" y="52"/>
                  </a:lnTo>
                  <a:lnTo>
                    <a:pt x="11" y="110"/>
                  </a:lnTo>
                  <a:lnTo>
                    <a:pt x="38" y="215"/>
                  </a:lnTo>
                  <a:lnTo>
                    <a:pt x="87" y="315"/>
                  </a:lnTo>
                  <a:lnTo>
                    <a:pt x="148" y="401"/>
                  </a:lnTo>
                  <a:lnTo>
                    <a:pt x="219" y="478"/>
                  </a:lnTo>
                  <a:lnTo>
                    <a:pt x="257" y="511"/>
                  </a:lnTo>
                  <a:lnTo>
                    <a:pt x="295" y="535"/>
                  </a:lnTo>
                  <a:lnTo>
                    <a:pt x="339" y="559"/>
                  </a:lnTo>
                  <a:lnTo>
                    <a:pt x="377" y="574"/>
                  </a:lnTo>
                  <a:lnTo>
                    <a:pt x="421" y="583"/>
                  </a:lnTo>
                  <a:lnTo>
                    <a:pt x="465" y="58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36240" y="4789440"/>
              <a:ext cx="830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800" spc="-1" strike="noStrike">
                  <a:solidFill>
                    <a:srgbClr val="000000"/>
                  </a:solidFill>
                  <a:latin typeface="Times New Roman"/>
                </a:rPr>
                <a:t>R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299000" y="4782960"/>
              <a:ext cx="6264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v-SE" sz="1800" spc="-1" strike="noStrike">
                  <a:solidFill>
                    <a:srgbClr val="000000"/>
                  </a:solidFill>
                  <a:latin typeface="Times New Roman"/>
                </a:rPr>
                <a:t>Car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2455920" y="1447920"/>
              <a:ext cx="4438440" cy="819000"/>
              <a:chOff x="2455920" y="1447920"/>
              <a:chExt cx="4438440" cy="819000"/>
            </a:xfrm>
          </p:grpSpPr>
          <p:sp>
            <p:nvSpPr>
              <p:cNvPr id="105" name=""/>
              <p:cNvSpPr/>
              <p:nvPr/>
            </p:nvSpPr>
            <p:spPr>
              <a:xfrm>
                <a:off x="2455920" y="1447920"/>
                <a:ext cx="4438440" cy="81900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061440" y="1676520"/>
                <a:ext cx="31226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1800" spc="-1" strike="noStrike">
                    <a:solidFill>
                      <a:srgbClr val="000000"/>
                    </a:solidFill>
                    <a:latin typeface="Times New Roman"/>
                  </a:rPr>
                  <a:t>Token (Card)-aware applicat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2455920" y="3238560"/>
              <a:ext cx="4438440" cy="799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455920" y="2782800"/>
              <a:ext cx="4438440" cy="438120"/>
              <a:chOff x="2455920" y="2782800"/>
              <a:chExt cx="4438440" cy="438120"/>
            </a:xfrm>
          </p:grpSpPr>
          <p:sp>
            <p:nvSpPr>
              <p:cNvPr id="109" name=""/>
              <p:cNvSpPr/>
              <p:nvPr/>
            </p:nvSpPr>
            <p:spPr>
              <a:xfrm>
                <a:off x="2455920" y="2782800"/>
                <a:ext cx="4438440" cy="4381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964680" y="2820960"/>
                <a:ext cx="14205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v-SE" sz="1800" spc="-1" strike="noStrike">
                    <a:solidFill>
                      <a:srgbClr val="000000"/>
                    </a:solidFill>
                    <a:latin typeface="Times New Roman"/>
                  </a:rPr>
                  <a:t>Standard API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0:17:31Z</dcterms:created>
  <dc:creator>Magnus Nystrom</dc:creator>
  <dc:description/>
  <dc:language>en-US</dc:language>
  <cp:lastModifiedBy>Magnus Nystrom</cp:lastModifiedBy>
  <cp:lastPrinted>1999-07-27T16:32:36Z</cp:lastPrinted>
  <dcterms:modified xsi:type="dcterms:W3CDTF">1999-10-07T19:59:39Z</dcterms:modified>
  <cp:revision>3</cp:revision>
  <dc:subject/>
  <dc:title>RSA Laboratories’ PKCS Series - a Tutorial</dc:title>
</cp:coreProperties>
</file>