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992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984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000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992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984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5438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992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984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000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992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984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5438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header-slide-wholepag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1500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2" marL="113976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3" marL="1717560" indent="-228600">
              <a:spcBef>
                <a:spcPts val="1500"/>
              </a:spcBef>
              <a:buClr>
                <a:srgbClr val="ffbe7d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4" marL="2060640" indent="-228600">
              <a:spcBef>
                <a:spcPts val="1500"/>
              </a:spcBef>
              <a:buClr>
                <a:srgbClr val="ffbe7d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5" marL="206064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6" marL="206064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3" name="RSALabs_logo" descr=""/>
          <p:cNvPicPr/>
          <p:nvPr/>
        </p:nvPicPr>
        <p:blipFill>
          <a:blip r:embed="rId3"/>
          <a:stretch/>
        </p:blipFill>
        <p:spPr>
          <a:xfrm>
            <a:off x="228600" y="5694480"/>
            <a:ext cx="1295280" cy="78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header-title-wholepage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2" name="RSALabs_logo" descr=""/>
          <p:cNvPicPr/>
          <p:nvPr/>
        </p:nvPicPr>
        <p:blipFill>
          <a:blip r:embed="rId3"/>
          <a:stretch/>
        </p:blipFill>
        <p:spPr>
          <a:xfrm>
            <a:off x="152280" y="5724360"/>
            <a:ext cx="1371600" cy="828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1120" indent="0" algn="ct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824040" indent="85680" algn="ctr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3" marL="1235160" indent="253800" algn="ctr">
              <a:spcBef>
                <a:spcPts val="1650"/>
              </a:spcBef>
              <a:buClr>
                <a:srgbClr val="ffbe7d"/>
              </a:buClr>
              <a:buFont typeface="Arial"/>
              <a:buChar char="–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4" marL="1646280" indent="185760" algn="ctr">
              <a:spcBef>
                <a:spcPts val="1650"/>
              </a:spcBef>
              <a:buClr>
                <a:srgbClr val="ffbe7d"/>
              </a:buClr>
              <a:buFont typeface="Arial"/>
              <a:buChar char="•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5" marL="1646280" indent="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6" marL="1646280" indent="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RSA Laboratories’ PKCS Series - a Tutorial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95280" y="4495680"/>
            <a:ext cx="746784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KCS #1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gnus Nyströ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ctober, 199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uture enhancemen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upport for new types of certificates (e.g. attribute certificates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upport for multiple PIN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More fine-grained access contro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upport for “signature-only” key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ime plan: v2.1 in Q4’99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v3.0 perhaps Q3’00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ore informatio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s usual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http://www.rsasecurity.com/rsalabs/pkc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ryptographic Token Interface Standar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Different from other PKCS documents in that it defines an application programming interface (API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hields applications from details of cryptographic tokens such as smart card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oncentrates on cryptographic matter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e API is written for ANSI C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lso known as “Cryptoki”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ryptographic Token Interface Standard, I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Widely used in many token-aware products, e.g. Netscape Communicator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implified user model: Just one user and a security officer (SO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General mod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125800" y="1523880"/>
          <a:ext cx="6561000" cy="478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5800" y="1523880"/>
                    <a:ext cx="6561000" cy="47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KCS #11’s object mod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85800" y="1447920"/>
          <a:ext cx="7539120" cy="274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753912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00080" y="4191120"/>
            <a:ext cx="76867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Objects may be created, read, updated and deleted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ll access is governed by security stat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KCS #11 states (or sessions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762120" y="1600200"/>
          <a:ext cx="853596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853596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KCS #11 Read-write sess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143000" y="1447920"/>
          <a:ext cx="7316640" cy="498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47920"/>
                    <a:ext cx="7316640" cy="498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unctional overview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General purpose function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Initialize, cleanup, information about the library itself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lot and token managemen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GetSlotInfo, GetTokenInfo,…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ssion managemen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OpenSession, CloseSession…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Object managemen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Create, Destroy, Copy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unctional overview, I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Encryption function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Decryption function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Digest function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igning function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MAC function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Key management (e.g. generate a key pair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allbacks (e.g. error handling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9:40:56Z</dcterms:created>
  <dc:creator>Magnus Nystrom</dc:creator>
  <dc:description/>
  <dc:language>en-US</dc:language>
  <cp:lastModifiedBy>Magnus Nystrom</cp:lastModifiedBy>
  <cp:lastPrinted>1999-07-27T16:32:36Z</cp:lastPrinted>
  <dcterms:modified xsi:type="dcterms:W3CDTF">1999-09-28T15:00:12Z</dcterms:modified>
  <cp:revision>2</cp:revision>
  <dc:subject/>
  <dc:title>RSA Laboratories’ PKCS Series - a Tutorial</dc:title>
</cp:coreProperties>
</file>