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48627"/>
        <c:axId val="257942"/>
      </c:barChart>
      <c:catAx>
        <c:axId val="37448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942"/>
        <c:crosses val="autoZero"/>
        <c:auto val="1"/>
        <c:lblAlgn val="ctr"/>
        <c:lblOffset val="100"/>
        <c:noMultiLvlLbl val="0"/>
      </c:catAx>
      <c:valAx>
        <c:axId val="257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48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F9F-35AC-44A9-AA29-AF87EA95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636-23E0-4A14-8A45-66F33C63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4A4C-EBCA-4A5A-B0CC-4ECDF36E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545A-61A6-4020-9DDA-47090FBF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4BA-EF22-47A0-82BC-DC1C1ECF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AAE7-0B23-47A2-AC5F-906FC1F8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DA2-845E-4593-ABF2-6E418898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4AE5-F7EB-4B13-9D8F-31411A2D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42D-7BC9-4CCB-868B-AB1F9BC9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CBE-DB20-4AF1-BE1C-30BDF40A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AB84-8245-4218-B0F9-305B1000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2D29-A48C-414E-8091-7FA4CE7A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51731-ECE3-4E10-A77E-116FC7B238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