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21626"/>
        <c:axId val="32980671"/>
      </c:barChart>
      <c:catAx>
        <c:axId val="80621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80671"/>
        <c:crosses val="autoZero"/>
        <c:auto val="1"/>
        <c:lblAlgn val="ctr"/>
        <c:lblOffset val="100"/>
        <c:noMultiLvlLbl val="0"/>
      </c:catAx>
      <c:valAx>
        <c:axId val="32980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21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12D-370B-436C-8CA4-23812D77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0C6-B7CB-4D91-A284-456CEF3E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D0E5-BC77-40A1-B6C4-EA79E1A9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368-F680-4A04-90ED-F1E5BA5A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2F3-D6B4-48D2-9C9B-47EC972E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7F1-FABC-4FBA-AC76-BA91B02B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098-36B1-41BD-B960-D22C6DC7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6CB-AE68-4FBB-8B76-C37BD305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72E-2C21-4379-83D1-BDC5EC86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CBB-B016-472F-92BB-3CD775B5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735-D78D-453D-9857-643548AE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EF9-C526-41C9-B7A1-1AAFBFA0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EBBEB-29B3-435D-8705-A3464E2E25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