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D033DB-1E0F-4AB9-8F2B-E56DB94805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C0915A-264A-4B66-AAED-0B3318974C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74DEAA-C77F-44C8-B217-24166B2338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0199BA-C099-490B-AD10-B6CCEDF782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255AC55-03C8-49DD-865A-C8C723069B6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43684F-74BA-4FA3-B6ED-F1242BEB0D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F769A9-28E5-4018-8636-44370DA7D2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F29189-55C6-418E-B4CA-5AA8C57BC3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915A02-ED88-4C86-9879-797D7C2EBC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9AF7F6-C1F6-4D6F-8904-CE645C3DAC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0A2E35-4BDD-43B2-9226-06E8D3221D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4472F4-EF3B-4BC1-AFB5-0C5C6FF631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EF1A66-6C14-4786-BD9A-76AC36E8D9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4DA799-A73A-49FB-86C1-846FC16787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166758-BA23-4ACA-A7C8-BD3189906B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783A089-5068-44BC-9FA2-D9E175C1CF5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FE8CE15-4B5E-48B2-891B-955F1D7FA99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C116E0-EAC4-4727-8BF5-0628C4AC69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9248F6-C2C5-4D95-AB32-B15CBC3B73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A3D83A-428C-4396-AF39-C4897CD04F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3197E3-842D-4F2F-B076-1167D0487C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F36D12-E5C3-4E6D-8EAC-8844E73079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B23BBF-0D4D-4D37-9439-57DF066170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A2782F-8722-4BDA-A836-D94E36EFF22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A51BB1-6FF3-46BE-A570-836512B702B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E4E536-96A7-46FD-819C-4C73A99118A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DF7A4A1-054F-4FD6-BA6A-D17A88C2DD1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F4B58D5-B48B-4520-9A7F-B2C528004FE9}"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04FD15-BEF9-4150-884B-7D5A458E388F}"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9CE0F2-DCB7-4488-948F-88BA89204C7F}"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DE5C8C-1302-4AE0-A461-95BBA0CAC931}"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025283-5D69-42BC-A10B-A5097284E854}"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C915C5-88A6-46C8-AF9E-DE6DEEED2978}"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F0850E-D02D-47B9-B76C-4C41C4B375C2}"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86AF72-1D7B-4E4B-A564-FD6AFAC8A3AE}"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87A456-E556-430B-BD48-C41B43F5769C}"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A5E4F9-5AFF-425C-B4F5-51AC7A64B1A3}"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0FE9AC-BB87-4F6B-8C51-7A0B14E99447}"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5B1DCD-D577-4A2A-80E9-E2D71CA8FF2B}"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8BA74B-B9B3-45DC-8839-A32C7C1F554C}"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CCAFA3-9B13-4C03-8841-8AE323D9E40E}"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F4DCB6-1A72-4791-AB42-E7D41CB9CBCB}"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84F3AA-6C95-4678-A1EA-B4C6C66CAC7B}"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8C521D-5D76-46D6-BC56-E23CD3A32D6B}"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BF60E1-DAB5-458A-81E7-239B80613CF2}"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1EB458-2983-4E4A-85ED-E8C6BFB84A6F}"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3ABC4F-C7EF-4372-941F-12D3A0CDA28D}"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912701-9F57-4100-9C42-09C9FCC6AF1A}"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06DE67-F775-4E3A-B2CA-18B1CCEDF75F}"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1E9A70-F2CE-491E-B3B0-DE3B018C139E}"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46D9C8-0C5A-45E9-98CA-AF3D4A1D9462}"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21B059-3D55-4E44-A688-E3FAC36E4F0F}"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3230B0-368E-4EA7-B330-58AF77D059DB}"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3F9A201-CF05-40E9-A9F4-6DEE363FC40F}"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B00667-AE7D-471E-9B32-6DCFA39975D2}"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24062D-3987-47E5-A3A0-9486A8B055F3}"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98E704-26C0-4F14-B0C1-D603FDD181D7}"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F82A2A-EF99-4445-9B0D-CC4DB351F2FF}"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E82B64-E9C2-44F9-82EF-760885C6174F}"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3ED3C5-67F5-4BE8-82DD-847B63673390}"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F1008B-FA53-4453-B5C2-DB0823D9B51E}"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ABBF93-EE20-41D7-A0B1-3DAA369D4404}"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A426E6-1C24-4EB5-940D-416301643309}"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61839A-40A8-440E-A9C6-1E0B84BCEB6A}"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DCC8F0-8E4D-4B18-910D-C1C91735D47A}"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2637F6-5ADC-4A2B-833A-D569F8777A28}"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FD7BC6-D19F-4894-8D57-12E84893FF23}"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73AAF5-67B4-4D48-9F57-C319A62B43D4}"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5894D8-69D0-4D53-8C9C-DF3ABEDC2ED7}"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76247D-D5F6-496E-8AD9-3068ED1393FA}"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BD300A-A593-455B-A267-1BE32F8D4014}"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793AA4-6ACD-4AC0-BFA0-07951A52AED0}"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B613F9-6CB1-4AA8-A0F5-86CAEB1B8A2B}"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F0B323-17F5-45C1-A85F-BED3FC10FAFB}"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11706A3-52E8-450E-A633-0629153BC37E}"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C83472-329B-4AE6-BB21-BEA993D53BDF}"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776A0A-016E-4323-A298-CAA38BC68C7F}"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B76A0F0-0E61-4B40-A507-EBA619005569}"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108490-9D3B-408E-BF58-BBEC51F200A5}"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562D45-DAFC-42C4-8DC0-CD1F7E9F394D}"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7A1D0B-6591-4985-A8CA-9964CFCCB371}"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D18A47-899F-4658-ABFC-FAADE5741F4D}"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907ED5-44C9-4D23-9392-ED5D2F86E8EA}"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912A35-D1E1-401F-8BB7-CEE275559D67}"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AAA12E-C6E8-410C-A73F-4DDFAA4CE7CF}"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AD4A19B-FDA3-4851-BD94-F1B8F1DE679A}"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9C8207-45EC-4E7F-B587-79F753E1BC55}"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5FF5F7-E197-417E-AB30-443918B2FA3B}"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EF337A-4FCF-4738-B1E2-7213A710652D}"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36DF98-8A33-4520-8C61-8D7AF37FE4B6}"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3245D3-2639-40D6-AF06-A554ABEC4F2A}"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57BB07C-9E2E-4D86-A1F7-272DA2D96BB1}"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A58EB0-46AC-4E4C-93B2-FCA2EE2A73FA}"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1A9CE4-B935-4256-B666-2E7900B3F077}"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D0F1AF-ACDB-430D-A7A7-51226BCD9A00}"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8D6F31-A267-4697-BF21-5BE6DF16E153}"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C0F9C9F-1E46-4640-A77B-43688A86FF7D}"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0722E1-6322-4435-9B32-847A34917B29}"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0B99FB-F221-426B-9489-49F239206B57}"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2523CF-C75E-4577-ADDA-A58ABC7E4FC6}"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30884E-6AD5-4E05-9F5C-88E03BCF05F3}"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B4D28E-6B1D-474F-8785-70F9D7249A17}"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612BFE-B55B-4E55-8C6A-1CC253159E66}"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2A4A088-F8B3-4B89-9545-C836F04E0947}"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D79FE3-EF6F-41B1-9C99-2FB80222EA4A}"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53AF5B-1A3D-4DB6-A8EF-E86FA928BF0B}"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455781-24F3-4391-BEB8-98E08E266590}"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BB61751-EDFE-40F4-96AF-49E40C9241E2}"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088B12-86C2-4DFB-A6C4-FE2C464C0E76}"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0355272-93D2-4070-A190-EB9C712C7A5A}"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E958C0-7198-4590-96FB-163B6C01C7CC}"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CBB91A-5BB6-487A-B94A-DF7FD4F23EBF}"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05F40A-B855-4843-9306-6863F888212E}"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270867-970C-4726-8B53-B87DAC83D041}"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076949-A38E-4BEB-839D-3F0303D0D941}"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44AEF0-9325-41C5-90B8-224B7CA4F7A5}"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F86EAC-0FAA-4C36-9D48-5ECD6D0B55A2}"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C8D035-E1FD-4695-BA23-4475A68C9C8E}"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11BC57-BC94-4542-A480-49B017149896}"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FC4045-11CE-4C5D-8C66-DE41F6149206}"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68A571-5AE2-41AA-A88F-2DB0E9C44D2B}"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6A4DA9-A7BF-4642-AF75-5DC1DF470DE4}"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103DE9-6088-44EB-B2C3-ED2A0415FD4E}"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21FA2C-FCA5-43D9-84FD-1F018004F349}"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B7F184-3DA7-432C-AE52-EBC54C30AE08}"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81469BB-5A54-4DB1-9084-64311E58B567}"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0A3F10-7151-4C1A-AE2B-DC128DC9956C}"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1B8F69-FBF3-40C4-A2C3-15B805713C8E}"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0800B3-041E-42CA-82A3-A88CB82CE8FC}"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D81F03-939E-4BDC-BF4B-CC303A42C674}"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0ED1C1-2F08-4C35-A6DB-6E27C0047D1E}"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CB9E57-0EFE-41FA-AC86-E5E9F4197D69}"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A2F01A-AA74-46DA-9B2F-32F944DB9042}"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5B07C2-1049-40F6-8A1E-BD735E649C8E}"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55628F-1805-4FA8-93A9-E39081A13D4D}"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1D9CA3-678E-4F52-9778-876FD533BAFA}"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92AE33-7CD5-4A01-821E-C339B73FBD11}"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288837-E4C0-467A-B5F9-3327F127C01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07AF7F-5970-4C1D-85C8-EB364BD210A5}"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5A2DA2-B54F-4CAE-BDFB-9F2E5C32C408}"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E71600-6573-4FF1-81AD-45D085CDF4E2}"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CC44C6-0642-45A6-A9C7-23A3606EF6EA}"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A0DFCB-CD59-4389-97BA-8D7957C8B82B}"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6685B8-607B-4F57-B701-F9A1F94DB201}"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B0650E-0DF2-464F-88A4-E87943CD4B7D}"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1904A4-3E2E-458E-9009-D8B883127366}"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C16063-6894-4778-933C-FEE84086ED3A}"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6474AF-DEFE-4466-86CF-E39F88F9B6FD}"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C19132-8643-4CE6-A47E-437F1A37345A}"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3F9A9B-A93D-4E86-A963-E7FA1E6B8681}"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16669B-C6DD-4EB9-9464-5709AC8459FE}"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467597-1784-4AF7-B8EE-BD68BB7327CF}"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ABA0F1-B85E-4D9A-AA5A-4689D38E7EBF}"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33C693E-49F4-42CE-AF9D-CFFE29C3E4CA}"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33699C-7DBC-4F90-A8F6-677DF8E709A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9428D6-1137-413F-A9BC-A7348964C92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3E74BA-3A83-47FA-8D4F-5961213A626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60C322-0284-484A-9366-C8BE376B95A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D76B65-3387-4ECE-8D44-D0CBDDB8F3E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34C4E2-C3DC-48A7-AC0B-08BC780B49C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F58C139-5FBA-4AC6-B92F-2ABC7676B7C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8EED9F-CCAB-41A5-A5E8-ECE9944A75E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1133B7-A4B6-4B50-B6B7-E35D0D18A99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738F19-2EE5-43BE-9904-E98AF709C91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5EFC58-A707-4716-B842-0F904A8F171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07230B-7C2E-44EA-9E63-212AB6A750A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A852B3-1591-4B16-91B8-6DC4B6B5B01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29B85C-BEE9-4FB9-BFF0-7F374BB9B2B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E013C3-6DB0-488B-B509-F07FE15046C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1AA56A-6A56-4340-B4DB-A003C17D090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B3A63C-675F-465C-BE61-924479C9290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0949F1-410B-44E9-8A6F-1E2B19FF49C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F39BFB-CB05-4B4F-AE89-8C7915889BA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8923F9-12A5-400A-AC9B-1F268F09E1C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44FE8F-4827-4B85-B5B4-EC89E4EB488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83BBF1-92E8-419D-9329-706FA16AE12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CEF5E2-A9D7-4D6C-91C4-0200D954F40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5B162F-1396-4CA8-8454-30A15968510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DD661B-82B1-4CDA-A279-EA2959976B8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8C1264-2B5D-4435-803E-6705A74B5A9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957850-D4D8-4C49-B409-749CADCEE3E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5B62BF-9776-4D9C-A365-DE7E4103EA6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038AC5-4023-4E66-8035-752EF12FAF3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28FC28-2906-4BCB-B242-4D94DC4A189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9E563C-8EC5-4DBC-AD8A-6186481E844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B72C39-6E55-4EA7-B5A9-A11368C74F1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A7EAB0-F2A2-4BDE-B4A7-A7E0D8D8774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196396-C877-460C-8B71-48C52AC2762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626673-491D-413D-B4B4-3230A4BAB60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E9D1F8-02A3-42DB-948C-E2BE94FFB19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9062E3-DAC8-4A7B-9B25-68E0DF90AFC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6D9AD7-1D63-4AC4-9404-098993A70875}"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E7FF62-A7F7-48A8-88C5-E76C13D0A09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6AB4BE-14E8-4674-A60E-C2BBF6E92F2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0A3777-C71D-4921-B659-B285B9ED76C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3AD7CE-65FC-4060-89B1-8493590F123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402EC2-C3C9-4497-9BDF-291418C9620B}"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699A56-0F6D-4F0E-BCC6-F773BC5E64CE}"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07E3AB-C624-443D-A57E-37552A7A975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DB77F8-D5FA-49AD-957F-9E2B55DA8780}"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550785-230D-49F7-AF8D-5DFB3A79786B}"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3B53E11-7D88-443E-8FE7-FACD381557F1}"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868792-2DBC-467A-9B84-F9DCC47F27AB}"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9A4AEB-3FAF-46A3-8EC1-BADA1A43619D}"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95BFC7-8919-44F6-BAA3-5370AB27E7C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FE7763-A555-4E93-B810-3AFFE3A52404}"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FDB9C7-2B52-4B61-A118-6E7659D478EB}"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C0A37B-36F6-4823-9F80-F1DABF15ECBC}"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7FDB6B-7A17-440B-84C5-2796863E3CB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AFE970-0719-4244-AF23-3DFBFB96F87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AF6D54D-A926-4BAA-A6B4-DC3D5F90542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6F1304-CE59-4284-9B0A-16CA80CA431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E7E86E-665B-4E9A-8C2E-400AB10896FB}"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7CFBB2-0481-46F5-B126-81C032A7F141}"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0B6285-1AC8-4380-8E21-B94DB3C59A08}"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85D56E-7A6C-41AB-A732-22577662CB77}"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014753-BFBF-4FC6-A5F2-4735F94A2D1B}"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E4FDCA-EF5B-49E4-A2E5-BE57E7B170D6}"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739CFA-C078-4F9C-A73D-6A3DB5EC0C13}"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AB36DE-0A99-4F5E-A4E8-BC1CCC72D22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E12CDB-00EC-4168-9EB3-0B8FEED3E48C}"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10576C-5FFA-43FB-B9E0-8202719FA84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5928B2-871F-4561-95C3-C2F3CE51FBFE}"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A8F3C5-4F7C-4B14-A0C2-61EB5FBD6BC2}"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9C94C0-9139-4DF2-B929-0226C78EB7A8}"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F160503-B15A-49AB-BE4A-472C46DEC6B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EF8BA3-DA0B-47E2-9E2D-215F2BB161D3}"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2F57FE-ED9A-42B8-BB0C-7E3E553A41DF}"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9AE28D-FFD6-4E87-8C70-C21DB47F2007}"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226F12-A0FC-4904-9F11-27884A22D7D9}"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4A5FE6-9126-429E-9D40-CD9AC9D806F8}"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D8C8EA-DDC8-4698-943E-07E63CA7A578}"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DBFEB2-7BA4-4F21-A139-7FA2B07821ED}"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BDD415-55ED-4F2C-A40E-91ED7A12FD7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4EA59B-F2B7-4A38-9B67-ABC224232327}"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DBA1EF-A532-48C5-B2BE-6ECF145C13A0}"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C1559A-0A05-4C6E-B7E4-D915F5626CDD}"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793AA4-3944-4D85-B801-0447408BFC5A}"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6F1144-F994-4607-B97F-FC433D24A15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