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00E0-A0EA-49A2-9B4F-7C4CEECD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0" y="564912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413-A35B-4E99-9BDD-886C6843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71976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84C-6CF6-4593-AE8F-5FB18ABB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98896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0628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98896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40628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60B5-18F8-41EB-818B-8B193609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0" y="541008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191120" y="4266720"/>
            <a:ext cx="49528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0" y="541008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04A7-87BF-408C-B4CD-62F7994F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1976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0" y="564912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71976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98896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0628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98896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40628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8CE-65C8-490F-855A-66C7AC40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1FC-5586-4BAC-8931-B223AB54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E9F3-054E-42E5-84AE-0085AD85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91120" y="4266720"/>
            <a:ext cx="49528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4F94-BCFE-4C27-A1BC-363EB3C9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E597-9B8E-4EB2-9A3C-198C71A1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1976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F5FD-6932-491F-8D7F-1403242C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227-58D8-4B4F-980E-5E23A827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ulle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9824-FF85-4D78-A0B3-DA427B399B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SA Conference Europe 200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0" y="548640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lcome to RSA Conference Europe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im Bidz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SA Conference Chairm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almnew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almnews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- Technolog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05120"/>
            <a:ext cx="58672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ptography has been optimized to fit into smaller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819520"/>
            <a:ext cx="5867280" cy="190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ques for using RS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orithm in small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on of new certificat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ts by RSA 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standardsnew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- Standar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KCS #15 for Smart Cards pub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P specifies RSA RC5 as only mandatory symmetric cipher for clients an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AES fina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rt laws relax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certificates gaining momen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Internet takes of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s and technology progr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onferenc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Conference Europe 200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class tr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60 ta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+ exhi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spon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 more than 750 attend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agen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62520" y="228240"/>
            <a:ext cx="5067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14440" y="1600200"/>
            <a:ext cx="4343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cks and att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 tr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RSA Con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hack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Hacks and Attack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ens arrested for global multi-mill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llar Internet fra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oft free hotmail hacked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 million users impa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cker from Hanover convict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publishing TFN program us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nial-of-Service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news agency’s websit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a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govne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govnews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Expor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law on encryption liber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y reduces constraints on mass market crypt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ish paper affirms commitment to relax cryptography ex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govnew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- Expor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relaxes strong crypto export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K Commons Committee s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dish law allows for export of up to 128 bit symmetric cryp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wireles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Market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Internet Takes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160" y="5943600"/>
            <a:ext cx="26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Forrester Research, Dec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409840"/>
            <a:ext cx="7772400" cy="24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third of all Europeans will use the Net through mobile phones 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ne out of 10 Internet leaders in Europe plan to launch mobile Internet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ms are building sites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ertne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certificates broadly adop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421000"/>
            <a:ext cx="7772400" cy="11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 Commission uses legal framework to guarantee security of electronic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5" name="certnews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certnews2" descr=""/>
            <p:cNvPicPr/>
            <p:nvPr/>
          </p:nvPicPr>
          <p:blipFill>
            <a:blip r:embed="rId3"/>
            <a:srcRect l="51669" t="26666" r="0" b="0"/>
            <a:stretch/>
          </p:blipFill>
          <p:spPr>
            <a:xfrm>
              <a:off x="4724280" y="1828800"/>
              <a:ext cx="441972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84360" y="2421000"/>
              <a:ext cx="7772400" cy="1171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U Commission uses legal framework to guarantee security of electronic signat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4360" y="3352680"/>
              <a:ext cx="7772400" cy="1069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ustria First Chamber of Parliament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assed digital signature ac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5800" y="1905120"/>
              <a:ext cx="7772400" cy="411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igital certificates broadly adop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1" name="certnews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certnews3" descr=""/>
            <p:cNvPicPr/>
            <p:nvPr/>
          </p:nvPicPr>
          <p:blipFill>
            <a:blip r:embed="rId5"/>
            <a:srcRect l="51669" t="26666" r="0" b="0"/>
            <a:stretch/>
          </p:blipFill>
          <p:spPr>
            <a:xfrm>
              <a:off x="4724280" y="1828800"/>
              <a:ext cx="441972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4360" y="2421000"/>
              <a:ext cx="7772400" cy="1171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U Commission uses legal framework to guarantee security of electronic signat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4360" y="3352680"/>
              <a:ext cx="7772400" cy="1069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ustria First Chamber of Parliament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assed digital signature ac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4357800"/>
              <a:ext cx="7772400" cy="1033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inland bill on electronic personal identification car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1905120"/>
              <a:ext cx="7772400" cy="411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igital certificates broadly adop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Market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certnews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certificates broadly adop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cabinet approved draft law on electronic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1" name="certnews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85800" y="1905120"/>
              <a:ext cx="7772400" cy="411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igital certificates broadly adop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rench cabinet approved draft law on electronic signat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rish government outlined legislative proposals on electronic signatures, electronic contracts, certification service provi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4" name="certnews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85800" y="1905120"/>
              <a:ext cx="7772400" cy="411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igital certificates broadly adop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rench cabinet approved draft law on electronic signat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rish government outlined legislative proposals on electronic signatures, electronic contracts, certification service provi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talian technical rules for digital signatures publis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Market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gital Certificate and PKI Adop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69960" y="2386080"/>
          <a:ext cx="237816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386080"/>
                    <a:ext cx="237816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362320" y="3948120"/>
          <a:ext cx="3413160" cy="227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948120"/>
                    <a:ext cx="341316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725280" y="3809880"/>
            <a:ext cx="686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15600" y="2147760"/>
            <a:ext cx="686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78360" y="2130480"/>
            <a:ext cx="228600" cy="2286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1960" y="594360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Data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53040" y="2057400"/>
            <a:ext cx="1171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ivi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360" y="2435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52680" y="2362320"/>
            <a:ext cx="103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78360" y="2739960"/>
            <a:ext cx="228600" cy="228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53400" y="2666880"/>
            <a:ext cx="56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78360" y="3044880"/>
            <a:ext cx="228600" cy="2286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54120" y="2971800"/>
            <a:ext cx="2553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78360" y="3349800"/>
            <a:ext cx="2286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53400" y="327672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78360" y="3654360"/>
            <a:ext cx="22860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52320" y="3581280"/>
            <a:ext cx="178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78360" y="3959280"/>
            <a:ext cx="228600" cy="228600"/>
          </a:xfrm>
          <a:prstGeom prst="rect">
            <a:avLst/>
          </a:prstGeom>
          <a:solidFill>
            <a:srgbClr val="d7cdb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52680" y="3886200"/>
            <a:ext cx="1375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20:54:09Z</dcterms:created>
  <dc:creator>Valued Sony Customer</dc:creator>
  <dc:description/>
  <dc:language>en-US</dc:language>
  <cp:lastModifiedBy>Administrator</cp:lastModifiedBy>
  <dcterms:modified xsi:type="dcterms:W3CDTF">2000-04-11T09:39:12Z</dcterms:modified>
  <cp:revision>117</cp:revision>
  <dc:subject/>
  <dc:title>RSA Conference Europe 2000</dc:title>
</cp:coreProperties>
</file>