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6941-647A-4AB6-B5A1-DFBF4344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much for your time today, and, at this point, I would like to answer any questions that you may hav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031-8E80-496B-826E-361D1981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00A-EB5D-4742-BB4D-0B31F826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BF7-1576-4B62-8276-B4ADA043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FB9-69B8-45E8-B143-DA000B5C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955-278F-4EE1-8C9D-2E51253F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2D5-A3C1-4A79-A68F-6A3E68BC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B1D-64A8-48DC-8D20-5BEC8BBB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620-1396-4A35-8349-8930BD5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3FF-A702-4C4D-B2D5-51192B70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710-8CEA-4A70-AF3E-CE6243DA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EB6-B3D0-46D4-AF3A-5CED88B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374-BF59-40D9-94C9-980D74A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2558-FD53-4A39-8D86-28D762BE9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0" y="50292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ior Vice President,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chemati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Multi-Party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5978520"/>
            <a:ext cx="3886200" cy="7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 multi-party exchanges, the exchange becomes the keystone of trust and interoperability becomes necessa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10480" y="4854600"/>
            <a:ext cx="1231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ways be invol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1640" y="1928880"/>
            <a:ext cx="12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is a Critical Enabl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arties to preven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 traffic, browsing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s for priv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 authorship and integr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nforc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amless compatibil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ired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83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362320" y="5715000"/>
            <a:ext cx="4419360" cy="533520"/>
            <a:chOff x="2362320" y="5715000"/>
            <a:chExt cx="4419360" cy="533520"/>
          </a:xfrm>
        </p:grpSpPr>
        <p:sp>
          <p:nvSpPr>
            <p:cNvPr id="137" name=""/>
            <p:cNvSpPr/>
            <p:nvPr/>
          </p:nvSpPr>
          <p:spPr>
            <a:xfrm flipV="1">
              <a:off x="2362320" y="5715000"/>
              <a:ext cx="4419360" cy="533520"/>
            </a:xfrm>
            <a:custGeom>
              <a:avLst/>
              <a:gdLst>
                <a:gd name="textAreaLeft" fmla="*/ 545040 w 4419360"/>
                <a:gd name="textAreaRight" fmla="*/ 3874320 w 4419360"/>
                <a:gd name="textAreaTop" fmla="*/ 65520 h 533520"/>
                <a:gd name="textAreaBottom" fmla="*/ 468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53" y="21600"/>
                  </a:lnTo>
                  <a:lnTo>
                    <a:pt x="1647" y="21600"/>
                  </a:lnTo>
                  <a:close/>
                </a:path>
              </a:pathLst>
            </a:custGeom>
            <a:solidFill>
              <a:srgbClr val="e7c14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7640" y="5753160"/>
              <a:ext cx="1669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1447920"/>
            <a:ext cx="2895480" cy="4800600"/>
            <a:chOff x="1676520" y="1447920"/>
            <a:chExt cx="2895480" cy="4800600"/>
          </a:xfrm>
        </p:grpSpPr>
        <p:sp>
          <p:nvSpPr>
            <p:cNvPr id="141" name=""/>
            <p:cNvSpPr/>
            <p:nvPr/>
          </p:nvSpPr>
          <p:spPr>
            <a:xfrm>
              <a:off x="167652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054000">
              <a:off x="2163960" y="3859200"/>
              <a:ext cx="2227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A 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1640" y="1447920"/>
            <a:ext cx="2895480" cy="4800600"/>
            <a:chOff x="4571640" y="1447920"/>
            <a:chExt cx="2895480" cy="4800600"/>
          </a:xfrm>
        </p:grpSpPr>
        <p:sp>
          <p:nvSpPr>
            <p:cNvPr id="144" name=""/>
            <p:cNvSpPr/>
            <p:nvPr/>
          </p:nvSpPr>
          <p:spPr>
            <a:xfrm flipH="1">
              <a:off x="457128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3477600">
              <a:off x="5081760" y="3858480"/>
              <a:ext cx="1416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art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81280" y="2590920"/>
            <a:ext cx="3765600" cy="312408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SA Wireless Development C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RSA Wireless Development Cen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641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ing corporate, product and partner development in wireless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extensions to RSA Security’s wireless produ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by John Adams, CTO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managers for Labs, R&amp;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rpora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in Stockho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8640" y="3048120"/>
            <a:ext cx="2301840" cy="191124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abl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766960"/>
            <a:ext cx="342900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TLS certificat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CS #15 Crypto information storage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5000" y="2766960"/>
            <a:ext cx="3255840" cy="340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T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si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0640" y="1932120"/>
            <a:ext cx="2052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31080" y="1933560"/>
            <a:ext cx="295884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2514600"/>
            <a:ext cx="5486400" cy="4343400"/>
          </a:xfrm>
          <a:prstGeom prst="rect">
            <a:avLst/>
          </a:prstGeom>
          <a:solidFill>
            <a:srgbClr val="b28c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s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4800600"/>
            <a:ext cx="1523880" cy="1295280"/>
            <a:chOff x="228600" y="4800600"/>
            <a:chExt cx="1523880" cy="1295280"/>
          </a:xfrm>
        </p:grpSpPr>
        <p:sp>
          <p:nvSpPr>
            <p:cNvPr id="159" name=""/>
            <p:cNvSpPr/>
            <p:nvPr/>
          </p:nvSpPr>
          <p:spPr>
            <a:xfrm>
              <a:off x="228600" y="480060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720" y="5302080"/>
              <a:ext cx="59220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ru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52480" y="4800600"/>
            <a:ext cx="7391520" cy="1295280"/>
            <a:chOff x="1752480" y="4800600"/>
            <a:chExt cx="7391520" cy="1295280"/>
          </a:xfrm>
        </p:grpSpPr>
        <p:sp>
          <p:nvSpPr>
            <p:cNvPr id="162" name=""/>
            <p:cNvSpPr/>
            <p:nvPr/>
          </p:nvSpPr>
          <p:spPr>
            <a:xfrm>
              <a:off x="1752480" y="480060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keon%20logo%20grey" descr=""/>
            <p:cNvPicPr/>
            <p:nvPr/>
          </p:nvPicPr>
          <p:blipFill>
            <a:blip r:embed="rId1"/>
            <a:stretch/>
          </p:blipFill>
          <p:spPr>
            <a:xfrm>
              <a:off x="1817640" y="5114880"/>
              <a:ext cx="22669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0" y="4944960"/>
              <a:ext cx="44956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ertification and policy management systems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nded enterprise 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8600" y="3352680"/>
            <a:ext cx="1523880" cy="1295640"/>
            <a:chOff x="228600" y="3352680"/>
            <a:chExt cx="1523880" cy="1295640"/>
          </a:xfrm>
        </p:grpSpPr>
        <p:sp>
          <p:nvSpPr>
            <p:cNvPr id="166" name=""/>
            <p:cNvSpPr/>
            <p:nvPr/>
          </p:nvSpPr>
          <p:spPr>
            <a:xfrm>
              <a:off x="228600" y="3352680"/>
              <a:ext cx="1523880" cy="129564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20" y="3854520"/>
              <a:ext cx="7660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rivac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52480" y="3352680"/>
            <a:ext cx="7391520" cy="1295640"/>
            <a:chOff x="1752480" y="3352680"/>
            <a:chExt cx="7391520" cy="1295640"/>
          </a:xfrm>
        </p:grpSpPr>
        <p:sp>
          <p:nvSpPr>
            <p:cNvPr id="169" name=""/>
            <p:cNvSpPr/>
            <p:nvPr/>
          </p:nvSpPr>
          <p:spPr>
            <a:xfrm>
              <a:off x="1752480" y="3352680"/>
              <a:ext cx="7391520" cy="129564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bsafe%20logo%20grey" descr=""/>
            <p:cNvPicPr/>
            <p:nvPr/>
          </p:nvPicPr>
          <p:blipFill>
            <a:blip r:embed="rId2"/>
            <a:stretch/>
          </p:blipFill>
          <p:spPr>
            <a:xfrm>
              <a:off x="1817640" y="3673440"/>
              <a:ext cx="2559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0" y="3497400"/>
              <a:ext cx="444816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reless security software and embedded encryption engines for wireless devices and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" y="1905120"/>
            <a:ext cx="1523880" cy="1295280"/>
            <a:chOff x="228600" y="1905120"/>
            <a:chExt cx="1523880" cy="1295280"/>
          </a:xfrm>
        </p:grpSpPr>
        <p:sp>
          <p:nvSpPr>
            <p:cNvPr id="173" name=""/>
            <p:cNvSpPr/>
            <p:nvPr/>
          </p:nvSpPr>
          <p:spPr>
            <a:xfrm>
              <a:off x="228600" y="190512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2408400"/>
              <a:ext cx="133272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uthentic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52480" y="1905120"/>
            <a:ext cx="7391520" cy="1295280"/>
            <a:chOff x="1752480" y="1905120"/>
            <a:chExt cx="7391520" cy="1295280"/>
          </a:xfrm>
        </p:grpSpPr>
        <p:sp>
          <p:nvSpPr>
            <p:cNvPr id="176" name=""/>
            <p:cNvSpPr/>
            <p:nvPr/>
          </p:nvSpPr>
          <p:spPr>
            <a:xfrm>
              <a:off x="1752480" y="190512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securid%20logo%20grey" descr=""/>
            <p:cNvPicPr/>
            <p:nvPr/>
          </p:nvPicPr>
          <p:blipFill>
            <a:blip r:embed="rId3"/>
            <a:stretch/>
          </p:blipFill>
          <p:spPr>
            <a:xfrm>
              <a:off x="1817640" y="2222640"/>
              <a:ext cx="274176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0" y="2049480"/>
              <a:ext cx="441180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mbedded in handsets; authorization management services for operators and carr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 MultiPrim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br>
              <a:rPr sz="3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Cryptography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SA Security and Compaq unveil MultiPrime, advanced cryptography for wireless &amp; embe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X performance of regular RSA algorithm in wireless handheld signin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6X acceleration for wireles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ll strength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forthcoming BSAFE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. BSAFE WTLS-C in June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Compaq accelerators June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ransi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990720"/>
            <a:ext cx="5181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Before Us – Beyond Technology, Standards &amp;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23960" y="302904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ivac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85400" y="3454560"/>
            <a:ext cx="319716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terpr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Gover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Oper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7960" y="2185920"/>
            <a:ext cx="5501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has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520" y="2789280"/>
            <a:ext cx="6721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e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00" y="1698480"/>
            <a:ext cx="90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reless devices will be able to track an individual’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0" name="privac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Government?</a:t>
              </a: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6" name="privacy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Government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vacy Concer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control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7" name="control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1" name="control3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4048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ol of De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889600"/>
            <a:ext cx="4486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is if and when the devices me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560" y="1925640"/>
            <a:ext cx="7529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 today’s devices, different parties control the access to,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tent on, and policy management of each devi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lcome to a Wireless Worl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…does reality justify the h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go from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liabilit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21640" y="4533840"/>
            <a:ext cx="1145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1" name="reliabilit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9040" y="2505240"/>
            <a:ext cx="3964680" cy="3840120"/>
            <a:chOff x="4649040" y="2505240"/>
            <a:chExt cx="3964680" cy="3840120"/>
          </a:xfrm>
        </p:grpSpPr>
        <p:pic>
          <p:nvPicPr>
            <p:cNvPr id="225" name="reliability3" descr=""/>
            <p:cNvPicPr/>
            <p:nvPr/>
          </p:nvPicPr>
          <p:blipFill>
            <a:blip r:embed="rId3"/>
            <a:srcRect l="51496" t="36527" r="5801" b="7475"/>
            <a:stretch/>
          </p:blipFill>
          <p:spPr>
            <a:xfrm>
              <a:off x="4708440" y="2505240"/>
              <a:ext cx="390528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7360" y="3048120"/>
              <a:ext cx="1233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p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9040" y="3048120"/>
              <a:ext cx="1553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ill certify which applications can work on which phones with various operating systems and different opera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the phone reboot to accept new appl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prevent introduction of viru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recover when an application crashes a phone – and who pay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vice Reliabil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just got bigger – with a whole new set of wireless users, applications, and infrastructur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technologies to ensure security, performance and interoperability are her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hallenge now is to define policy and management to ensure privacy, reliability, and system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35560" y="5016600"/>
            <a:ext cx="45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Most Trusted Name in e-Security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38800" y="5653080"/>
            <a:ext cx="265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ww.rsasecurity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SA%20logo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— It’s Everywhere, Anywhere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71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phones to reach 1 billion by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-ready phones will outnumber PCs b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million wireless phones with Inter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by year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of B2C commerce on wireless devices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ut of three Europeans to tap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e Internet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8% of wireless traf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voic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ed visual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low, slow,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5360" y="5229360"/>
            <a:ext cx="3611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- Absolut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s Reality Justify the Hyp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752480"/>
            <a:ext cx="3581280" cy="3581640"/>
          </a:xfrm>
          <a:prstGeom prst="noSmoking">
            <a:avLst>
              <a:gd name="adj" fmla="val 12500"/>
            </a:avLst>
          </a:prstGeom>
          <a:solidFill>
            <a:srgbClr val="d8042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, It’s Only the Beginning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pricing is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r apps are around the c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costs held in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vices hitting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and capacity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 impro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demand on the 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Europe is Lea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0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leader in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GSM standard drives 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ly high quality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illing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penetration for GSM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s aggressively promot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, SMS and other data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consolidation and partn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Impact of Wireless on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478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anytime,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applications, rea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devic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sign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schematic1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schematic1b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schematic1c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30960" y="1905120"/>
              <a:ext cx="1123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security in the enterprise is essentially an authentication, authorization, and privac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the Enterpr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chematic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B2B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Business-to-Business exchanges, integrity and non-repudiation become additional security conc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52:55Z</dcterms:created>
  <dc:creator>garrett</dc:creator>
  <dc:description/>
  <dc:language>en-US</dc:language>
  <cp:lastModifiedBy>Administrator</cp:lastModifiedBy>
  <cp:lastPrinted>2000-03-31T15:48:55Z</cp:lastPrinted>
  <dcterms:modified xsi:type="dcterms:W3CDTF">2000-04-11T09:41:55Z</dcterms:modified>
  <cp:revision>95</cp:revision>
  <dc:subject/>
  <dc:title>PowerPoint Presentation</dc:title>
</cp:coreProperties>
</file>