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BC55-28D6-4433-A7BD-29CA93BC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9B6-F56C-4BDF-863A-A0F5A990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EDF-B821-45BB-B51B-0E320AFB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3539-CB07-4C90-B14C-AB3421A82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545-01CB-4118-BEB7-1D7B2575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89A1-D14C-4C28-B01B-7D6A5E39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95C4-8EFF-4BDE-B077-3772A4DB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114-BA66-407E-93DE-7D152D7A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1009-A57F-45DC-8D05-2542368D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30AA-913F-4502-853E-515D73D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E35-6A49-431B-B087-2935DC1B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E995-070C-4192-927F-7D1ABDF8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FC0C-21C7-45D6-BD82-4CBD6A60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894A-62A9-4110-A670-7952584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D1B-CBAC-4D5B-809C-2BD3DFDA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224C-71E1-4581-AF4F-B466390F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BFD9-3B2D-4050-9793-FB9D6269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F76-1FE8-4BCD-919C-6A2A8457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D3A9-9E26-459A-A8AD-59B4AD80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844-3F5F-4DA9-AF22-EBA0748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E1C7-33CB-4032-814E-DC092D3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C4F3-1B35-44E4-8918-14789FCF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05CD-1609-458B-886B-089581ED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AF3-607E-4BE4-A305-D6184334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Symbol"/>
                <a:ea typeface="Symbo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Symbol"/>
                <a:ea typeface="Symbol"/>
              </a:rPr>
              <a:t>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American International Group (2000)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Network Security Risks and Insu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8D24-DB1C-4346-BAFE-B5E49B81C6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" name="AIG" descr=""/>
          <p:cNvPicPr/>
          <p:nvPr/>
        </p:nvPicPr>
        <p:blipFill>
          <a:blip r:embed="rId3"/>
          <a:stretch/>
        </p:blipFill>
        <p:spPr>
          <a:xfrm>
            <a:off x="0" y="0"/>
            <a:ext cx="77148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A496-937D-40F1-9BB6-935B17C6C3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167652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itigating the Risks of E-Business: Insurance Initiativ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Presented By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Tahoma"/>
              </a:rPr>
              <a:t>For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RSA CONFERENCE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an Jose, CA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Tuesday, January 18, 2000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AIG" descr=""/>
          <p:cNvPicPr/>
          <p:nvPr/>
        </p:nvPicPr>
        <p:blipFill>
          <a:blip r:embed="rId2"/>
          <a:stretch/>
        </p:blipFill>
        <p:spPr>
          <a:xfrm>
            <a:off x="0" y="152280"/>
            <a:ext cx="83808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: covers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bodily injury/tangible property damage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ffered by others.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&amp;O: Maybe coverage if you provide professional services to others for a fe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 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GL- Sometimes.  (Links, ads not covered. Recent carriers are expressly excluding.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ahoma"/>
              </a:rPr>
              <a:t>NO.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he Rol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sset protec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Financia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intangible asse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reputatio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echnological products and servic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itional smoothing/as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ecff"/>
                </a:solidFill>
                <a:latin typeface="Tahoma"/>
              </a:rPr>
              <a:t>Technology + Insurance = Heightened Trust Environ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fically designed for risks associated with failures of your network or computer security system to prevent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mputer Attacks (unauthorized access/use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ransmission of a computer virus to other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Disclosure of client privacy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Network Security Insuranc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7 Basic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abilit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edi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(intangible/information) property lo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ss of eRevenu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ublic relations (crisis mgmt)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iabili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nial of Service Claim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irus transmi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sclosure of personal or confidential data of your custom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fessional errors and omiss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Media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ib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lan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m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righ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tent infringemen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ight of privacy viola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yber-extor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iring private investigator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investigation expen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ying ransom demand (must be reasonab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Property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are these assets worth to you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accounting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trade secrets (may require additional information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ustom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competitive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 Narrow"/>
              </a:rPr>
              <a:t>supplier informa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Business interruption Coverag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 business interruption: Revenue generated from on-line transactions ceases due to attack on your syst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pendent business interruption Revenue generated from on-line transactions ceases due to attack on a system of a business you depend up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xtended business interrup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Network Security: How big is the problem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at risks do you fac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an traditional insurance hel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oday’s New Insurance solution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7 basic risks to cov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oss prevention services to ask fo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ajor terms to require and avoid!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riminal Reward, Public Rela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inal Reward: $25-50K reward for information leading to the arrest and conviction of a cyber-criminal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sis communications: $25-$50k for public relations/media/crisis communication fees to restore investor or customer confidence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ss Prevention Servi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Assessment: Cost effective security assessment conducted by a member of the insurer’s panel.  Partial or total reimbursement sometimes available if you decide to purchase policy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egal analysis: Access to specialized technology law firm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y failures” include attacks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sider or outsid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tentional or non-intentiona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fit motivated or “for fun”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argeted or untargeted victi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rom failures of software, hardware or firmwar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ocial engineering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Key Term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Claim (beyond just lawsuit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Loss (including punitive damag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oad definition of information ass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bility to underwrite trade secre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orld-wide cove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is not covered?</a:t>
            </a:r>
            <a:br>
              <a:rPr sz="4400"/>
            </a:br>
            <a:r>
              <a:rPr b="0" lang="en-US" sz="2000" spc="-1" strike="noStrike">
                <a:solidFill>
                  <a:srgbClr val="ccffff"/>
                </a:solidFill>
                <a:latin typeface="Tahoma"/>
              </a:rPr>
              <a:t>(not exclusive)</a:t>
            </a:r>
            <a:endParaRPr b="0" lang="en-US" sz="2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cts of God, fire, wind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errorism, explosions, war…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or project plann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urities liabilities, ERISA liabili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ttacks on internet infrastructure itself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raud (not applicable to computer attacks by employee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Transactional Smoothing: The Future of Insuranc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ecff"/>
                </a:solidFill>
                <a:uFillTx/>
                <a:latin typeface="Arial Narrow"/>
              </a:rPr>
              <a:t>E-Business Transaction Risk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 of the parti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Identity/quality of the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bility to pay / Ability to ship-manufa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Actual payment / Actual deliver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Damage to goo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Narrow"/>
              </a:rPr>
              <a:t>Security &amp; Reliability of network / infra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ounding Out</a:t>
            </a:r>
            <a:br>
              <a:rPr sz="4400"/>
            </a:br>
            <a:r>
              <a:rPr b="0" lang="en-US" sz="2800" spc="-1" strike="noStrike">
                <a:solidFill>
                  <a:srgbClr val="ccffff"/>
                </a:solidFill>
                <a:latin typeface="Tahoma"/>
              </a:rPr>
              <a:t>(focused on management liability)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s and officers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PO insuranc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&amp;O insurance (brick-and-mortar operations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mployment Practices (including discrimination/sexual harassment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ffff"/>
                </a:solidFill>
                <a:latin typeface="Tahoma"/>
              </a:rPr>
              <a:t>For More Inform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insurance broker,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Your local AIG offi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y R. Sagalow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IG Executive Director, eBusiness Corporate Product Developmen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175 Water Street, NY NY 10038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2-458-2429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y.sagalow@aig.com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newproduct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@aig.com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183% increase in number of computer attack incidents in 1999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CERT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53% of respondents rate overall state of infosecurity at their co. as average or below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 1999 Security Survey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47.8% increase in unauthorized access by outsiders </a:t>
            </a: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(Information Security Magazine)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91 breaches resulting in $23M loss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 think many people have a false sense of security”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ichael Vatis,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 of the FBI National Infrastructure Protection Center, on threat of cyberterroris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Big is the Proble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DUniver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How Important is Thi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$1 trillion in revenue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Cisco Systems Inc.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210M in internet users by 2002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Drain Rauscher Wessels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On-line Shopping Revenue will top US $7B by 2000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rrester Research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90% of all e-commerce is transacted by just 10% of the world’s e-commerce companies.</a:t>
            </a:r>
            <a:r>
              <a:rPr b="0" lang="en-US" sz="2400" spc="-1" strike="noStrike">
                <a:solidFill>
                  <a:srgbClr val="ccec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What Risks do you face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Property- loss/theft of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in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asse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-Business interruption lo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Liability to others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Media- content related liabil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yber-extor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resulting i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financial damage, damage to reputation, stock drop, loss of important assets/opportunit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operty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s: Fire, windstorm etc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rime Policies?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ed Criminals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usually 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employees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(“computer fraud” rider adds non-employee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vers: </a:t>
            </a:r>
            <a:r>
              <a:rPr b="1" lang="en-US" sz="2800" spc="-1" strike="noStrike">
                <a:solidFill>
                  <a:srgbClr val="ccecff"/>
                </a:solidFill>
                <a:latin typeface="Tahoma"/>
              </a:rPr>
              <a:t>Tangible</a:t>
            </a: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 property onl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an Traditional Insurance help? (part 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usiness Interruption Policies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Named Peril: </a:t>
            </a: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ee Property Polici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yber-extortion: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not in any standard corporate polic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ecff"/>
                </a:solidFill>
                <a:latin typeface="Tahoma"/>
              </a:rPr>
              <a:t>sometimes found in certain K&amp;R or contaminated goods insurance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6:12:37Z</dcterms:created>
  <dc:creator>TSagalow</dc:creator>
  <dc:description/>
  <dc:language>en-US</dc:language>
  <cp:lastModifiedBy>User</cp:lastModifiedBy>
  <cp:lastPrinted>1999-10-22T16:29:03Z</cp:lastPrinted>
  <dcterms:modified xsi:type="dcterms:W3CDTF">2000-01-18T23:48:32Z</dcterms:modified>
  <cp:revision>26</cp:revision>
  <dc:subject/>
  <dc:title>No Slide Title</dc:title>
</cp:coreProperties>
</file>