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39B-3DB9-4E19-93AC-FBBCC0933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BE8-E55D-47B4-9D35-FB1BC2C3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8C9-06DB-4F57-AB5D-EC915C9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BF1-57D7-4A4E-B6C2-239F3591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BB7-D0A8-41A0-AE2E-F74CCCA3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5EF-158C-4EDB-9415-AF01B0E1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23E-5BD1-486E-B281-3463B539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A75-FF9D-4CB9-91DF-861AC820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033-49FE-42F9-AF16-B94960C1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F5C-53B4-456D-9CA0-4EEE1403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1C9-13F6-4FE0-93E9-6F8FB1D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D49-2691-4A4C-BB8F-F222EC8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F09-F998-41D7-8578-E02173F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3_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1B9B-5CC1-41EE-BE1C-FAB76D741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2_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20574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960" y="383760"/>
            <a:ext cx="834516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Partnerships that Define th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Landsc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061720"/>
            <a:ext cx="4291200" cy="39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teams with Intel, Microsoft, Cisco, Novell and Lotus to strengthen e-Securit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BT sign glob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on reseller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AIG Roll-ou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Business insurance al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Capital accelerates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e-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McGraw-Hill laun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31436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 Flatow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&amp; Executive Produc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Friday -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 Campagnoni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Technology Offic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 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Denniger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 &amp;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view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Coviello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t and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40" y="344520"/>
            <a:ext cx="709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Business in the New Millenn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2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y and Announc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49576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. Vice President, 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419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62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695760" y="0"/>
            <a:ext cx="5448240" cy="6858000"/>
            <a:chOff x="3695760" y="0"/>
            <a:chExt cx="5448240" cy="6858000"/>
          </a:xfrm>
        </p:grpSpPr>
        <p:pic>
          <p:nvPicPr>
            <p:cNvPr id="95" name="Agendabg1" descr=""/>
            <p:cNvPicPr/>
            <p:nvPr/>
          </p:nvPicPr>
          <p:blipFill>
            <a:blip r:embed="rId2"/>
            <a:stretch/>
          </p:blipFill>
          <p:spPr>
            <a:xfrm>
              <a:off x="3695760" y="0"/>
              <a:ext cx="5448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962520" y="228600"/>
              <a:ext cx="50673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343400" y="19051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’s wireless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dustry partner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ves toward industry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gitalasse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digitalasset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914120"/>
            <a:ext cx="380988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ed e-Busines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281240"/>
            <a:ext cx="380988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3809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informa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ellphone" descr=""/>
          <p:cNvPicPr/>
          <p:nvPr/>
        </p:nvPicPr>
        <p:blipFill>
          <a:blip r:embed="rId3"/>
          <a:stretch/>
        </p:blipFill>
        <p:spPr>
          <a:xfrm>
            <a:off x="523800" y="1533600"/>
            <a:ext cx="20923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" descr=""/>
          <p:cNvPicPr/>
          <p:nvPr/>
        </p:nvPicPr>
        <p:blipFill>
          <a:blip r:embed="rId4"/>
          <a:stretch/>
        </p:blipFill>
        <p:spPr>
          <a:xfrm>
            <a:off x="2425680" y="3618000"/>
            <a:ext cx="214956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receipt" descr=""/>
          <p:cNvPicPr/>
          <p:nvPr/>
        </p:nvPicPr>
        <p:blipFill>
          <a:blip r:embed="rId5"/>
          <a:stretch/>
        </p:blipFill>
        <p:spPr>
          <a:xfrm>
            <a:off x="522360" y="3621240"/>
            <a:ext cx="1474560" cy="220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2120" y="1163520"/>
            <a:ext cx="8602920" cy="0"/>
          </a:xfrm>
          <a:prstGeom prst="line">
            <a:avLst/>
          </a:prstGeom>
          <a:ln w="3492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7543800" cy="6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 Strategy 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2040" y="5052960"/>
            <a:ext cx="3714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suance and management of wireless and wired certificates for the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338640"/>
            <a:ext cx="37670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edded authentication solutions and management system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1908000"/>
            <a:ext cx="4071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and encryption engine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safe%20logo%20grey" descr=""/>
          <p:cNvPicPr/>
          <p:nvPr/>
        </p:nvPicPr>
        <p:blipFill>
          <a:blip r:embed="rId1"/>
          <a:stretch/>
        </p:blipFill>
        <p:spPr>
          <a:xfrm>
            <a:off x="561960" y="1925640"/>
            <a:ext cx="3817800" cy="973080"/>
          </a:xfrm>
          <a:prstGeom prst="rect">
            <a:avLst/>
          </a:prstGeom>
          <a:ln w="0">
            <a:noFill/>
          </a:ln>
        </p:spPr>
      </p:pic>
      <p:pic>
        <p:nvPicPr>
          <p:cNvPr id="113" name="securid%20logo%20grey" descr=""/>
          <p:cNvPicPr/>
          <p:nvPr/>
        </p:nvPicPr>
        <p:blipFill>
          <a:blip r:embed="rId2"/>
          <a:stretch/>
        </p:blipFill>
        <p:spPr>
          <a:xfrm>
            <a:off x="561960" y="3503520"/>
            <a:ext cx="4065480" cy="981000"/>
          </a:xfrm>
          <a:prstGeom prst="rect">
            <a:avLst/>
          </a:prstGeom>
          <a:ln w="0">
            <a:noFill/>
          </a:ln>
        </p:spPr>
      </p:pic>
      <p:pic>
        <p:nvPicPr>
          <p:cNvPr id="114" name="keon%20logo%20grey" descr=""/>
          <p:cNvPicPr/>
          <p:nvPr/>
        </p:nvPicPr>
        <p:blipFill>
          <a:blip r:embed="rId3"/>
          <a:stretch/>
        </p:blipFill>
        <p:spPr>
          <a:xfrm>
            <a:off x="561960" y="5057640"/>
            <a:ext cx="337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ll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662200"/>
            <a:ext cx="380988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TLS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#15 Crypto information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81360" y="2619360"/>
            <a:ext cx="4191120" cy="34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795320"/>
            <a:ext cx="3933720" cy="62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1800360"/>
            <a:ext cx="4257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000"/>
                </a:solidFill>
                <a:latin typeface="Arial"/>
              </a:rPr>
              <a:t>Business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reek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960" y="338040"/>
            <a:ext cx="84978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Wireless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280" y="2538360"/>
            <a:ext cx="7567560" cy="37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ireless protocol software and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SSL-C 1.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WT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Security teams wit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Sign on wireless tools and manag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ica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sson to secure wireless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endslid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14480" y="228600"/>
              <a:ext cx="891540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end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1600" y="2776680"/>
            <a:ext cx="7381800" cy="33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the roadblocks to deploymen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world use, an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ing PKI with strong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ing interoperability between Keon, applications, and other infrastructur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the tools to build the nex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e-busines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640" y="1708200"/>
            <a:ext cx="7739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ng PKI deployment for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day’s 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eekb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120" y="2595240"/>
            <a:ext cx="7029720" cy="33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Certificate Server 5.5 – secure, automated certificate registration with One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Standalone Desktop turns PCs into secure “Digital Va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BSAFE Cert-C allows developers to build secure PKI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and ValiCert team on OCSP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PKI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23:06:48Z</dcterms:created>
  <dc:creator>Rick Mack</dc:creator>
  <dc:description/>
  <dc:language>en-US</dc:language>
  <cp:lastModifiedBy>User</cp:lastModifiedBy>
  <cp:lastPrinted>2000-01-06T14:01:10Z</cp:lastPrinted>
  <dcterms:modified xsi:type="dcterms:W3CDTF">2000-01-17T20:12:49Z</dcterms:modified>
  <cp:revision>472</cp:revision>
  <dc:subject/>
  <dc:title>RSA Security</dc:title>
</cp:coreProperties>
</file>