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19C-91C3-4075-BD37-23257830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315-B783-4A7F-B6F5-DB22E1DB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2781-3E15-4AC4-8B07-AAC3A9F21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F0A-57A8-4EDD-9002-7036BD30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E5D-9C0B-4C4E-9D41-65C97770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F51-3321-40B3-8CF5-6FFA6CE6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A891-B3D0-4E7A-8C88-39D0857F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27FF-6AE8-4642-9FAF-5498BDA3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740-D6CF-47C0-9617-BB2409B0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7B6-9B4D-4927-B6AD-8EF39FD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870-A6C0-49F1-971E-AC7C86F5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2D5-4F6A-415B-97E8-3A8279C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F50D-1F09-4477-82BD-82CEBB1F0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 : RSA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ica Stad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En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E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blic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p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SADP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ivate k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EME-OAEP-Decode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unded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bitrary length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ME-OAEP-Encode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ection 9.1.1.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output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G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mask genera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length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encod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length of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ded message, EM (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, “message too long”, or “parameter string too lo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AES-OAEP-Encrypt calls this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mL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752480" y="838080"/>
          <a:ext cx="632484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838080"/>
                    <a:ext cx="63248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E-OAEP-En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uxiliary Functions (Section 10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h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, variable length input, fixed length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resistance important to deter forgery of v1.5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recommended for EME-OA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D2, MD5 and SHA-1 are recommended for all other encod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-6120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9840" y="10666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k genera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variable length input and output string of any predetermined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2.0 defines an MGF based on a hash function,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-1 is the recommended hash function for MGF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GF1(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7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0020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ed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length of the mask (the 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 be the empty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om 0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L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, do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n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length 4 with the primitive I2OS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2OSP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0" algn="just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Concatenate the hash of the se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= 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s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the lead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te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the octet 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 for RSA-OAEP (Section 11.2.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yntax allows for increased functionality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hash functions, other types of MGF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D for the RSAES-OAEP encryption sche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RSAES-OAEP OBJECT IDENTIFIER ::= {pkcs-1 7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ield associated with this OI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P-OAEP-params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9840" y="-36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47920" y="1066680"/>
            <a:ext cx="769608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SAES-OAEP-params ::=  SEQUENC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Func [0] AlgorithmIdentifier{{oaepDigest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skGenFunc [1] AlgorithmIdentifier{{pkcs1MGF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mgf1SHA1Identifi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ourceFunc [2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gorithmIdentifier {{pkcs1pSourceAlgorithms}}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DEFAULT pSpecifiedEmptyIdentifier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99840" y="-23760"/>
            <a:ext cx="7086600" cy="65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-36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v2.0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octet string tha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explicitly, although the syntax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flexi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kcs1pSourceAlgorithms ALGORITHM-IDENTIFIER ::= {{OCTET STRING IDENTIFIED BY id-pSpecified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ncoding parameters are specified explicitly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 OBJECT IDENTIFIER ::= {pkcs-1 9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eld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d-pSpecif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ll have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CT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taining the encoding parame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SpecifiedEmptyIdentifier ::=AlgorithmIdentifier {id-pSpecified, OCTET STRING SIZE (0)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defaults for all the fields in RSAES-OAEP-params are used then the AlgID has the val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SAES-OAEP-Default-Identifier ::= AlgorithmIdentifier {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id-RSAES-OAEP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{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mgf1SHA1Identifier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pSpecifiedEmptyIdentifier }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 on status of v2.0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 of v2.0 cont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ical highlights of v2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sibilities for 2.x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ilities for v2.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086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able security (P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ssage recovery (PSS-R, ISO/IEC 97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options (X9.31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 validation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O/IEC 9796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national standard for signatures with message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nvolves padding, extending and adding redundancy to me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X9.31 rDS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ash based encoding meth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header || padding ||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|| tra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th1"/>
                <a:ea typeface="Math1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otes the signature ope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generation metho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e generation methods from ANSI draft X9.79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ime Number Generation and Validation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eving proced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lity tests (probabilistic/deterministic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validation methods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an area of researc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ossibiliti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s for show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t of two pr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of Liskov and Silverman for showing that the two factor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nearly equ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us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posted for 30-day review on 7/14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2.0 was submitted as an Internet-Draft to the IETF on 8/6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ew comments were received…and the final document was posted on 9/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verview of v2.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sche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AEP-based encryption (Bellare-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1.5 encryption, for backward 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1.5 signature scheme with a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 synt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OIDs for the OAEP-based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echnical Highligh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y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SAES-OA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yle and terminology of v2.0 is similar to IEEE P1363: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and decry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ture and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ion and signature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ncryption and signatures w/ append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xiliar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imitiv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2189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mathematical oper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itives are used i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 RSAEP(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not between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, output “message representative out of range” and st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L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Outpu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primitives and other techniques (e.g. encoding methods) to achieve a particular security go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RSAES-OAEP (Section 7.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random oracle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y se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ie security to the RS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text-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” generate valid ciphertext w/o the plai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osen-ciphertext attacks are in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Jessica Staddon</cp:lastModifiedBy>
  <dcterms:modified xsi:type="dcterms:W3CDTF">1998-10-07T03:17:20Z</dcterms:modified>
  <cp:revision>93</cp:revision>
  <dc:subject/>
  <dc:title>Emerging Standards for Public-Key Cryptography</dc:title>
</cp:coreProperties>
</file>