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BD3-4B42-4043-A0A4-F62DEC238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02DC-D62F-4701-B9AA-08E54182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68A0-8860-487A-B442-E60F5664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0B95-4438-46BB-82BB-3D333A2A7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578-533B-43E1-9ABF-C3A35AFE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0993-74AA-4FCA-915F-1D4CC069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BB4C-C7B4-4D33-BD6C-A82D47BF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365B-7B27-4D86-A9DF-DA15F4AB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8990-A424-4EAF-B130-36E26181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386-2A82-4F8B-827D-D159852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8BC-4A4A-4BA6-B057-AAE558BF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8A3-B1B3-46F1-AC3F-B1D895F4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9C908-D9F7-4661-9BEA-428269892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Workshop ‘9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KCS #12 / PFX Comment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ake Ramsd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ef (Applied) Cryptogra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ldtalk Corpo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/7/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42900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m I yapping ab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ing PKCS #12 compla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y br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patible implementations (mostly resolv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ways to do the same 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word-derived symmetric keys lumped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single source for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I doing this right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 the 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private keys sec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existing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prec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ify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compatible implemen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he spec said, what Vendor M did and what Vendor N d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o I put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PrivateKey vs. Encrypted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ck, do bo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mmetric key der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ongs in PKCS #5, not lumped in with PKCS #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within ASN.1 limi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sure there are no shortcuts for dictionary or other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ish th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a completed PKCS #12, not PKCS #12 plus email threa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h, we nee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3840" y="213372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ake C. Ramsdel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blaker@deming.co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ttp://www.worldtalk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6T02:00:29Z</dcterms:created>
  <dc:creator>Blake C. Ramsdell</dc:creator>
  <dc:description/>
  <dc:language>en-US</dc:language>
  <cp:lastModifiedBy>Shari Oto</cp:lastModifiedBy>
  <cp:lastPrinted>1998-10-07T16:02:56Z</cp:lastPrinted>
  <dcterms:modified xsi:type="dcterms:W3CDTF">1998-10-07T17:19:46Z</dcterms:modified>
  <cp:revision>7</cp:revision>
  <dc:subject/>
  <dc:title>PKCS #12 / PFX Commentary</dc:title>
</cp:coreProperties>
</file>