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875-4C3D-4123-9E15-8540AB50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777-B1EF-4A1A-A522-BCA638D0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5CB-8568-4ED0-9DC3-37A18558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F4E-0462-4970-830A-E3B980B9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4EF-69DA-49D0-80AB-0EB0DD6B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18E-635C-41E6-B23E-12A0584D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5E5-FD5C-4A94-89D6-86806110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92E-452B-4DDE-B3AA-1C8EDFC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672-DAD9-4366-AAF0-DAEC6A0C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3AB-8141-434D-BD17-5D05B55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6C9-E098-4BB2-A67C-845336B0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6CE-2C3A-4FFB-BA25-851285F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355-3AC7-49E0-B051-21DBA967B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3: Elliptic Curve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P Consider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n general is not patented, but specific choices may b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V 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compress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profile is intended to be unencumbered, though some implementation techniques may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oices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file too gener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ould fewer choice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EE P1363 Profile for PKC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be a better ti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 cryptography is emerging as a new public-ke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ization under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X9.62,.63, IEEE P1363, IS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3: a profile of exis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: in preparation, this is a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CC: Primary Choi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finit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nite Fiel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characteristic: 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GF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.g.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haracteristic: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field represen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generally faster (esp. in hardware), odd leverages existing modular arithmetic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Agreement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” 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Q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 basic, “unified” more flexible, MQV more efficient for joint static/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, X9.63 draft have all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berg-Rue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 “standard,” NR allows message recovery, Schnorr more “prov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has first two, X9.62 has 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(= DH + multipl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MI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-Seberry, Bellare-Rogaway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basic, S/MIME enhanced, ZS and BR “provable”,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, BR submitted to P136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 in X9.63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ressed: only one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acted: one less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(with algorithm cha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processing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supports uncompress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Pro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H, ECDSA, P1363a 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, with P1363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parameter and key generation, valid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8-10-05T17:10:35Z</dcterms:modified>
  <cp:revision>178</cp:revision>
  <dc:subject/>
  <dc:title>PKCS #13: Elliptic Curve Cryptography Standard</dc:title>
</cp:coreProperties>
</file>