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CA80-2987-44D1-B35C-5C62D9BFC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6A04-CBFF-48C8-8290-6CAFF56B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6994-9A94-4D25-89CC-DD5364EE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AD28-4367-49BC-ACD0-724782746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E3BD-24EE-4509-A6CD-5503D0B1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DE61-E4E8-4AC1-A0AE-F5CF7D1A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C050-BD80-4372-8189-57A859BF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E68B-F11B-412C-89F5-7D60D881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A1B7-7ABC-490B-87A9-9C691438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A961-4EF4-464F-99F0-6F2AE3ED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4001-6140-48B9-8B79-227B0816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106F-928F-4D50-A7EE-692BA5C3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RSA Data Security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fld id="{6A49719D-E278-4EB1-8E63-C183BD7FB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D611-9056-4ABD-8A18-61A9351D6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96160" y="6111720"/>
            <a:ext cx="1284480" cy="682920"/>
          </a:xfrm>
          <a:prstGeom prst="rect">
            <a:avLst/>
          </a:prstGeom>
          <a:ln w="0">
            <a:noFill/>
          </a:ln>
        </p:spPr>
      </p:pic>
      <p:pic>
        <p:nvPicPr>
          <p:cNvPr id="6" name="keys" descr=""/>
          <p:cNvPicPr/>
          <p:nvPr/>
        </p:nvPicPr>
        <p:blipFill>
          <a:blip r:embed="rId3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4400" y="1828800"/>
            <a:ext cx="8229600" cy="304920"/>
          </a:xfrm>
          <a:prstGeom prst="rect">
            <a:avLst/>
          </a:prstGeom>
          <a:solidFill>
            <a:srgbClr val="e48800"/>
          </a:solidFill>
          <a:ln w="0">
            <a:noFill/>
          </a:ln>
          <a:effectLst>
            <a:outerShdw dist="17819" dir="2700000" blurRad="0" rotWithShape="0">
              <a:srgbClr val="885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14475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A Data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keys" descr=""/>
          <p:cNvPicPr/>
          <p:nvPr/>
        </p:nvPicPr>
        <p:blipFill>
          <a:blip r:embed="rId2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14: Pseudo-Random Number Genera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. Baldwin - RSA Engine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dwin@rsa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mes W. Gray, III - RSA Labor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gray@rsa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KCS Workshop ’98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ctober 7-9,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, Purpose and 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Dingbats BT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 BT"/>
                <a:ea typeface="ZapfDingbats BT"/>
              </a:rPr>
              <a:t>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an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est, Block-Cipher,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-Cipher, Modular-Expone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 of Criteria &amp;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Meta-Criteri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New Algorithm Must Be Bett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n Existing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Measure Bet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haps Multiple Sets of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riteria - Conflicting Set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pher-Based PR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ort Reg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est-Based PR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able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nentiation-Based PR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 Primi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Full Digest, Not Hash-Com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riteria - Security Checklis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Passes Randomness T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Minimum Cycle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oid Brute Force State Gu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Output R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3DES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256-Bit AES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Use of Seed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riteria - Security Checklis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oid Known Cryptanalytic Atta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ial Against Cipher or Digest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ing At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 Forward and Backward Atta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acker Control of Some Seed Does Not Help Mu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riteria - Conservative Securit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en Security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-Studied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-Known Primi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pted Properties of Primi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riteria - Intellectual Propert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Well-Defined Own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ge Of Ownershi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Patents On Any 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ents On Primitives Not Constr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ents On Constr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ents On Whole PR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-Understood Licensing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Discriminatory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riteria - API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Full Set of Operations for a PR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Initial S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“Random”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New S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ve and Restore Stat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 Tes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for Needs-More-Seed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Bytes Output Since Last S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, Purpose and 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an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Dingbats BT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 BT"/>
                <a:ea typeface="ZapfDingbats BT"/>
              </a:rPr>
              <a:t>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est, Block-Cipher,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-Cipher, Modular-Expone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 of Criteria &amp;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tructure of PRNG Algorithm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Seed Material to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One Block of Output From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 State Without New S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State With New Seed (Mayb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 &amp; Restore State (Mayb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, Purpose and 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an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est, Block-Cipher,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-Cipher, Modular-Expone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 of Criteria &amp;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omparing PRNG &amp; KDF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755720" y="1571760"/>
          <a:ext cx="6519960" cy="385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5720" y="1571760"/>
                    <a:ext cx="6519960" cy="38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| = Concate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x | = Bit Size of “x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= Unsigned Integer Ad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= Unsigned Integer Multi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^ = Expon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or = Exclusive-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=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= X1 .. Xn = Seed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= Y1 .. Ym = Output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(z) = Digest of value 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(k, m) = Encrypt block m with 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bcRes(k, M) = CBC Residue of message M with key 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Algorithm Famili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Dingbats BT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 BT"/>
                <a:ea typeface="ZapfDingbats BT"/>
              </a:rPr>
              <a:t>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-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 and Block-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am-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ar Expon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igest (PRF) Family of PRN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SAFE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a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tma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SL KD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igest Family PRN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d Reduction via MD5, SHA1, RIPEMD-1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8 or 160 Bit Bottlen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DES needs 168-Bit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 Output by Digest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igest Family PRN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 State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Constant (BSAF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FSR or L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ive Digest (Gutmann, Yarr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State with New S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er Addition of Digested Seed (BSAFE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est (State || Seed) (BSAFE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Digest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d Redu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Initial S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= S1 || S2 = Internal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S | = 256 Bits,  | S1 | = | S2 | = 128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 = D(Pad1 || X) truncated to 128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2 = D(Pad2 || X) truncated to 128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Pad1 | = | Pad2 | = 512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ct Up To 256 Bits of Entro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Digest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j = HMAC (S, S || 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: Yj = HMAC (S, 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j = D (S xor Pad1 || D (S xor Pad2 || S|| j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j = D (S xor Pad1 || D (S xor Pad2 || j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Pad1 | = | Pad2 | = 512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j | = 192 Bits (Room for End Pad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 State is just:  j = j +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utput Diagram for Digest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07320" y="1515960"/>
            <a:ext cx="50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hows Alternative: Yj = HMAC (S, 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3649680"/>
            <a:ext cx="816120" cy="407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4880" y="3100320"/>
            <a:ext cx="504720" cy="297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4880" y="31226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76680" y="2282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41560" y="2739960"/>
            <a:ext cx="0" cy="2246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54160" y="327024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78160" y="3402000"/>
            <a:ext cx="0" cy="247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95640" y="36655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85880" y="3859200"/>
            <a:ext cx="309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95480" y="5369040"/>
            <a:ext cx="816120" cy="407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4880" y="4819680"/>
            <a:ext cx="504720" cy="297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4880" y="48420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4160" y="49896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78160" y="5121360"/>
            <a:ext cx="0" cy="247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97080" y="5373720"/>
            <a:ext cx="4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85880" y="5578560"/>
            <a:ext cx="309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38400" y="4176720"/>
            <a:ext cx="72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90760" y="4503600"/>
            <a:ext cx="0" cy="309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25800" y="2455920"/>
            <a:ext cx="72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78160" y="2782800"/>
            <a:ext cx="0" cy="309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87720" y="370512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51000" y="542592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24200" y="3835440"/>
            <a:ext cx="544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24200" y="5567400"/>
            <a:ext cx="1967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55920" y="3649680"/>
            <a:ext cx="816120" cy="407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48160" y="370512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91240" y="5381640"/>
            <a:ext cx="815760" cy="407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883120" y="543708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12880" y="2306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14760" y="2819520"/>
            <a:ext cx="0" cy="82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25720" y="297648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6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98920" y="278748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6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00480" y="272736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12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1640" y="446076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12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25720" y="468324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6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94120" y="306216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Pad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11840" y="3378240"/>
            <a:ext cx="0" cy="258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06800" y="3344760"/>
            <a:ext cx="82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6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84640" y="3848040"/>
            <a:ext cx="816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00760" y="3859200"/>
            <a:ext cx="0" cy="1522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54760" y="384012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0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83280" y="443232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Pad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37360" y="4775040"/>
            <a:ext cx="0" cy="581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32680" y="474336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52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31120" y="5603760"/>
            <a:ext cx="977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159680" y="502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05560" y="561024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0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18080" y="557208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0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1560" y="2147760"/>
            <a:ext cx="26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S | = | j | = 256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7320" y="263196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F = SHA1-H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334656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12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89320" y="505476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12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62000" y="565956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0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gh Consensus on Criteria an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Discussion of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up Interested Participants For Further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Digest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State With New Seed, X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 = D(S xor Pad1 || Xk) truncated to 1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2 = D(S xor Pad2 || Xk) truncated to 1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Pad1 | = | Pad2 | = 512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Initial Seeding With S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Benefits of Digest-PRNG 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State Avoids 3DES Key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Cycle Length of 2^192 Block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Output Cycle Length May Be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fits From Literature on H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Literature (Krawczyk, Bellare, Roga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rawbacks of Digest-PRNG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Algorithm, No Lit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Not Avoid Back-Tracking Attack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Proofs of Security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d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wer Than BSAFE’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X for Output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New Digest-PRNG Algorithm #2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ing developed by Jim G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able” Security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Hash Compression Function Rather than Full Digest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ll Under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Algorithm Famili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Dingbats BT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 BT"/>
                <a:ea typeface="ZapfDingbats BT"/>
              </a:rPr>
              <a:t>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-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 and Block-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am-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ar Expon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Block-Cipher Family PRN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9.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are, Rogaway, and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ed to MAC Lit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rawczyk, Davis, Meyer, and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Block-Cipher Family PRN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d Reduction Often Unspeci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pher-Based Digest (MDC2, Davies-Meyer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= Key and Message-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by Encrypting Part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 Single Block Cou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BC-Residue of Large Counter (Micro-BSAF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Block-Cipher Family PRN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 Message-Block and/or Key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Constant (Rogaw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FSR or L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ive Encryption (X9.17, Rogaw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end Counter (Rogaw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Block-Cipher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Rogaway and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64-bit block 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Keys Of At Least 128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, RC5, 3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Generalize to AES Cip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Block-Cipher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d Redu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() = Davies-Meyer One-Way H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= H(Prefix1 || X)  -- 128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= S = S1 || S2  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(Prefix2 || X)  -- 128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Prefix1 | = | Prefix2 | = 64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Motivation for PKCS #14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nda-san:  Ask why 3 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 Increase System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: Users and Developers Feel Sa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: Lawyers Are Happier  :-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 Accepted Good Business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r Intellectual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Block-Cipher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99840" y="1523520"/>
            <a:ext cx="7110360" cy="44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j = CbcRes (GK, 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K = H(K || j &gt;&gt; d) = Generation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” sets key change rate. 0 &lt; d &lt;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bcRes = 64-bit CBC Resid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bcRes (K, S1 || S2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Enc (K, S2 xor Enc (K, S1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S1 | = | S2 | = 64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j &gt;&gt; d | = 64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Block-Cipher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 S State (LC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= S + C modulo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is 128-Bit Pr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Care to Avoid Timing Att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d CbcRes Key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2^d Outpu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K = H(K || j &gt;&gt; 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j &gt;&gt; d | = 64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Block-Cipher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State With New Seed, X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() = Davies-Meyer H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= H(Prefix1 || K || X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= H(Prefix2 || M || X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Benefits of Block-Cipher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State Avoids 3DES Key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Cycle Length of P (~2^128)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Cycle May Be S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it Faster Than Digest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Literature (Rogaway, Bellare, Dav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rawbacks of Block-Cipher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Protection Against Back Tra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Algorithm, No Direct Lit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Algorithm Famili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-Cip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Dingbats BT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 BT"/>
                <a:ea typeface="ZapfDingbats BT"/>
              </a:rPr>
              <a:t>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 and Block-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view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am-Cip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ar Expon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igest and Block-Cipher PRNG Famil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d Reduction Using Dig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by Encrypting Part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 Single Block Cou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BC-Residue of Large Counter (Micro-BSAF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igest and Block Cipher PRNG Famil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 State and/or Key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Constant (Rogaw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FSR or L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ive Encryption (X9.1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ive Has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Algorithm Famili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 Cip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 and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Dingbats BT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 BT"/>
                <a:ea typeface="ZapfDingbats BT"/>
              </a:rPr>
              <a:t>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am Cip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view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ar Expon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tream Cipher PRNG Famil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d Reduction Using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Key Stream 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C4, PIKE, SEAL, VESTA, A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Stream Cip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Non-Purposes for 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14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t: “Entropy” Gathering 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t: Ensure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be: state save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Algorithm Famili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 Cip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 and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am Cip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Dingbats BT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 BT"/>
                <a:ea typeface="ZapfDingbats BT"/>
              </a:rPr>
              <a:t>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ar Expon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view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Modular Exponentiation PRNG Famil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d Reduction Using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Function of Valu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arity, LSB, O(log log n) Bit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e Expone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ature for BBS, ACGS, and B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, Purpose and 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an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est, Block Cipher,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 Cipher, Modular-Expone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Dingbats BT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 BT"/>
                <a:ea typeface="ZapfDingbats BT"/>
              </a:rPr>
              <a:t>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 of Criteria &amp;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iscussion of Criteri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Documenting BSAFE Enoug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Cipher-Based PRNGs Need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Patent-Free Requ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NG Construct and/or Primiti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Re-Seeding Need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Digest Function Internals Be Us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Purposes For PKCS #14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: Establish Accepted 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: Ensure Correc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V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: Ensure Str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te Literature (Provable Propert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Focus for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Purposes For PKCS #14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be: Document Evaluation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be: Evaluate Different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t: Repeat RIP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: Input to Other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Scope For PKCS #14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Document the BSAFE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alog All Known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broke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One Ideal PRNG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a Few Good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for Each Major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Criteria for Good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urrent Scope For PKCS #14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 a Few Good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ing BSAFE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May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Existing Lit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Construct OK With Proo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te Preliminary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ure &amp; RSA Bullet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ob Baldwin</cp:lastModifiedBy>
  <cp:lastPrinted>1998-10-01T16:58:14Z</cp:lastPrinted>
  <dcterms:modified xsi:type="dcterms:W3CDTF">1998-10-09T21:22:50Z</dcterms:modified>
  <cp:revision>274</cp:revision>
  <dc:subject/>
  <dc:title>Emerging Standards for Public-Key Cryptography</dc:title>
</cp:coreProperties>
</file>