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A5A-671F-43AF-8D17-D51AAF4B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C9D-769D-4EB7-BAC3-E5ACFEC2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727-ED44-49C1-BFE9-6F4D2B7C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C8A-8C20-401A-9006-1DC6F331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5CE-6A5E-4293-8D27-DFB38B01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9B7-84B9-4D32-BD04-B4885479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5BF-26A2-44F1-B18B-16B5D9B4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FF3-A2AE-4208-833D-F2EA28C6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C40-E2B8-4214-A1BD-257B1E7F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3FD-787B-4C5B-A4D5-EE650CE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680-0016-4554-800C-CE2BC557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7F4-FEAC-41E8-A6C7-CFA12715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30A9-5C95-4DD4-9862-9D38AFC1F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: Password-Based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9, 1998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minor ed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Cryptography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published 10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modular encryp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odular message authentica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Key Derivation Fun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KDF2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mpute block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H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Output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MAC widely implemented, “provably secure” under reasonabl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viewed as a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increases cost, preserves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length through vary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encryp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 such as IV selected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ssage Authentica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S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message authentica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ddressing the Limit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model /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still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support wider hash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practical problem for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pporting Techniqu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, DES-EDE3, RC2, RC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 CBC mode with PKCS #5 v1.5 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-EDE2, DESX, RC4 to be ad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MAC-SHA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deriv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BKDF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kdf2 ::= pkcs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KDF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 (1..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eyLength [0] INTEGER DEFAULT 16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ashFunc [1] AlgID {{pbkdf2Hashs}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EFAULT sha1Identifier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OIDs as in v1.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2AndDES-CBC ::= pkcs-5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5AndDES-CBC ::= pkcs-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SHA1AndRC2-CBC ::= pkcs-5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Parameter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 SIZE (8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es2 ::= pkcs-5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S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es2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nc AlgID {{pbes2En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MAC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mac1 ::= pkcs-5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MAC1-params ::= 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mac1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c AlgID {{pbmac1Ma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pper” and usag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ssword-bas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with a passwor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, key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some peculiar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s are not conventional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 are they very “rando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eneral Mod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word-based key deriv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BKD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vents dictionary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licates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conventional crypto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Encryption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ed 11/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5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enerate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ash with password to derive key, I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Has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Pad message and encry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ES-CBC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nt to recip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imitations of v1.5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wo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padding, assumes CBC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ormal model or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hanc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Data Security exten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2-CBC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2 password-based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Workshop ’97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PKCS #5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New key derivation function to b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Modular encryption, message authentic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for underlying scheme (e.g., IV) manag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urt Kaliski</cp:lastModifiedBy>
  <cp:lastPrinted>1998-08-07T15:04:05Z</cp:lastPrinted>
  <dcterms:modified xsi:type="dcterms:W3CDTF">1998-10-13T15:25:00Z</dcterms:modified>
  <cp:revision>185</cp:revision>
  <dc:subject/>
  <dc:title>Emerging Standards for Public-Key Cryptography</dc:title>
</cp:coreProperties>
</file>