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61C-E552-421B-B308-E0AACE06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867-9968-446A-8379-3D713A3D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456-79C2-420C-8318-91AE55FB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FA3-C64C-4BDD-8E8A-13393581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511-DE16-4646-BE1B-77694065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09F-BD66-4991-9348-D9717B99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560-F365-40FC-B3A4-04CE129F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0DD-A6D8-424F-8A04-B3390CAA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C62-DC2F-4942-9201-F2105595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6B9-A854-48DF-B049-DF70B69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69B-2E15-40B2-A7E7-AF0FA69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384-96D3-4BDD-80F9-C3A761F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60CC-82EB-4E83-B76D-E3116976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4320" y="90360"/>
            <a:ext cx="14554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EID card, many app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signatures, e.g. for non-repud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through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53000" y="3981600"/>
            <a:ext cx="1563480" cy="103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086600" y="4079880"/>
          <a:ext cx="622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0798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10280" y="4249800"/>
          <a:ext cx="62244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424980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0" y="4402080"/>
          <a:ext cx="62244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44020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62560" y="4002120"/>
            <a:ext cx="443160" cy="722520"/>
            <a:chOff x="6262560" y="4002120"/>
            <a:chExt cx="443160" cy="722520"/>
          </a:xfrm>
        </p:grpSpPr>
        <p:graphicFrame>
          <p:nvGraphicFramePr>
            <p:cNvPr id="52" name=""/>
            <p:cNvGraphicFramePr/>
            <p:nvPr/>
          </p:nvGraphicFramePr>
          <p:xfrm>
            <a:off x="6292800" y="4002120"/>
            <a:ext cx="366840" cy="693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292800" y="400212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6262560" y="4084560"/>
              <a:ext cx="443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038480" y="2286000"/>
            <a:ext cx="61452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2438280" y="244620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62120" y="2405160"/>
            <a:ext cx="92700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648400" y="2286000"/>
            <a:ext cx="668160" cy="7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7238880" y="2362320"/>
            <a:ext cx="567000" cy="698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791320" y="4383000"/>
            <a:ext cx="442800" cy="722880"/>
            <a:chOff x="5791320" y="4383000"/>
            <a:chExt cx="442800" cy="722880"/>
          </a:xfrm>
        </p:grpSpPr>
        <p:graphicFrame>
          <p:nvGraphicFramePr>
            <p:cNvPr id="61" name=""/>
            <p:cNvGraphicFramePr/>
            <p:nvPr/>
          </p:nvGraphicFramePr>
          <p:xfrm>
            <a:off x="5821200" y="4383000"/>
            <a:ext cx="366840" cy="693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21200" y="438300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5791320" y="44658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05520" y="4154400"/>
            <a:ext cx="442800" cy="722880"/>
            <a:chOff x="6005520" y="4154400"/>
            <a:chExt cx="442800" cy="722880"/>
          </a:xfrm>
        </p:grpSpPr>
        <p:graphicFrame>
          <p:nvGraphicFramePr>
            <p:cNvPr id="65" name=""/>
            <p:cNvGraphicFramePr/>
            <p:nvPr/>
          </p:nvGraphicFramePr>
          <p:xfrm>
            <a:off x="6035760" y="4154400"/>
            <a:ext cx="366480" cy="693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35760" y="4154400"/>
                      <a:ext cx="36648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05520" y="42372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3480" y="1793880"/>
            <a:ext cx="739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anking   e-commerce   at work       health care     b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7080" y="3125880"/>
            <a:ext cx="2055600" cy="76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3240" y="3125880"/>
            <a:ext cx="98928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2781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30280" y="3125880"/>
            <a:ext cx="76068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4160" y="3278160"/>
            <a:ext cx="175104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smart card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storage for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ion of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”know” and ”possess”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arry complex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able for the u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8840" y="2673360"/>
            <a:ext cx="2121120" cy="2044800"/>
          </a:xfrm>
          <a:prstGeom prst="rect">
            <a:avLst/>
          </a:prstGeom>
          <a:solidFill>
            <a:srgbClr val="beff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92640" y="4952880"/>
          <a:ext cx="10731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4952880"/>
                    <a:ext cx="107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673360" y="5645160"/>
            <a:ext cx="2120760" cy="825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431120" y="5114880"/>
          <a:ext cx="125568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1120" y="5114880"/>
                    <a:ext cx="12556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568840" y="5645160"/>
            <a:ext cx="2121120" cy="825480"/>
          </a:xfrm>
          <a:prstGeom prst="rect">
            <a:avLst/>
          </a:prstGeom>
          <a:solidFill>
            <a:srgbClr val="8efb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2719440"/>
            <a:ext cx="27590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ng th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proper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entica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4000" y="2117880"/>
            <a:ext cx="110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4480" y="2193840"/>
            <a:ext cx="147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3360" y="2673360"/>
            <a:ext cx="2120760" cy="2044800"/>
          </a:xfrm>
          <a:prstGeom prst="rect">
            <a:avLst/>
          </a:prstGeom>
          <a:solidFill>
            <a:srgbClr val="c9e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104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pr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 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or nat.stand.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to,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e + ability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 correct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4688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ct private key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480" y="5005440"/>
            <a:ext cx="233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320" y="5005440"/>
            <a:ext cx="187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 I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26240" y="1638360"/>
          <a:ext cx="150336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1638360"/>
                    <a:ext cx="15033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21240" y="1828800"/>
          <a:ext cx="125568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1828800"/>
                    <a:ext cx="1255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48769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320" y="91440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8960" y="914400"/>
            <a:ext cx="22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IS Spec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1: The Electronic ID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file structure and 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3: EID Certificate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PKIX-1 and S/MIME certificate specif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4: EID Implementation pro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number of keys, key length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7:16:21Z</dcterms:created>
  <dc:creator>Hans Nilsson</dc:creator>
  <dc:description/>
  <dc:language>en-US</dc:language>
  <cp:lastModifiedBy>Hans Nilsson</cp:lastModifiedBy>
  <dcterms:modified xsi:type="dcterms:W3CDTF">1998-06-23T06:01:23Z</dcterms:modified>
  <cp:revision>10</cp:revision>
  <dc:subject/>
  <dc:title>One EID card, many applications</dc:title>
</cp:coreProperties>
</file>